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804-0086-4346-9A6E-7315D327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B63-7F79-461B-B0A5-61419CC6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483-CEA4-4849-BF2C-7A5994C1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5C0-D340-4FFE-B456-5C9B8125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2B5-2710-49EB-90C6-1CC184D4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026-C36E-484D-AF03-5FC1DC05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96C-DF88-44A9-93F7-3A174D56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753-D689-4D7A-BF46-919BA55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A28-FF85-4B27-9500-297C2EB9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4BF-76F5-4942-9C14-7B462D4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797-6823-4114-822B-9745442B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7B1-C050-467F-A205-C1E7536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D64F-6357-475F-B598-64D5C17B6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sity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104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Sink or Float?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2895480" cy="2066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6200" y="65214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density of the box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057400"/>
            <a:ext cx="1828800" cy="3809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146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39625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6095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6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57800" y="5486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715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6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048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1080"/>
            <a:ext cx="91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143000"/>
            <a:ext cx="62485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= length  x  width  x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12.5 cm  x 5.6 cm  x 5.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39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45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= M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456 g ÷ 39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.16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The box would si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Fishing Sinker"/>
          <p:cNvPicPr/>
          <p:nvPr/>
        </p:nvPicPr>
        <p:blipFill>
          <a:blip r:embed="rId1"/>
          <a:stretch/>
        </p:blipFill>
        <p:spPr>
          <a:xfrm>
            <a:off x="6858000" y="4743360"/>
            <a:ext cx="2114640" cy="211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7924680" y="1294920"/>
            <a:ext cx="22860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8:09:59Z</dcterms:modified>
  <cp:revision>32</cp:revision>
  <dc:subject/>
  <dc:title>Slide 1</dc:title>
</cp:coreProperties>
</file>