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ABDF-0373-4ADB-9372-0F80CBDE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59AB-FE8D-4A43-8EE2-0774A16A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CEE-C987-447D-89A3-BAF44DDC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256-3C5F-4E0E-8414-21E51F45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402-448B-4EEE-84BB-537AF05F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01C-4E57-4629-B1A3-C4797E14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66C-CAB7-4B8F-BCB8-EA826BBB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DAC-6549-4743-ADD3-13181D44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104-A6A3-442E-805E-F87196CC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EA1-833F-4DDE-B1D0-C5268EE3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B89-7223-451A-82FF-CA093242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EB2-D7E2-4E85-A4E3-0FB27EF1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0DA3-36E9-4D31-B963-E9639723E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sity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104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Cooper Black"/>
              </a:rPr>
              <a:t>Sink or Float?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4343400"/>
            <a:ext cx="2895480" cy="2066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cistartlogo2"/>
          <p:cNvPicPr/>
          <p:nvPr/>
        </p:nvPicPr>
        <p:blipFill>
          <a:blip r:embed="rId2"/>
          <a:stretch/>
        </p:blipFill>
        <p:spPr>
          <a:xfrm>
            <a:off x="6095880" y="152280"/>
            <a:ext cx="2686320" cy="505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6200" y="6521400"/>
            <a:ext cx="83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360"/>
            <a:ext cx="91440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d the density of the box be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2057400"/>
            <a:ext cx="1828800" cy="3809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5146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39625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6095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6095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6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257800" y="54864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5715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6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3048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6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1080"/>
            <a:ext cx="91440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oluti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143000"/>
            <a:ext cx="62485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me = length  x  width  x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12.5 cm  x 5.6 cm  x 5.6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392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= 456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ity = Ma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456 g ÷ 392 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 = 1.16 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*The box would sin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Fishing Sinker"/>
          <p:cNvPicPr/>
          <p:nvPr/>
        </p:nvPicPr>
        <p:blipFill>
          <a:blip r:embed="rId1"/>
          <a:stretch/>
        </p:blipFill>
        <p:spPr>
          <a:xfrm>
            <a:off x="6858000" y="4743360"/>
            <a:ext cx="2114640" cy="2114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7924680" y="1294920"/>
            <a:ext cx="22860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1T18:09:59Z</dcterms:modified>
  <cp:revision>32</cp:revision>
  <dc:subject/>
  <dc:title>Slide 1</dc:title>
</cp:coreProperties>
</file>