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53D-9B15-438E-B486-3BCC8C83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0DB-6C71-4C8E-A7B0-A21A9070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132-5847-42A4-99C6-52F9CEEE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E36-47D3-4A1F-9EDB-20EC2312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337-E3D3-4F85-BB38-9226AA70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EF7-F976-47C6-9075-077C9FFC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5D4-B205-452E-818A-3BCBE33D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B8F-C9B4-4825-8F34-49259A4D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30B-D467-42C4-9E68-A9E4D1FF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456-8C03-4014-8C88-46152636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897-1129-4455-82C9-1ED2335F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81E3-A82A-44E1-AF5A-037ADF1A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4B76-5394-4334-BE73-C4686AFDB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3.jpe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33920" y="48006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ving vs. Nonliving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7621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bbe0e3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Dead or Alive?</a:t>
            </a:r>
            <a:endParaRPr b="0" lang="en-US" sz="1800" spc="1" strike="noStrike">
              <a:ln w="38160">
                <a:solidFill>
                  <a:srgbClr val="bbe0e3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4616280"/>
            <a:ext cx="2003400" cy="1859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3920" y="6521400"/>
            <a:ext cx="83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360"/>
            <a:ext cx="91440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termine which objects are considered living or nonliv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126972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62520" y="20574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4495680"/>
            <a:ext cx="1685880" cy="187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162920" y="2133720"/>
            <a:ext cx="1512720" cy="1753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3741600">
            <a:off x="6857640" y="220968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1752480" y="4419720"/>
            <a:ext cx="3048120" cy="2031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5029200"/>
            <a:ext cx="838440" cy="533520"/>
          </a:xfrm>
          <a:prstGeom prst="rightArrow">
            <a:avLst>
              <a:gd name="adj1" fmla="val 50000"/>
              <a:gd name="adj2" fmla="val 3928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8913800">
            <a:off x="4495320" y="4571640"/>
            <a:ext cx="990720" cy="533520"/>
          </a:xfrm>
          <a:prstGeom prst="leftArrow">
            <a:avLst>
              <a:gd name="adj1" fmla="val 50000"/>
              <a:gd name="adj2" fmla="val 46424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1337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3760" y="213372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49960" y="2133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1800" y="487692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920" y="396864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25920" y="427356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1447920" y="2057400"/>
            <a:ext cx="126972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781680" y="4495680"/>
            <a:ext cx="168588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-53640"/>
            <a:ext cx="9144000" cy="143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oluti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1270080" cy="1904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513080" cy="1753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828800" y="2590920"/>
            <a:ext cx="2438280" cy="1625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62520" y="251460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181480" y="4495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7238880" y="4495680"/>
            <a:ext cx="143856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410080" y="2362320"/>
            <a:ext cx="2514600" cy="167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95280" y="1600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8760" y="1600200"/>
            <a:ext cx="24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onLi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89800">
            <a:off x="2819160" y="1828800"/>
            <a:ext cx="609480" cy="990720"/>
          </a:xfrm>
          <a:prstGeom prst="downArrow">
            <a:avLst>
              <a:gd name="adj1" fmla="val 50000"/>
              <a:gd name="adj2" fmla="val 40638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48720" y="3048120"/>
            <a:ext cx="1066680" cy="685800"/>
          </a:xfrm>
          <a:prstGeom prst="leftArrow">
            <a:avLst>
              <a:gd name="adj1" fmla="val 50000"/>
              <a:gd name="adj2" fmla="val 38885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17524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1T17:47:47Z</dcterms:modified>
  <cp:revision>34</cp:revision>
  <dc:subject/>
  <dc:title>Slide 1</dc:title>
</cp:coreProperties>
</file>