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CB6-542A-4B99-906A-A1358009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877-D937-4D4F-9370-CB5839F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86B-F502-47B4-8EFA-5D44A412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D17-194D-4319-8A39-39C67142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2BD-E934-48A0-B91F-221EA56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8E4-D496-47B4-9D1F-C6AC473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010-A8AC-4D4D-97E8-F135278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E08-A281-44B4-B45E-874E054D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8A7-7595-497A-AE98-F9D2301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4A6-191B-406D-ACA3-0AC1823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D32-4CF6-4930-A7C5-35E0F65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15E-84FA-47D9-87BE-4528600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7AE-C0F1-42B6-A55A-2AE53E17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4800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ving vs. Nonliving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7621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bbe0e3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Dead or Alive?</a:t>
            </a:r>
            <a:endParaRPr b="0" lang="en-US" sz="1800" spc="1" strike="noStrike">
              <a:ln w="38160">
                <a:solidFill>
                  <a:srgbClr val="bbe0e3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4616280"/>
            <a:ext cx="2003400" cy="185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92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rmine which objects are considered living or nonl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20574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6858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62920" y="2133720"/>
            <a:ext cx="1512720" cy="175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3741600">
            <a:off x="6857640" y="220968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3048120" cy="203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502920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913800">
            <a:off x="4495320" y="457164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133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3760" y="21337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9960" y="213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1800" y="4876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920" y="396864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5920" y="42735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447920" y="205740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781680" y="4495680"/>
            <a:ext cx="16858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53640"/>
            <a:ext cx="914400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1270080" cy="190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513080" cy="175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2520" y="2514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181480" y="4495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7238880" y="4495680"/>
            <a:ext cx="143856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410080" y="23623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95280" y="1600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8760" y="160020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89800">
            <a:off x="2819160" y="18288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3048120"/>
            <a:ext cx="1066680" cy="685800"/>
          </a:xfrm>
          <a:prstGeom prst="leftArrow">
            <a:avLst>
              <a:gd name="adj1" fmla="val 50000"/>
              <a:gd name="adj2" fmla="val 3888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7:47:47Z</dcterms:modified>
  <cp:revision>34</cp:revision>
  <dc:subject/>
  <dc:title>Slide 1</dc:title>
</cp:coreProperties>
</file>