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0EA9-96EE-4C6E-A1AF-518533FA4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E2BF-B33D-40BC-99DF-2C88EB16A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D349-23D5-4EC9-9932-792F1343A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BB81-2378-4456-93B3-D49B3AB63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1664-6262-4CF4-A21D-BACBD0E4F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9654-8A9F-46E8-B12A-3CAACA102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57A8-957A-4F67-920B-F1787AFBE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7C88-6E94-4657-A858-AD1BF4F92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BAEB-31C9-4BDE-9C77-442F9E178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3BD9-A521-4F05-9AA7-C7B9FBEC2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6E47-014B-4507-9BA7-88948D06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E867-E273-46EF-BAFF-D5C73A5E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6B340-B7A6-407C-989C-006AD59E6E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5.wmf"/><Relationship Id="rId3" Type="http://schemas.openxmlformats.org/officeDocument/2006/relationships/image" Target="../media/image8.wmf"/><Relationship Id="rId4" Type="http://schemas.openxmlformats.org/officeDocument/2006/relationships/image" Target="../media/image7.wmf"/><Relationship Id="rId5" Type="http://schemas.openxmlformats.org/officeDocument/2006/relationships/image" Target="../media/image6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33920" y="480060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iving vs. Nonliving #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2280" y="838080"/>
            <a:ext cx="876312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Dead or Alive?</a:t>
            </a:r>
            <a:endParaRPr b="0" lang="en-US" sz="1800" spc="1" strike="noStrike">
              <a:ln w="3816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371600" y="4495680"/>
            <a:ext cx="2362320" cy="2362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13920" y="6400800"/>
            <a:ext cx="838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. Bryant 2008 WSMS – Based on “Science Starters” by T. Trimpe at http://sciencespot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scistartlogo2"/>
          <p:cNvPicPr/>
          <p:nvPr/>
        </p:nvPicPr>
        <p:blipFill>
          <a:blip r:embed="rId2"/>
          <a:stretch/>
        </p:blipFill>
        <p:spPr>
          <a:xfrm>
            <a:off x="6095880" y="152280"/>
            <a:ext cx="268632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-360"/>
            <a:ext cx="9144000" cy="1557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dentify the six characteris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f a living organis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4724280"/>
            <a:ext cx="83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1752480"/>
            <a:ext cx="853452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de of C _ _ l _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 _ o 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 _ t _ b _ l _ _ 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d _ p _   t o    e _ v _ r _ n m _ _ 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 _ p _ _ d _ _ 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 _ v _ _ e _ 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917640" cy="979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 flipH="1">
            <a:off x="4723920" y="5797440"/>
            <a:ext cx="1219320" cy="1060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2514600" y="2362320"/>
            <a:ext cx="949320" cy="1133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4343400" y="4876920"/>
            <a:ext cx="668160" cy="1317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8131320" y="4038480"/>
            <a:ext cx="1012680" cy="782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 rot="1126200">
            <a:off x="4647960" y="3276360"/>
            <a:ext cx="798480" cy="112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-123480"/>
            <a:ext cx="9144000" cy="16786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characteristics are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62520" y="2514600"/>
            <a:ext cx="838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1447920"/>
            <a:ext cx="6629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de of Ce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tabo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apt to enviro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produ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257800" y="1600200"/>
            <a:ext cx="917640" cy="9795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657600" y="2286000"/>
            <a:ext cx="949320" cy="1133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 rot="1126200">
            <a:off x="4647960" y="3276360"/>
            <a:ext cx="798480" cy="1122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6781680" y="4038480"/>
            <a:ext cx="1013040" cy="782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4773600" y="4724280"/>
            <a:ext cx="619200" cy="1219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 flipH="1">
            <a:off x="4800240" y="5638680"/>
            <a:ext cx="1219320" cy="10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becky</cp:lastModifiedBy>
  <dcterms:modified xsi:type="dcterms:W3CDTF">2009-02-21T18:03:38Z</dcterms:modified>
  <cp:revision>35</cp:revision>
  <dc:subject/>
  <dc:title>Slide 1</dc:title>
</cp:coreProperties>
</file>