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309-50F0-4E66-9D1B-2B20D502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8B2-92EA-4421-9B00-7221BC13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ECA-F680-4690-8EDB-E185EA7C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59E-A67A-40D8-9666-BDEA2DE9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6B8-9B40-4CC0-A179-88931C5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B1B-8121-415A-92F8-8F7AD48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7ED5-A3B3-431F-B6DF-E8AC89ED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F46-E743-481B-9C08-A5F0519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75E-1061-45FB-86A9-03E9B5AE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119-4ECD-4DF4-9302-156EF58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3C8-CB91-43EF-BE1D-52B32B6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B8A-E660-4D3C-BBF6-48E058BF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8D0F-0AFD-45C7-8ADA-AAB95C1E7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ing vs. Nonliving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83808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Dead or Alive?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4008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the six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a living organ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752480"/>
            <a:ext cx="8534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de of C _ _ l 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 _ o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_ t _ b _ l 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d _ p _   t o    e _ v _ r _ n m _ _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 _ p _ _ d _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 _ v _ _ e _ 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917640" cy="979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4723920" y="57974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949320" cy="1133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343400" y="4876920"/>
            <a:ext cx="668160" cy="131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131320" y="4038480"/>
            <a:ext cx="1012680" cy="78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 rot="1126200">
            <a:off x="4647960" y="3276360"/>
            <a:ext cx="79848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23480"/>
            <a:ext cx="9144000" cy="167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aracteristic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514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447920"/>
            <a:ext cx="66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de of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 to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o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917640" cy="979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94932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1126200">
            <a:off x="4647960" y="3276360"/>
            <a:ext cx="798480" cy="1122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781680" y="4038480"/>
            <a:ext cx="1013040" cy="782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73600" y="4724280"/>
            <a:ext cx="61920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 flipH="1">
            <a:off x="4800240" y="5638680"/>
            <a:ext cx="12193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03:38Z</dcterms:modified>
  <cp:revision>35</cp:revision>
  <dc:subject/>
  <dc:title>Slide 1</dc:title>
</cp:coreProperties>
</file>