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27C-6A03-46DE-B7C7-01473519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A7B-475A-4768-8B41-26AF0E83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65C-E260-4926-8973-91B19499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44A-CD8F-4D85-AB2C-4280F827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53B-D0B9-402E-8F9E-E29589EF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885-DCBC-4EC7-8056-DCBD56D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5BF-D623-4B89-9074-6AC1513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409-2E22-4F60-8F13-0591DD2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22E-BAE7-400C-AD5B-0ACE595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D2F-A928-45B6-ADD8-FBC4435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694-1CE3-4583-8C01-B80E1B5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C84-DE29-49A4-94DA-2FA5487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0C0-DBB0-46FB-8F86-79B7E4E3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In And Out 2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cc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10360" y="621648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chambers of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019560" cy="584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3581280"/>
            <a:ext cx="609480" cy="550800"/>
          </a:xfrm>
          <a:prstGeom prst="rect">
            <a:avLst/>
          </a:prstGeom>
          <a:solidFill>
            <a:srgbClr val="b6e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5029200"/>
            <a:ext cx="685800" cy="550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200400"/>
            <a:ext cx="609480" cy="550800"/>
          </a:xfrm>
          <a:prstGeom prst="rect">
            <a:avLst/>
          </a:prstGeom>
          <a:solidFill>
            <a:srgbClr val="b6e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648320"/>
            <a:ext cx="685800" cy="550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" y="6400800"/>
            <a:ext cx="18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br.hpisd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chamb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586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3276720"/>
            <a:ext cx="7621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49568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666880"/>
            <a:ext cx="609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3809880"/>
            <a:ext cx="6094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25200">
            <a:off x="220932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482200">
            <a:off x="5181120" y="2895120"/>
            <a:ext cx="1295640" cy="38124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766400">
            <a:off x="5791320" y="4267080"/>
            <a:ext cx="990360" cy="381240"/>
          </a:xfrm>
          <a:prstGeom prst="leftArrow">
            <a:avLst>
              <a:gd name="adj1" fmla="val 50000"/>
              <a:gd name="adj2" fmla="val 649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769600">
            <a:off x="2361960" y="4876560"/>
            <a:ext cx="1828800" cy="380880"/>
          </a:xfrm>
          <a:prstGeom prst="leftArrow">
            <a:avLst>
              <a:gd name="adj1" fmla="val 50000"/>
              <a:gd name="adj2" fmla="val 1200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36:31Z</dcterms:modified>
  <cp:revision>63</cp:revision>
  <dc:subject/>
  <dc:title>Slide 1</dc:title>
</cp:coreProperties>
</file>