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4CE-4F3D-4EB3-90FD-A503BA97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9CD-6529-45C4-A88F-730E0DDD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00B-2B55-4D9B-9195-BD153AB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233-DBBF-4ECA-A053-FDCA179C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859-BC7F-4F6D-B69D-588380DC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4F8-07D0-43F2-8479-97E395D7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8DA-9C85-4554-888C-F3F7D72E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49F-2111-4E1C-A452-7685CE93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DEE-F2EF-4871-88AD-387DC5B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8DE-10BA-42B3-A497-B0B56E1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090-4BDA-4B13-BA39-931D0686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6BE-271E-42B6-A5A0-EC66BBFC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5395-1A1C-44D9-A352-E8D60C11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 </a:t>
            </a: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In And Out 2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99cc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10360" y="621648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y the chambers of the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019560" cy="584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3581280"/>
            <a:ext cx="609480" cy="550800"/>
          </a:xfrm>
          <a:prstGeom prst="rect">
            <a:avLst/>
          </a:prstGeom>
          <a:solidFill>
            <a:srgbClr val="b6e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5029200"/>
            <a:ext cx="685800" cy="5508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200400"/>
            <a:ext cx="609480" cy="550800"/>
          </a:xfrm>
          <a:prstGeom prst="rect">
            <a:avLst/>
          </a:prstGeom>
          <a:solidFill>
            <a:srgbClr val="b6e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4648320"/>
            <a:ext cx="685800" cy="5508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" y="6400800"/>
            <a:ext cx="18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br.hpisd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he chambers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96240" cy="5867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3276720"/>
            <a:ext cx="7621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49568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2666880"/>
            <a:ext cx="609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3809880"/>
            <a:ext cx="6094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25200">
            <a:off x="2209320" y="358092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482200">
            <a:off x="5181120" y="2895120"/>
            <a:ext cx="1295640" cy="38124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766400">
            <a:off x="5791320" y="4267080"/>
            <a:ext cx="990360" cy="381240"/>
          </a:xfrm>
          <a:prstGeom prst="leftArrow">
            <a:avLst>
              <a:gd name="adj1" fmla="val 50000"/>
              <a:gd name="adj2" fmla="val 649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1769600">
            <a:off x="2361960" y="4876560"/>
            <a:ext cx="1828800" cy="380880"/>
          </a:xfrm>
          <a:prstGeom prst="leftArrow">
            <a:avLst>
              <a:gd name="adj1" fmla="val 50000"/>
              <a:gd name="adj2" fmla="val 1200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7:36:31Z</dcterms:modified>
  <cp:revision>63</cp:revision>
  <dc:subject/>
  <dc:title>Slide 1</dc:title>
</cp:coreProperties>
</file>