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C48-9AC7-40A9-BE91-13918E3F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7EB-CAB8-4518-9C21-35D840DF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E36-E0C7-4C44-84FC-CCD129D4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6AC-93FC-425F-B18B-10FCB725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952-C827-4FA5-9EB4-39154A3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20A-7D31-43FE-825E-3810C026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5F3-003F-42D9-9CFC-501F4EC8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63F-9027-4F5E-B7AD-940A50D6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55D-EB2B-4A22-A9DA-A9F314C2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3C6-F323-470F-9171-8F1B52A7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331-2996-4620-8EBB-7C166C79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781-7069-45FA-9408-B81178DD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819F-0CC9-4B0C-92B8-1F31E8AFD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diovascular System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685800"/>
            <a:ext cx="8763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latin typeface="Cooper Black"/>
              </a:rPr>
              <a:t> </a:t>
            </a: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latin typeface="Cooper Black"/>
              </a:rPr>
              <a:t>In And Out 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99ccff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4419720"/>
            <a:ext cx="2133720" cy="200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1040" y="6553080"/>
            <a:ext cx="74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3244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762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dentify the blood vess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 the he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33412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90920" y="1828800"/>
            <a:ext cx="685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1828800"/>
            <a:ext cx="685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2438280"/>
            <a:ext cx="685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4343400"/>
            <a:ext cx="6098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925200">
            <a:off x="3047760" y="20570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482200">
            <a:off x="4495680" y="2209320"/>
            <a:ext cx="1062000" cy="304920"/>
          </a:xfrm>
          <a:prstGeom prst="leftArrow">
            <a:avLst>
              <a:gd name="adj1" fmla="val 50000"/>
              <a:gd name="adj2" fmla="val 870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666880"/>
            <a:ext cx="609840" cy="30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21400">
            <a:off x="5984640" y="3975120"/>
            <a:ext cx="990360" cy="380880"/>
          </a:xfrm>
          <a:prstGeom prst="leftArrow">
            <a:avLst>
              <a:gd name="adj1" fmla="val 50000"/>
              <a:gd name="adj2" fmla="val 65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9680" y="6477120"/>
            <a:ext cx="18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br.hpisd.or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1762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dentify the blood vess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 the he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334120" cy="518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828800"/>
            <a:ext cx="2971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na C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1828800"/>
            <a:ext cx="2666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743200"/>
            <a:ext cx="2666880" cy="74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ulm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4038480"/>
            <a:ext cx="2514600" cy="86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mo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925200">
            <a:off x="3047760" y="20570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482200">
            <a:off x="4343040" y="2209680"/>
            <a:ext cx="1062000" cy="381240"/>
          </a:xfrm>
          <a:prstGeom prst="leftArrow">
            <a:avLst>
              <a:gd name="adj1" fmla="val 50000"/>
              <a:gd name="adj2" fmla="val 696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2666880"/>
            <a:ext cx="533160" cy="304920"/>
          </a:xfrm>
          <a:prstGeom prst="leftArrow">
            <a:avLst>
              <a:gd name="adj1" fmla="val 50000"/>
              <a:gd name="adj2" fmla="val 43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21400">
            <a:off x="6033960" y="3833280"/>
            <a:ext cx="609840" cy="381240"/>
          </a:xfrm>
          <a:prstGeom prst="leftArrow">
            <a:avLst>
              <a:gd name="adj1" fmla="val 50000"/>
              <a:gd name="adj2" fmla="val 399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7:29:41Z</dcterms:modified>
  <cp:revision>63</cp:revision>
  <dc:subject/>
  <dc:title>Slide 1</dc:title>
</cp:coreProperties>
</file>