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4F43-4CAA-431D-BE85-FE0D20E5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1F9-1756-49DC-AD00-21D463C3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825-AAC9-43CD-84AD-D9CA5385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164-96E1-46E3-9666-CE0A4CF5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966-802A-4BF2-9A83-3A97458C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0C5-4321-46D8-8A86-A61FEA75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907-F2A7-4858-AA87-F95682E1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51B-FC25-4D15-AF19-B2E55829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7B4-0071-4631-B893-144AD6E6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AAF-C621-4C3C-940B-F57A3582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DAB-B825-488E-B655-1742190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14C-CF89-4352-BA60-036ED3F2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039F-C9B6-40F2-99EA-66884F1C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45720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diovascular System 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685800"/>
            <a:ext cx="8763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latin typeface="Cooper Black"/>
              </a:rPr>
              <a:t> </a:t>
            </a:r>
            <a:r>
              <a:rPr b="0" lang="en-US" sz="1800" spc="1" strike="noStrike">
                <a:ln w="38160">
                  <a:solidFill>
                    <a:srgbClr val="333399"/>
                  </a:solidFill>
                  <a:miter/>
                </a:ln>
                <a:solidFill>
                  <a:srgbClr val="99ccff"/>
                </a:solidFill>
                <a:latin typeface="Cooper Black"/>
              </a:rPr>
              <a:t>In And Out </a:t>
            </a:r>
            <a:endParaRPr b="0" lang="en-US" sz="1800" spc="1" strike="noStrike">
              <a:ln w="38160">
                <a:solidFill>
                  <a:srgbClr val="333399"/>
                </a:solidFill>
                <a:miter/>
              </a:ln>
              <a:solidFill>
                <a:srgbClr val="99ccff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4419720"/>
            <a:ext cx="2133720" cy="200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1040" y="6553080"/>
            <a:ext cx="74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324480" y="152280"/>
            <a:ext cx="26863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762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dentify the blood vess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 the he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33412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90920" y="1828800"/>
            <a:ext cx="685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1828800"/>
            <a:ext cx="685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2438280"/>
            <a:ext cx="685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4343400"/>
            <a:ext cx="6098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925200">
            <a:off x="3047760" y="20570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482200">
            <a:off x="4495680" y="2209320"/>
            <a:ext cx="1062000" cy="304920"/>
          </a:xfrm>
          <a:prstGeom prst="leftArrow">
            <a:avLst>
              <a:gd name="adj1" fmla="val 50000"/>
              <a:gd name="adj2" fmla="val 870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2666880"/>
            <a:ext cx="609840" cy="304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21400">
            <a:off x="5984640" y="3975120"/>
            <a:ext cx="990360" cy="380880"/>
          </a:xfrm>
          <a:prstGeom prst="leftArrow">
            <a:avLst>
              <a:gd name="adj1" fmla="val 50000"/>
              <a:gd name="adj2" fmla="val 65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9680" y="6477120"/>
            <a:ext cx="187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br.hpisd.or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38480" y="472428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1762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dentify the blood vess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 the he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334120" cy="518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828800"/>
            <a:ext cx="2971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na C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1828800"/>
            <a:ext cx="2666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743200"/>
            <a:ext cx="2666880" cy="74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ulm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4038480"/>
            <a:ext cx="2514600" cy="86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lmo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925200">
            <a:off x="3047760" y="20570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482200">
            <a:off x="4343040" y="2209680"/>
            <a:ext cx="1062000" cy="381240"/>
          </a:xfrm>
          <a:prstGeom prst="leftArrow">
            <a:avLst>
              <a:gd name="adj1" fmla="val 50000"/>
              <a:gd name="adj2" fmla="val 696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2666880"/>
            <a:ext cx="533160" cy="304920"/>
          </a:xfrm>
          <a:prstGeom prst="leftArrow">
            <a:avLst>
              <a:gd name="adj1" fmla="val 50000"/>
              <a:gd name="adj2" fmla="val 437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021400">
            <a:off x="6033960" y="3833280"/>
            <a:ext cx="609840" cy="381240"/>
          </a:xfrm>
          <a:prstGeom prst="leftArrow">
            <a:avLst>
              <a:gd name="adj1" fmla="val 50000"/>
              <a:gd name="adj2" fmla="val 399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21T17:29:41Z</dcterms:modified>
  <cp:revision>63</cp:revision>
  <dc:subject/>
  <dc:title>Slide 1</dc:title>
</cp:coreProperties>
</file>