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71E-E3D2-4308-AE57-2FECCBCB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6AD-4861-415A-B532-6A84D457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32D-E204-4300-809E-0646BE71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B6A-CE4A-4F78-B9A9-B5EC604B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4FC-D90E-45F5-B035-4E6C1BCC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081-3B23-4831-AB57-3A5C5ED5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E65-C5B6-46D2-AB3C-D31DF614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7FB-B449-43F1-A2BD-28670BD7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C5A-3CAC-45D3-AB93-E295A4A6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59E-0326-4959-B447-D8F85E76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563-3AD0-4E92-B6AB-9D331D53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83B-4CFB-4E81-9015-35F86B31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9B0F-C56F-4CF7-9E20-FD3B57487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diovascular System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685800"/>
            <a:ext cx="8763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System Functions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355840" cy="181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61920" y="6400800"/>
            <a:ext cx="74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dentify the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 the cardiovascular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82880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960"/>
            <a:ext cx="914400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unctions are . .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66294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ries needed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minate wastes (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 carries disease figh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81680" y="2514600"/>
            <a:ext cx="2000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6:45:43Z</dcterms:modified>
  <cp:revision>60</cp:revision>
  <dc:subject/>
  <dc:title>Slide 1</dc:title>
</cp:coreProperties>
</file>