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BB2-24E3-485D-A61E-2B890571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51D-CDAE-4ABE-90EB-72745BEA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236-6901-4262-953B-5D36A994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680-062D-466E-ACAE-6A517166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0B3-5076-463E-A0A9-DB882A71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A68-0AFE-4FF3-BF7F-A46274BB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F4C-5061-40D1-B294-87828CE5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0BC-39F9-4F7D-9AB7-DCB853CA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F8E-59FB-42AB-BECF-3AB96372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1DC-3EA2-4333-8585-CEDF0734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8AB-A93B-4305-A766-2A629121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582-CF0F-4F8D-A759-B214724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540A-DCFE-4D1C-9F6F-6321350B6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ovascular System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System Functions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355840" cy="181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61920" y="6400800"/>
            <a:ext cx="74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entify the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the cardiovascular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82880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960"/>
            <a:ext cx="9144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unctions are . .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66294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ries neede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e wastes (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 carries disease figh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6:45:43Z</dcterms:modified>
  <cp:revision>60</cp:revision>
  <dc:subject/>
  <dc:title>Slide 1</dc:title>
</cp:coreProperties>
</file>