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F791-D7FC-422E-807B-C1313B38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FDF4-6CB7-43C0-9249-AC2763CB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2270-9680-48AA-8646-7512B1E6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6C36-A79A-4A4E-BC03-B2681FE5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D377-6B39-47CB-A8D8-C9713048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DA43-EF1F-4505-98FD-299E4A31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0367-603D-4FFD-8C09-85720032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963A-B012-4CE1-B143-D203B34C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6B92-8712-4B7D-BF18-0E7C221F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B173-E678-4E1D-8643-F1DE5968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0127-EC13-4D93-A9C3-1651C69A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4137-E800-4B47-BE64-FDD58D51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103D-7A8B-49C1-8CB8-49EE3FF10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5720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rdiovascular System 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838080"/>
            <a:ext cx="84582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Let It Flow</a:t>
            </a:r>
            <a:endParaRPr b="0" lang="en-US" sz="1800" spc="1" strike="noStrike">
              <a:ln w="38160">
                <a:solidFill>
                  <a:srgbClr val="333399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4495680"/>
            <a:ext cx="1314360" cy="1752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scistartlogo2"/>
          <p:cNvPicPr/>
          <p:nvPr/>
        </p:nvPicPr>
        <p:blipFill>
          <a:blip r:embed="rId2"/>
          <a:stretch/>
        </p:blipFill>
        <p:spPr>
          <a:xfrm>
            <a:off x="6324480" y="152280"/>
            <a:ext cx="2686320" cy="505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38240" y="6400800"/>
            <a:ext cx="740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. Bryant 2008 WSMS – Based on “Science Starters” by T. Trimpe at http://sciencespot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20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ntify the three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the cardiovascular 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828800"/>
            <a:ext cx="7543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960"/>
            <a:ext cx="9144000" cy="642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mponents are . .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143000"/>
            <a:ext cx="66294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  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05320" y="914400"/>
            <a:ext cx="2666880" cy="1819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505320" y="462924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629400" y="2209680"/>
            <a:ext cx="20271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18T17:58:38Z</dcterms:modified>
  <cp:revision>56</cp:revision>
  <dc:subject/>
  <dc:title>Slide 1</dc:title>
</cp:coreProperties>
</file>