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B898-B1A5-4FC8-B195-28E6B58BA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4736-D368-45F0-A4A9-0A5ABBFB0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4A2E-993E-4DDF-87E2-7E668A262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6ADC-0F36-40EC-8983-E5E250C46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0B49-F002-46A2-BD14-E1D41B2E9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0B91-4655-4E58-BE15-25860FB40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5D4F-132A-4EFE-99B1-DCA21AE44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EEF5-EC12-4868-ABBC-C22BA01CC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5DBB-2C7E-43B5-AFE9-70738A536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D9C5-1D19-4207-B5D2-31B2C160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7B61-DB54-4976-9B3C-24332A94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6D22-6A2C-43CD-9B9A-927CD011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5B42B-E742-4C76-9742-2570A240A4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05320" y="457200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rdiovascular System #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04920" y="838080"/>
            <a:ext cx="84582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333399"/>
                  </a:solidFill>
                  <a:miter/>
                </a:ln>
                <a:solidFill>
                  <a:srgbClr val="ff0000"/>
                </a:solidFill>
                <a:latin typeface="Cooper Black"/>
              </a:rPr>
              <a:t>Let It Flow</a:t>
            </a:r>
            <a:endParaRPr b="0" lang="en-US" sz="1800" spc="1" strike="noStrike">
              <a:ln w="38160">
                <a:solidFill>
                  <a:srgbClr val="333399"/>
                </a:solidFill>
                <a:miter/>
              </a:ln>
              <a:solidFill>
                <a:srgbClr val="ff0000"/>
              </a:solidFill>
              <a:latin typeface="Cooper Black"/>
              <a:ea typeface="Cooper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05120" y="4495680"/>
            <a:ext cx="1314360" cy="1752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scistartlogo2"/>
          <p:cNvPicPr/>
          <p:nvPr/>
        </p:nvPicPr>
        <p:blipFill>
          <a:blip r:embed="rId2"/>
          <a:stretch/>
        </p:blipFill>
        <p:spPr>
          <a:xfrm>
            <a:off x="6324480" y="152280"/>
            <a:ext cx="2686320" cy="505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038240" y="6400800"/>
            <a:ext cx="740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. Bryant 2008 WSMS – Based on “Science Starters” by T. Trimpe at http://sciencespot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038480" y="4724280"/>
            <a:ext cx="83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202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ntify the three compon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f the cardiovascular syste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1828800"/>
            <a:ext cx="75438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________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________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________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3960"/>
            <a:ext cx="9144000" cy="642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mponents are . . 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4724280"/>
            <a:ext cx="83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1143000"/>
            <a:ext cx="662940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lood vess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   Bl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505320" y="914400"/>
            <a:ext cx="2666880" cy="1819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505320" y="462924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629400" y="2209680"/>
            <a:ext cx="202716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becky</cp:lastModifiedBy>
  <dcterms:modified xsi:type="dcterms:W3CDTF">2009-02-18T17:58:38Z</dcterms:modified>
  <cp:revision>56</cp:revision>
  <dc:subject/>
  <dc:title>Slide 1</dc:title>
</cp:coreProperties>
</file>