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10D-A3E6-44AD-8E53-127A26D8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38E-3D7B-473E-AF50-A94FC2FD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98B-DDE1-481E-8264-E1C75011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521-216C-4B67-B66A-EDFD0D3B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41C-13E4-4AE0-87B3-08539B4A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3B1-B4AB-475C-8989-C725C743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BA0-71CA-4764-9019-67438B51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B13-86D9-43AA-A373-19156925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38E-A6D5-4424-B0DB-A67B9C00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0C0-8628-4B35-B785-6F671F57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DA2-7AD9-488B-83CF-4BBEB532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53DF-EBB9-492B-8143-336D2FAB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BC53-FD71-466B-A199-E8F6BB0B6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1066680"/>
            <a:ext cx="85341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Cooper Black"/>
              </a:rPr>
              <a:t>Body Organiz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Body Organization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4572000"/>
            <a:ext cx="2361960" cy="1771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2960" y="6400800"/>
            <a:ext cx="745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19920" y="152280"/>
            <a:ext cx="26859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 the level of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each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98108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44197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2880" y="198108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2880" y="441972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4038480"/>
            <a:ext cx="1657080" cy="2210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1905120" cy="127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V="1">
            <a:off x="5486400" y="457164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905120" y="1600200"/>
            <a:ext cx="2438280" cy="1790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057400" y="3429000"/>
            <a:ext cx="176220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50800" y="6612840"/>
            <a:ext cx="336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www.dorlingkindersley-uk.co.uk/static/clipar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62720" y="1066680"/>
            <a:ext cx="2361960" cy="157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1657440" cy="2209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6933960" y="4191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38080" y="762120"/>
            <a:ext cx="2743200" cy="2014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819520" y="3429000"/>
            <a:ext cx="1719000" cy="3124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2743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 nerv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419720"/>
            <a:ext cx="243864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v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2743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 nerv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38098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 organ (br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17T18:28:36Z</dcterms:modified>
  <cp:revision>29</cp:revision>
  <dc:subject/>
  <dc:title>Slide 1</dc:title>
</cp:coreProperties>
</file>