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344-B08A-4CCD-9CB8-12405F6A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F35-9754-4CB9-AB4F-13D7061A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7A9-6B12-4CCB-BCCE-3ECFFEA7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4CF-2094-43FB-8886-51BC5BC7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BBE-1E05-42E9-BF41-DD86BFA7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76C-ECAA-4E86-8150-7D040C04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0DA-C0F4-4F6B-85CC-FD35E86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873-DC08-4372-ADE9-9F7BAFF0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180-C84C-4916-A4E6-8C3C4F51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756-865D-4613-AB53-1123875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FF8-09AD-4358-85CE-4FAFEF0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38F-2E07-43D0-9378-0D0DFE2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9E6B-CFF1-4574-BFED-9C07CC80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0666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2960" y="6400800"/>
            <a:ext cx="745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19920" y="152280"/>
            <a:ext cx="2685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the level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each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810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44197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2880" y="198108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441972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165708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905120" cy="127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5486400" y="45716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2438280" cy="179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057400" y="3429000"/>
            <a:ext cx="17622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50800" y="661284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dorlingkindersley-uk.co.uk/static/clipa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361960" cy="157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6933960" y="4191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2743200" cy="201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819520" y="3429000"/>
            <a:ext cx="171900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 nerv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419720"/>
            <a:ext cx="243864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 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809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 organ (br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7T18:28:36Z</dcterms:modified>
  <cp:revision>29</cp:revision>
  <dc:subject/>
  <dc:title>Slide 1</dc:title>
</cp:coreProperties>
</file>