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70B-8AD7-4057-9C1C-5343533B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6C7-1F8B-4270-A51B-72C9CB0C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B16-7876-4238-BB62-DF76AF1A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D03-8793-4882-9318-759B0819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43C-E45C-4AA9-808A-DD398B0D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13B-7B9D-4D47-A96A-D9966E14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832-841C-4C37-9166-438BDF64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807-E2A0-4559-8D8B-411C447B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7C5-C378-47A4-87DC-F54B97D0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49B-14A5-4469-B5C2-FAF9F8BD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F55-2B08-454A-9729-0284D95C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AE9-9B8F-4E61-BBEA-DAF8626F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904A-1338-413A-82E9-1985412D2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hyperlink" Target="http://images.google.com/imgres?imgurl=http://www.mdconsult.com/das/patient/body/0/0/10041/1679_en.jpg&amp;imgrefurl=http://www.mdconsult.com/das/patient/body/0/0/10041/36612.html&amp;usg=__uMR-ei1mcbV9QZElZ1TBYtp_Fno=&amp;h=226&amp;w=306&amp;sz=17&amp;hl=en&amp;start=1&amp;um=1&amp;tbnid=U2nAfUPbHZfMWM:&amp;tbnh=86&amp;tbnw=117&amp;prev=/images%3Fq%3Dbone%2Btissue%26um%3D1%26hl%3Den%26rlz%3D1T4ADBS_enUS243US245%26sa%3DN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83808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Body Organiz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029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Body Organiza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101916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6400800"/>
            <a:ext cx="83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19920" y="152280"/>
            <a:ext cx="26859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 the level of 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each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37160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66680" y="464832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29200" y="137160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2880" y="457200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2590920" cy="1697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24462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715000" y="1219320"/>
            <a:ext cx="219852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1320" y="4572000"/>
            <a:ext cx="2286000" cy="167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870520" y="6400080"/>
            <a:ext cx="204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www.mdconsult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7640" y="63237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www.bios.niu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83808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rga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skeletal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1752840" cy="1148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62320" y="2819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one cell (osteocyte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43434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.  organ (b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1981080" cy="1463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62320" y="56386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.   bo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43000" y="3886200"/>
            <a:ext cx="89064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1413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17T18:11:10Z</dcterms:modified>
  <cp:revision>30</cp:revision>
  <dc:subject/>
  <dc:title>Slide 1</dc:title>
</cp:coreProperties>
</file>