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74B-2858-4268-BE12-BC0ADD24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A281-6680-40AB-961C-623D8428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6549-71C3-4420-B6F9-1E70377E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AAB-ED9D-491A-A14C-A05033A5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829-DC2D-450B-AD76-4AC47F71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35F-9E73-4CB9-8B47-380FEA73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6BA-047D-4922-8C78-A1B40648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F89-25FF-426C-97A2-CD7D81B3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71B-F651-4FE8-B99A-8A165194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4A3-0998-4BCC-85D9-87218465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9CB-C2B8-4441-AE3E-607881A5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745-29C8-480C-94D9-15F58B9D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17F8-6D8F-4193-B663-6F10CBDFE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hyperlink" Target="http://images.google.com/imgres?imgurl=http://www.mdconsult.com/das/patient/body/0/0/10041/1679_en.jpg&amp;imgrefurl=http://www.mdconsult.com/das/patient/body/0/0/10041/36612.html&amp;usg=__uMR-ei1mcbV9QZElZ1TBYtp_Fno=&amp;h=226&amp;w=306&amp;sz=17&amp;hl=en&amp;start=1&amp;um=1&amp;tbnid=U2nAfUPbHZfMWM:&amp;tbnh=86&amp;tbnw=117&amp;prev=/images%3Fq%3Dbone%2Btissue%26um%3D1%26hl%3Den%26rlz%3D1T4ADBS_enUS243US245%26sa%3DN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83808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Body Organization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029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man Body Organization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101916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480" y="6400800"/>
            <a:ext cx="83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. Bryant 2008 WSMS – Based on “Science Starters” by T. Trimpe at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scistartlogo2"/>
          <p:cNvPicPr/>
          <p:nvPr/>
        </p:nvPicPr>
        <p:blipFill>
          <a:blip r:embed="rId2"/>
          <a:stretch/>
        </p:blipFill>
        <p:spPr>
          <a:xfrm>
            <a:off x="6019920" y="152280"/>
            <a:ext cx="26859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the level of 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each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37160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66680" y="464832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29200" y="1371600"/>
            <a:ext cx="38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2880" y="4572000"/>
            <a:ext cx="381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117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2590920" cy="1697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24462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15000" y="1219320"/>
            <a:ext cx="2198520" cy="3200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1320" y="4572000"/>
            <a:ext cx="2286000" cy="167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870520" y="6400080"/>
            <a:ext cx="204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mdconsult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7640" y="63237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www.bios.niu.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swers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838080"/>
            <a:ext cx="8915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rga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(skeletal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1752840" cy="1148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62320" y="2819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one cell (osteocyte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43434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3.  organ (b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1981080" cy="1463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62320" y="56386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.   bo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43000" y="3886200"/>
            <a:ext cx="890640" cy="129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413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9:50:33Z</dcterms:created>
  <dc:creator>Tracy Trimpe</dc:creator>
  <dc:description/>
  <dc:language>en-US</dc:language>
  <cp:lastModifiedBy>becky</cp:lastModifiedBy>
  <dcterms:modified xsi:type="dcterms:W3CDTF">2009-02-17T18:11:10Z</dcterms:modified>
  <cp:revision>30</cp:revision>
  <dc:subject/>
  <dc:title>Slide 1</dc:title>
</cp:coreProperties>
</file>