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C537-9AF0-487D-96FB-C526DBA28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7E17-950A-489A-BFBD-87DB8D26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DE87-7A64-4735-A040-9FAE26A40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DF62-1629-404E-AAA1-963ADB24D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F587-96B9-4C37-818A-412CB641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7734-E99F-42BC-9C0A-4B1C4280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EA6F-D544-40F5-BD86-E94DA93C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2D8C-AEEF-4C50-9BC3-EC05353E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D4FE-F826-441F-8572-0A81C4B9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59EA-FE06-44A0-BD23-B1250943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3E69-C661-4123-B313-AF713847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E983-D55C-4B62-A488-E93C1AFF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22A9-074E-4990-8049-5E9F252DF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228600" y="838080"/>
            <a:ext cx="85345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Cooper Black"/>
              </a:rPr>
              <a:t>Body Organization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Cooper Black"/>
              <a:ea typeface="Cooper Black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971800" y="50292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man Body Organization #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0" y="6488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R. Bryant 2008 WSMS – Based on “Science Starters” by T. Trimpe at http://sciencespot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1" descr="C:\Documents and Settings\pcstudent\Local Settings\Temporary Internet Files\Content.IE5\96QYONFA\MCj03890800000[1].wmf"/>
          <p:cNvPicPr/>
          <p:nvPr/>
        </p:nvPicPr>
        <p:blipFill>
          <a:blip r:embed="rId1"/>
          <a:stretch/>
        </p:blipFill>
        <p:spPr>
          <a:xfrm>
            <a:off x="762120" y="4495680"/>
            <a:ext cx="1814400" cy="1541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scistartlogo2"/>
          <p:cNvPicPr/>
          <p:nvPr/>
        </p:nvPicPr>
        <p:blipFill>
          <a:blip r:embed="rId2"/>
          <a:stretch/>
        </p:blipFill>
        <p:spPr>
          <a:xfrm>
            <a:off x="6095880" y="152280"/>
            <a:ext cx="26863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0" y="-1080"/>
            <a:ext cx="9144000" cy="10688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dentify the level of organiz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r each exa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1"/>
          <p:cNvSpPr txBox="1"/>
          <p:nvPr/>
        </p:nvSpPr>
        <p:spPr>
          <a:xfrm>
            <a:off x="990720" y="198108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sp>
        <p:nvSpPr>
          <p:cNvPr id="48" name="WordArt 42"/>
          <p:cNvSpPr txBox="1"/>
          <p:nvPr/>
        </p:nvSpPr>
        <p:spPr>
          <a:xfrm>
            <a:off x="990720" y="441972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sp>
        <p:nvSpPr>
          <p:cNvPr id="49" name="WordArt 43"/>
          <p:cNvSpPr txBox="1"/>
          <p:nvPr/>
        </p:nvSpPr>
        <p:spPr>
          <a:xfrm>
            <a:off x="5334120" y="198108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sp>
        <p:nvSpPr>
          <p:cNvPr id="50" name="WordArt 44"/>
          <p:cNvSpPr txBox="1"/>
          <p:nvPr/>
        </p:nvSpPr>
        <p:spPr>
          <a:xfrm>
            <a:off x="5334120" y="434340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sp>
        <p:nvSpPr>
          <p:cNvPr id="51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3581280"/>
            <a:ext cx="434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www.faqs.org/health/images/uchr_01_img0109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248520" y="4114800"/>
            <a:ext cx="1054080" cy="2743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19920" y="6491160"/>
            <a:ext cx="15238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095880" y="1295280"/>
            <a:ext cx="1414440" cy="2667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981080" y="4162320"/>
            <a:ext cx="2133720" cy="1731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600200" y="1600200"/>
            <a:ext cx="320040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answers a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9"/>
          <p:cNvSpPr/>
          <p:nvPr/>
        </p:nvSpPr>
        <p:spPr>
          <a:xfrm>
            <a:off x="0" y="3048120"/>
            <a:ext cx="46483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uscl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2"/>
          <p:cNvSpPr/>
          <p:nvPr/>
        </p:nvSpPr>
        <p:spPr>
          <a:xfrm>
            <a:off x="4219920" y="3200400"/>
            <a:ext cx="481104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60000"/>
              </a:lnSpc>
              <a:spcBef>
                <a:spcPts val="2001"/>
              </a:spcBef>
              <a:buClr>
                <a:srgbClr val="000000"/>
              </a:buClr>
              <a:buFont typeface="Arial Black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orga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(muscular syst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4"/>
          <p:cNvSpPr/>
          <p:nvPr/>
        </p:nvSpPr>
        <p:spPr>
          <a:xfrm>
            <a:off x="4709880" y="6095880"/>
            <a:ext cx="298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4.  muscl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2"/>
          <p:cNvSpPr/>
          <p:nvPr/>
        </p:nvSpPr>
        <p:spPr>
          <a:xfrm>
            <a:off x="0" y="60199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. organ (muscl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3200400" cy="1619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219320" y="4114800"/>
            <a:ext cx="2133360" cy="1731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943600" y="609480"/>
            <a:ext cx="1414440" cy="2667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248520" y="4114800"/>
            <a:ext cx="1054080" cy="2743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095880" y="6583320"/>
            <a:ext cx="19814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becky</cp:lastModifiedBy>
  <dcterms:modified xsi:type="dcterms:W3CDTF">2009-02-17T17:56:28Z</dcterms:modified>
  <cp:revision>37</cp:revision>
  <dc:subject/>
  <dc:title>Slide 1</dc:title>
</cp:coreProperties>
</file>