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610-783A-4082-9A9F-D5678C95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A4F-C694-4D7E-AB9C-034458D7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D29-7511-4085-B0A8-2094A7C9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3D5-F5DC-4400-BF06-E2D9AC5B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C9F-7258-4554-B3EF-EC8E0C1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025-EBAF-4E7A-9FC6-CDC9245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65-D8CF-412B-8A48-1F0D898A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BC6-CD59-4338-97A8-171D2152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C1D-715F-49FD-8C2F-E9D1170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569-D1C1-4786-865A-5BDDB57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874-6490-4D96-AD5D-AE1AF47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DC3-4AA7-4BB2-8988-C4C283A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670-080B-4EBF-BE45-8547504A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28600" y="83808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971800" y="5029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C:\Documents and Settings\pcstudent\Local Settings\Temporary Internet Files\Content.IE5\96QYONFA\MCj03890800000[1].wmf"/>
          <p:cNvPicPr/>
          <p:nvPr/>
        </p:nvPicPr>
        <p:blipFill>
          <a:blip r:embed="rId1"/>
          <a:stretch/>
        </p:blipFill>
        <p:spPr>
          <a:xfrm>
            <a:off x="762120" y="4495680"/>
            <a:ext cx="181440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y the level of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1"/>
          <p:cNvSpPr txBox="1"/>
          <p:nvPr/>
        </p:nvSpPr>
        <p:spPr>
          <a:xfrm>
            <a:off x="9907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8" name="WordArt 42"/>
          <p:cNvSpPr txBox="1"/>
          <p:nvPr/>
        </p:nvSpPr>
        <p:spPr>
          <a:xfrm>
            <a:off x="990720" y="44197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9" name="WordArt 43"/>
          <p:cNvSpPr txBox="1"/>
          <p:nvPr/>
        </p:nvSpPr>
        <p:spPr>
          <a:xfrm>
            <a:off x="53341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WordArt 44"/>
          <p:cNvSpPr txBox="1"/>
          <p:nvPr/>
        </p:nvSpPr>
        <p:spPr>
          <a:xfrm>
            <a:off x="5334120" y="43434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1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5812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faqs.org/health/images/uchr_01_img010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10540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6491160"/>
            <a:ext cx="1523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141444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981080" y="4162320"/>
            <a:ext cx="2133720" cy="173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00200" y="1600200"/>
            <a:ext cx="3200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0" y="3048120"/>
            <a:ext cx="4648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4219920" y="3200400"/>
            <a:ext cx="48110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muscular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4"/>
          <p:cNvSpPr/>
          <p:nvPr/>
        </p:nvSpPr>
        <p:spPr>
          <a:xfrm>
            <a:off x="4709880" y="609588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  muscl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organ (muscl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200400" cy="16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2133360" cy="173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943600" y="609480"/>
            <a:ext cx="14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248520" y="4114800"/>
            <a:ext cx="105408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5880" y="6583320"/>
            <a:ext cx="1981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7:56:28Z</dcterms:modified>
  <cp:revision>37</cp:revision>
  <dc:subject/>
  <dc:title>Slide 1</dc:title>
</cp:coreProperties>
</file>