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C20-CEE1-4724-A72A-4E4D67F3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668-D096-4027-A61A-D9E97644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0F2-8196-4070-B514-2BCB7AD6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AFC-A57A-4F12-8D90-0A26F0CE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B07-C831-428B-8B04-17C0DBF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7B5-8CD6-4071-9AC2-AF1BFC3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587-9840-4FD4-A823-3F90E04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AC1-A03B-42D5-8378-11DC47E9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A7E-EA9B-41E7-8593-E20C4FC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FE7-641C-46C4-BFCD-C625DD2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DE7-D699-4EBB-A48C-2016F94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B20-7F0F-4F1B-B25E-74EBDA00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E37-0D94-4AFB-B3EB-66B3754B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9cc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501560"/>
            <a:ext cx="8991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Name That Rapt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Illinois raptor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ce Warm-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219320" y="4648320"/>
            <a:ext cx="68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7314840" y="4646160"/>
            <a:ext cx="68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4191120" y="9144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7200">
            <a:off x="7315200" y="7621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838080" y="6094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15228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5562720" y="4114800"/>
            <a:ext cx="1815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524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3920" y="41148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500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4800600" y="4114800"/>
            <a:ext cx="18162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24964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192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3392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528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8017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29718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86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07Z</dcterms:modified>
  <cp:revision>70</cp:revision>
  <dc:subject/>
  <dc:title>Who am I?</dc:title>
</cp:coreProperties>
</file>