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B74E-28D2-4331-8A7F-E9C80F2E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A9F-3782-41E1-85CF-38F0D83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9CA-D110-4E8E-BC5E-C7A81EF4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B31-1B9E-40D9-9ED2-AC535A46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F9C-102F-4DC5-A026-F5258AC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22D-011E-4697-BD36-EC7A4DD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FD8B-6B00-4BF2-9754-B6CC61F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8D8-3A9A-4C8A-B8F1-A2E58BE3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17F-C3B4-4C8F-941A-2D8AAC0B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7E8-B36C-40E9-8D0E-F923925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F29-507C-4143-974F-7E987B3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FFD-CA8B-4F75-8282-A2603C5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323-7125-45CF-80D6-B18160A88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9cc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501560"/>
            <a:ext cx="8991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Name That Rapt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5053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Illinois raptor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ience Warm-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219320" y="4648320"/>
            <a:ext cx="68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7314840" y="4646160"/>
            <a:ext cx="68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4191120" y="9144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7200">
            <a:off x="7315200" y="7621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838080" y="6094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15228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5562720" y="4114800"/>
            <a:ext cx="1815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524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3920" y="41148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500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4800600" y="4114800"/>
            <a:ext cx="18162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24964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192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3392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528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8017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29718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86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07Z</dcterms:modified>
  <cp:revision>70</cp:revision>
  <dc:subject/>
  <dc:title>Who am I?</dc:title>
</cp:coreProperties>
</file>