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76E6-3F59-447C-9EAC-8F1E95495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6C67-ABAE-47DB-9101-1DA49649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407E-6561-463A-B870-3241C42B2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4BC0-9E44-41A9-9DB3-77C6AC9BB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19B2-158C-4AB9-B9DD-5497DB71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4D00-5F8C-46AD-915A-75B2D36A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E8E1-2ABA-4ED2-AD6B-A5CA93AB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4922-9E52-48E0-8DA4-874C66E2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4666-F398-4823-85CA-1457322C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9FFD-7445-428D-A786-3D696A47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740B-B5AD-46B3-A078-6CBE8660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1714-AEF8-42C6-A5B0-DC7EEF61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AF8A-942F-48C5-A196-8492E72ED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0" y="3505320"/>
            <a:ext cx="4191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much do you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now about bald eagles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rt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62120" y="609480"/>
            <a:ext cx="78483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Broadway"/>
              </a:rPr>
              <a:t>Eagle Triv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Broadway"/>
              <a:ea typeface="Broadway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3276720"/>
            <a:ext cx="2971800" cy="297180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75400" y="9684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9528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228600"/>
            <a:ext cx="89154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the average weight for an adult male bald ea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4-6 pou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0-12 pou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4-16 pou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gles are successful hunters about 10% of the time when chasing mammals, such as rabbits and squirrels.  How successful are they when fishing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10%       B. 25%        C. 50%        D. 7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weighs more:  all the feathers on a bald eagle or all its bon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constellation is associated with the ea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qui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B. Centaurus        C. Cygnus          D. Erida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speed can an eagle reach in a div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50 mp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B. 95 mph            C. 145 mph        D. 200 m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UE or FALSE?  The bald eagle can be found in all 50 st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228600"/>
            <a:ext cx="89154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the average weight for an adult male bald ea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4-6 pou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0-12 pou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4-16 pou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gles are successful hunters about 10% of the time when chasing mammals, such as rabbits and squirrels.  How successful are they when fishing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10%       B. 25%        C. 50%        D. 7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weighs more:  all the feathers on a bald eagle or all its bon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constellation is associated with the ea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qui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B. Centaurus        C. Cygnus          D. Erida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speed can an eagle reach in a div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50 mp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B. 95 mph            C. 145 mph        D. 200 m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UE or FALSE?  The bald eagle can be found in all 50 st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533520"/>
            <a:ext cx="2362320" cy="60948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76920" y="2286000"/>
            <a:ext cx="1218960" cy="45720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42000" y="5423040"/>
            <a:ext cx="1828800" cy="53316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3429000"/>
            <a:ext cx="5410440" cy="459720"/>
          </a:xfrm>
          <a:prstGeom prst="rect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e feathers would weigh m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33520" y="4432320"/>
            <a:ext cx="7848360" cy="749160"/>
            <a:chOff x="533520" y="4432320"/>
            <a:chExt cx="7848360" cy="749160"/>
          </a:xfrm>
        </p:grpSpPr>
        <p:sp>
          <p:nvSpPr>
            <p:cNvPr id="53" name=""/>
            <p:cNvSpPr/>
            <p:nvPr/>
          </p:nvSpPr>
          <p:spPr>
            <a:xfrm>
              <a:off x="533520" y="4432320"/>
              <a:ext cx="1676160" cy="533520"/>
            </a:xfrm>
            <a:prstGeom prst="ellipse">
              <a:avLst/>
            </a:prstGeom>
            <a:noFill/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38280" y="481320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alf man/half ho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648320" y="481320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sw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81680" y="481320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ri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600200" y="6172200"/>
            <a:ext cx="1447920" cy="53352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0:53:13Z</dcterms:modified>
  <cp:revision>94</cp:revision>
  <dc:subject/>
  <dc:title>Who am I?</dc:title>
</cp:coreProperties>
</file>