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D93EB-C4E6-4B1C-84EC-3438073B3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1FDE9-0D05-45A4-87B8-1DD2B6BDD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46DC3-4716-491A-90CB-3CB457009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93D20-DB13-45D7-901E-50D5D0794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D85D5-0245-4533-A451-00D85B0B9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E3C4E-D979-4AF2-A4B8-67136DAE4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4C359-20ED-4348-9899-97AF69F6D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96DEC-6110-46FB-B502-60E850203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A587E-BD6C-4BDF-B2CE-10AF12AD4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927B1-3E1C-417E-85FA-A73E267FD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092A8-AEF9-46D9-8BF1-8E308E964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DC2C6-26E1-45AB-8DAC-4F5B43639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EAC81-8E15-410B-86C3-56A1A87FA4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4572000" y="3505320"/>
            <a:ext cx="41911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ow much do you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know about bald eagles?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art 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762120" y="609480"/>
            <a:ext cx="784836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Broadway"/>
              </a:rPr>
              <a:t>Eagle Trivi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Broadway"/>
              <a:ea typeface="Broadway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143000" y="3276720"/>
            <a:ext cx="2971800" cy="2971800"/>
          </a:xfrm>
          <a:prstGeom prst="rect">
            <a:avLst/>
          </a:prstGeom>
          <a:ln w="57240">
            <a:solidFill>
              <a:srgbClr val="cc0000"/>
            </a:solidFill>
            <a:miter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6575400" y="96840"/>
            <a:ext cx="2381400" cy="4478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295280" y="6477120"/>
            <a:ext cx="6400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T. Trimpe 2008   http://sciencespot.net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52280" y="228600"/>
            <a:ext cx="8915400" cy="64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at is the average weight for an adult male bald eagl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 4-6 poun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 10-12 poun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 14-16 poun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agles are successful hunters about 10% of the time when chasing mammals, such as rabbits and squirrels.  How successful are they when fishing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 10%       B. 25%        C. 50%        D. 7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ich weighs more:  all the feathers on a bald eagle or all its bones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ich constellation is associated with the eagl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qui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B. Centaurus        C. Cygnus          D. Eridan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at speed can an eagle reach in a dive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 50 mp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B. 95 mph            C. 145 mph        D. 200 mp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.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RUE or FALSE?  The bald eagle can be found in all 50 sta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52280" y="228600"/>
            <a:ext cx="8915400" cy="64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at is the average weight for an adult male bald eagl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 4-6 poun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 10-12 poun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 14-16 poun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agles are successful hunters about 10% of the time when chasing mammals, such as rabbits and squirrels.  How successful are they when fishing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 10%       B. 25%        C. 50%        D. 7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ich weighs more:  all the feathers on a bald eagle or all its bones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ich constellation is associated with the eagl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qui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B. Centaurus        C. Cygnus          D. Eridan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at speed can an eagle reach in a dive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 50 mp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B. 95 mph            C. 145 mph        D. 200 mp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.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RUE or FALSE?  The bald eagle can be found in all 50 sta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895480" y="533520"/>
            <a:ext cx="2362320" cy="609480"/>
          </a:xfrm>
          <a:prstGeom prst="ellipse">
            <a:avLst/>
          </a:prstGeom>
          <a:noFill/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876920" y="2286000"/>
            <a:ext cx="1218960" cy="457200"/>
          </a:xfrm>
          <a:prstGeom prst="ellipse">
            <a:avLst/>
          </a:prstGeom>
          <a:noFill/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642000" y="5423040"/>
            <a:ext cx="1828800" cy="533160"/>
          </a:xfrm>
          <a:prstGeom prst="ellipse">
            <a:avLst/>
          </a:prstGeom>
          <a:noFill/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38280" y="3429000"/>
            <a:ext cx="5410440" cy="459720"/>
          </a:xfrm>
          <a:prstGeom prst="rect">
            <a:avLst/>
          </a:prstGeom>
          <a:noFill/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the feathers would weigh mo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533520" y="4432320"/>
            <a:ext cx="7848360" cy="749160"/>
            <a:chOff x="533520" y="4432320"/>
            <a:chExt cx="7848360" cy="749160"/>
          </a:xfrm>
        </p:grpSpPr>
        <p:sp>
          <p:nvSpPr>
            <p:cNvPr id="53" name=""/>
            <p:cNvSpPr/>
            <p:nvPr/>
          </p:nvSpPr>
          <p:spPr>
            <a:xfrm>
              <a:off x="533520" y="4432320"/>
              <a:ext cx="1676160" cy="533520"/>
            </a:xfrm>
            <a:prstGeom prst="ellipse">
              <a:avLst/>
            </a:prstGeom>
            <a:noFill/>
            <a:ln w="572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38280" y="4813200"/>
              <a:ext cx="221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alf man/half hor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648320" y="481320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he sw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781680" y="481320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he riv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1600200" y="6172200"/>
            <a:ext cx="1447920" cy="533520"/>
          </a:xfrm>
          <a:prstGeom prst="ellipse">
            <a:avLst/>
          </a:prstGeom>
          <a:noFill/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0T02:20:42Z</dcterms:created>
  <dc:creator>Tracy Trimpe</dc:creator>
  <dc:description/>
  <dc:language>en-US</dc:language>
  <cp:lastModifiedBy>Tracy Trimpe</cp:lastModifiedBy>
  <dcterms:modified xsi:type="dcterms:W3CDTF">2008-05-05T00:53:13Z</dcterms:modified>
  <cp:revision>94</cp:revision>
  <dc:subject/>
  <dc:title>Who am I?</dc:title>
</cp:coreProperties>
</file>