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7DD-92AB-4020-8889-217F7AB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C76-8B11-447A-8B91-950B4FC6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031-E013-4C74-9028-AEB90BCBB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38E-E1B2-46A3-A005-EDE356FB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681-76D4-4DD5-87DE-FCD9457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DEF-BFDB-4076-811E-D7E24BA0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487-E50A-45D2-94A1-FA9AFAD3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2A2-B90E-46DC-B338-61C99A48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8DB-8046-4A2C-B84E-99F3C4D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207-1F57-404A-ADAF-E4C66FD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C8A-4424-46C1-880F-C9B4C47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5DF-D8F9-48CD-9751-F452DBAC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98E8-3270-4583-8DF9-12F1D409A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4280" y="358128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4343400" cy="2444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Picture 13" descr="scistartlogo2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an eagle’s first flight from the nes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 A. Mol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ir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le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ld Eagle is a symbol of what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reed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  W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Happi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Bald Eagles average 30 mph during migration, how long would it take one to  travel 210  mile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7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8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6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5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d eagles earned their name becau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ave no feathers on top of their he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“Balde” is an old English term meaning “whit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“Balde” is an Ojibway term meaning “quick min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The birds have no feathers on their f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True or False - Bald eagles are capable of grabbing a 20-lb dog and carrying it o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term refers to an eagle’s first flight from the nes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 A. Mol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Pir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le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ld Eagle is a symbol of what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Freed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  W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Happi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Pr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Bald Eagles average 30 mph during migration, how long would it take one to  travel 210  mile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7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8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6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5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d eagles earned their name becau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They have no feathers on top of their he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“Balde” is an old English term meaning “whit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“Balde” is an Ojibway term meaning “quick min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The birds have no feathers on their fe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True or False - Bald eagles are capable of grabbing a 20-lb dog and carrying it of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1079640" y="1397160"/>
            <a:ext cx="152388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4"/>
          <p:cNvSpPr/>
          <p:nvPr/>
        </p:nvSpPr>
        <p:spPr>
          <a:xfrm>
            <a:off x="6521400" y="522360"/>
            <a:ext cx="175248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939960" y="2629080"/>
            <a:ext cx="1676160" cy="4698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228600" y="3763800"/>
            <a:ext cx="6218280" cy="632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1066680" y="5067360"/>
            <a:ext cx="7010640" cy="1015920"/>
            <a:chOff x="1066680" y="5067360"/>
            <a:chExt cx="7010640" cy="1015920"/>
          </a:xfrm>
        </p:grpSpPr>
        <p:sp>
          <p:nvSpPr>
            <p:cNvPr id="53" name="Oval 9"/>
            <p:cNvSpPr/>
            <p:nvPr/>
          </p:nvSpPr>
          <p:spPr>
            <a:xfrm>
              <a:off x="1219320" y="5067360"/>
              <a:ext cx="838080" cy="45720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1066680" y="5715000"/>
              <a:ext cx="7010640" cy="368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n eagle can lift only about 4 pounds…so protect your Chihuahuas.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2-02-16T14:54:36Z</dcterms:modified>
  <cp:revision>95</cp:revision>
  <dc:subject/>
  <dc:title>Who am I?</dc:title>
</cp:coreProperties>
</file>