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084-3FFE-4D39-83C6-2C3C8A60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639-79AE-4702-A638-B8A47468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E9C-F19E-4EA6-BA5C-51FB5575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6EA-AB74-4732-A4C3-6FD34A4A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966-B1DE-4E05-B2F0-D971A12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399-8576-49A6-BD71-528790E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DDA-2BE7-4E86-82F7-3DD377D3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2DA-8C7F-4251-A777-9FCDCFD5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8CE-76C9-483D-8F8D-CDE7AB6E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FF2-6E95-40AD-AFEF-3A34CCF1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C10-2D4B-47D6-93D8-B2F1A5B7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396-1D1C-4FC7-B876-57A712FF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2D86-2373-4089-8357-03B282D4E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4280" y="358128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0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4343400" cy="244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Picture 13" descr="scistartlogo2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4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erm refers to an eagle’s first flight from the nest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  A. Mol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e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Pir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led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ld Eagle is a symbol of what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Freed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  W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Happi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P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Bald Eagles average 30 mph during migration, how long would it take one to  travel 210  miles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7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8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6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5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d eagles earned their name becau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They have no feathers on top of their hea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“Balde” is an old English term meaning “whit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“Balde” is an Ojibway term meaning “quick min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The birds have no feathers on their f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True or False - Bald eagles are capable of grabbing a 20-lb dog and carrying it of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2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erm refers to an eagle’s first flight from the nest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  A. Mol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e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Pir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led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ld Eagle is a symbol of what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Freed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  W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Happi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P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ald Eagles average 30 mph during migration, how long would it take one to  travel 210  miles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7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8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6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5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d eagles earned their name becau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They have no feathers on top of their hea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“Balde” is an old English term meaning “whit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“Balde” is an Ojibway term meaning “quick min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The birds have no feathers on their f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True or False - Bald eagles are capable of grabbing a 20-lb dog and carrying it of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1079640" y="1397160"/>
            <a:ext cx="1523880" cy="533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/>
          <p:cNvSpPr/>
          <p:nvPr/>
        </p:nvSpPr>
        <p:spPr>
          <a:xfrm>
            <a:off x="6521400" y="522360"/>
            <a:ext cx="175248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939960" y="2629080"/>
            <a:ext cx="1676160" cy="4698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228600" y="3763800"/>
            <a:ext cx="6218280" cy="632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4"/>
          <p:cNvGrpSpPr/>
          <p:nvPr/>
        </p:nvGrpSpPr>
        <p:grpSpPr>
          <a:xfrm>
            <a:off x="1066680" y="5067360"/>
            <a:ext cx="7010640" cy="1015920"/>
            <a:chOff x="1066680" y="5067360"/>
            <a:chExt cx="7010640" cy="1015920"/>
          </a:xfrm>
        </p:grpSpPr>
        <p:sp>
          <p:nvSpPr>
            <p:cNvPr id="53" name="Oval 9"/>
            <p:cNvSpPr/>
            <p:nvPr/>
          </p:nvSpPr>
          <p:spPr>
            <a:xfrm>
              <a:off x="1219320" y="5067360"/>
              <a:ext cx="838080" cy="45720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3"/>
            <p:cNvSpPr/>
            <p:nvPr/>
          </p:nvSpPr>
          <p:spPr>
            <a:xfrm>
              <a:off x="1066680" y="5715000"/>
              <a:ext cx="7010640" cy="3682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 eagle can lift only about 4 pounds…so protect your Chihuahuas.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12-02-16T14:54:36Z</dcterms:modified>
  <cp:revision>95</cp:revision>
  <dc:subject/>
  <dc:title>Who am I?</dc:title>
</cp:coreProperties>
</file>