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079-4D77-49F5-BA96-D2EC7405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476-90B0-4FF7-AFA9-53394DB2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C46-A47D-4594-9DA7-36AFFC7C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493-BEF8-4F7A-A7CF-42C48D1E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75C-DC15-4900-90DF-44C26D7C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5EF-D5BE-45BF-A77B-8D9EAFC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DDD-87B4-4485-8B35-5E44F2B2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A0D-E3A5-48D6-B3DC-C9623C40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107-5AF0-468F-AF5B-E66498AA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E65-AB25-4E7D-9651-99AFB3D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53B-B71B-48B7-9D05-6A43F82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402-E700-4062-8FD3-DBF8E52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EEC0-404A-4AC3-9031-9D64B3110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at year did the bald eagle become the National Emblem of the United St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77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78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8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is the length of a bald eagle’s wings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5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-6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 - 7.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How many talons does an eagle have on each fo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RUE or FALSE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ak of an eagle is almost as long as its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How many feathers do bald eagle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7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ver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TRUE or FALSE? All bald eagles have white head and tail fea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at year did the bald eagle become the National Emblem of the United St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77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78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8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is the length of a bald eagle’s wings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5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-6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 - 7.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How many talons does an eagle have on each fo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RUE or FALSE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ak of an eagle is almost as long as its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How many feathers do bald eagle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7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ver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TRUE or FALSE? All bald eagles have white head and tail fea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743200" y="152280"/>
            <a:ext cx="5943600" cy="1465560"/>
            <a:chOff x="2743200" y="152280"/>
            <a:chExt cx="5943600" cy="1465560"/>
          </a:xfrm>
        </p:grpSpPr>
        <p:sp>
          <p:nvSpPr>
            <p:cNvPr id="49" name=""/>
            <p:cNvSpPr/>
            <p:nvPr/>
          </p:nvSpPr>
          <p:spPr>
            <a:xfrm>
              <a:off x="2743200" y="914040"/>
              <a:ext cx="1523880" cy="60984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24280" y="152280"/>
              <a:ext cx="39625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t was selected because it is a species unique to North America. Ben Franklin wanted the wild turkey to be the national bird, because he though the eagle was of bad moral charact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62720" y="1981080"/>
            <a:ext cx="220968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2120" y="3098880"/>
            <a:ext cx="99072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5257800"/>
            <a:ext cx="129564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3263760"/>
            <a:ext cx="8559720" cy="1882800"/>
            <a:chOff x="533520" y="3263760"/>
            <a:chExt cx="8559720" cy="1882800"/>
          </a:xfrm>
        </p:grpSpPr>
        <p:sp>
          <p:nvSpPr>
            <p:cNvPr id="55" name=""/>
            <p:cNvSpPr/>
            <p:nvPr/>
          </p:nvSpPr>
          <p:spPr>
            <a:xfrm>
              <a:off x="533520" y="3809880"/>
              <a:ext cx="990360" cy="60948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rcRect l="30447" t="9998" r="12668" b="22000"/>
            <a:stretch/>
          </p:blipFill>
          <p:spPr>
            <a:xfrm>
              <a:off x="6730920" y="3263760"/>
              <a:ext cx="2362320" cy="188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676520" y="5867280"/>
            <a:ext cx="129528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838080"/>
            <a:ext cx="7619760" cy="5321880"/>
            <a:chOff x="762120" y="838080"/>
            <a:chExt cx="7619760" cy="5321880"/>
          </a:xfrm>
        </p:grpSpPr>
        <p:sp>
          <p:nvSpPr>
            <p:cNvPr id="59" name=""/>
            <p:cNvSpPr/>
            <p:nvPr/>
          </p:nvSpPr>
          <p:spPr>
            <a:xfrm>
              <a:off x="762120" y="838080"/>
              <a:ext cx="7619760" cy="510552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914400" y="1844640"/>
              <a:ext cx="7391520" cy="4315320"/>
              <a:chOff x="914400" y="1844640"/>
              <a:chExt cx="7391520" cy="4315320"/>
            </a:xfrm>
          </p:grpSpPr>
          <p:pic>
            <p:nvPicPr>
              <p:cNvPr id="61" name="" descr=""/>
              <p:cNvPicPr/>
              <p:nvPr/>
            </p:nvPicPr>
            <p:blipFill>
              <a:blip r:embed="rId2"/>
              <a:srcRect l="0" t="2263" r="0" b="0"/>
              <a:stretch/>
            </p:blipFill>
            <p:spPr>
              <a:xfrm>
                <a:off x="1752480" y="1844640"/>
                <a:ext cx="5562720" cy="32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914400" y="184464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rpy Eag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00600" y="4968720"/>
                <a:ext cx="1523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d-tailed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wk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14956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olden Eag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95320" y="2682720"/>
                <a:ext cx="152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d Eag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05520" y="306396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eat Horned Ow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53080" y="4968720"/>
                <a:ext cx="175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egrine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lco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301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33920" y="2530440"/>
                <a:ext cx="0" cy="44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24280" y="3139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562720" y="3444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5610240" y="4664160"/>
                <a:ext cx="30492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6934320" y="4664160"/>
                <a:ext cx="30456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 txBox="1"/>
            <p:nvPr/>
          </p:nvSpPr>
          <p:spPr>
            <a:xfrm>
              <a:off x="1822320" y="1143000"/>
              <a:ext cx="5410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oper Black"/>
                </a:rPr>
                <a:t>Raptor Tal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  <a:ea typeface="Cooper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5955" t="0" r="16626" b="0"/>
          <a:stretch/>
        </p:blipFill>
        <p:spPr>
          <a:xfrm>
            <a:off x="1219320" y="1066680"/>
            <a:ext cx="2971800" cy="4762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54080" cy="4724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609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 Bald 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609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ature Bald 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4:17Z</dcterms:modified>
  <cp:revision>78</cp:revision>
  <dc:subject/>
  <dc:title>Who am I?</dc:title>
</cp:coreProperties>
</file>