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1D6-496A-4257-9E10-A248315D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1C5-AB63-4855-BBDE-9427B7F0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2CA0-BB40-4E6A-94EB-79C5FA9D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931E-5AD5-4EF7-8252-18A2D5E0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A8B-887F-4F44-986E-AE9034DD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C0C3-22FB-46C0-8EC9-48C6B304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3CEA-CDC2-4D96-AC31-EBEF1882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636-B1FE-4CEC-A9A3-B91EFA84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040D-67ED-4EE1-A2C5-643583F0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BE64-B8DD-4EF3-950F-BD616072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A332-3E4A-4775-BD7E-29E8ADC0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783-900C-407F-B7D7-24B2BC8B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FECB-84D3-466F-BEC9-C01CBEDE3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0" y="3505320"/>
            <a:ext cx="4191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uch do you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 about bald eagles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4114800" cy="2714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33520" y="914400"/>
            <a:ext cx="7848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roadway"/>
              </a:rPr>
              <a:t>Eagle Triv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roadway"/>
              <a:ea typeface="Broadway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52280"/>
            <a:ext cx="868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what year did the bald eagle become the National Emblem of the United Stat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77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78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8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What is the length of a bald eagle’s wingsp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4-5 fee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5-6 fee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6 - 7.5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How many talons does an eagle have on each fo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TRUE or FALSE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ak of an eagle is almost as long as its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How many feathers do bald eagle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2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5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7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Over 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TRUE or FALSE? All bald eagles have white head and tail fea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68680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what year did the bald eagle become the National Emblem of the United Stat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77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78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8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What is the length of a bald eagle’s wingsp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4-5 fee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5-6 fee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6 - 7.5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How many talons does an eagle have on each fo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TRUE or FALSE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ak of an eagle is almost as long as its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How many feathers do bald eagle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2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5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7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Over 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TRUE or FALSE? All bald eagles have white head and tail fea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743200" y="152280"/>
            <a:ext cx="5943600" cy="1465560"/>
            <a:chOff x="2743200" y="152280"/>
            <a:chExt cx="5943600" cy="1465560"/>
          </a:xfrm>
        </p:grpSpPr>
        <p:sp>
          <p:nvSpPr>
            <p:cNvPr id="49" name=""/>
            <p:cNvSpPr/>
            <p:nvPr/>
          </p:nvSpPr>
          <p:spPr>
            <a:xfrm>
              <a:off x="2743200" y="914040"/>
              <a:ext cx="1523880" cy="609840"/>
            </a:xfrm>
            <a:prstGeom prst="ellipse">
              <a:avLst/>
            </a:prstGeom>
            <a:noFill/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24280" y="152280"/>
              <a:ext cx="3962520" cy="146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t was selected because it is a species unique to North America. Ben Franklin wanted the wild turkey to be the national bird, because he though the eagle was of bad moral charact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562720" y="1981080"/>
            <a:ext cx="2209680" cy="60984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2120" y="3098880"/>
            <a:ext cx="990720" cy="60948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5257800"/>
            <a:ext cx="1295640" cy="60948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3520" y="3263760"/>
            <a:ext cx="8559720" cy="1882800"/>
            <a:chOff x="533520" y="3263760"/>
            <a:chExt cx="8559720" cy="1882800"/>
          </a:xfrm>
        </p:grpSpPr>
        <p:sp>
          <p:nvSpPr>
            <p:cNvPr id="55" name=""/>
            <p:cNvSpPr/>
            <p:nvPr/>
          </p:nvSpPr>
          <p:spPr>
            <a:xfrm>
              <a:off x="533520" y="3809880"/>
              <a:ext cx="990360" cy="609480"/>
            </a:xfrm>
            <a:prstGeom prst="ellipse">
              <a:avLst/>
            </a:prstGeom>
            <a:noFill/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1"/>
            <a:srcRect l="30447" t="9998" r="12668" b="22000"/>
            <a:stretch/>
          </p:blipFill>
          <p:spPr>
            <a:xfrm>
              <a:off x="6730920" y="3263760"/>
              <a:ext cx="2362320" cy="188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1676520" y="5867280"/>
            <a:ext cx="1295280" cy="60984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62120" y="838080"/>
            <a:ext cx="7619760" cy="5321880"/>
            <a:chOff x="762120" y="838080"/>
            <a:chExt cx="7619760" cy="5321880"/>
          </a:xfrm>
        </p:grpSpPr>
        <p:sp>
          <p:nvSpPr>
            <p:cNvPr id="59" name=""/>
            <p:cNvSpPr/>
            <p:nvPr/>
          </p:nvSpPr>
          <p:spPr>
            <a:xfrm>
              <a:off x="762120" y="838080"/>
              <a:ext cx="7619760" cy="5105520"/>
            </a:xfrm>
            <a:prstGeom prst="rect">
              <a:avLst/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914400" y="1844640"/>
              <a:ext cx="7391520" cy="4315320"/>
              <a:chOff x="914400" y="1844640"/>
              <a:chExt cx="7391520" cy="4315320"/>
            </a:xfrm>
          </p:grpSpPr>
          <p:pic>
            <p:nvPicPr>
              <p:cNvPr id="61" name="" descr=""/>
              <p:cNvPicPr/>
              <p:nvPr/>
            </p:nvPicPr>
            <p:blipFill>
              <a:blip r:embed="rId2"/>
              <a:srcRect l="0" t="2263" r="0" b="0"/>
              <a:stretch/>
            </p:blipFill>
            <p:spPr>
              <a:xfrm>
                <a:off x="1752480" y="1844640"/>
                <a:ext cx="5562720" cy="328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914400" y="184464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arpy Eag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800600" y="4968720"/>
                <a:ext cx="15238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d-tailed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awk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149560"/>
                <a:ext cx="184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olden Eag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495320" y="2682720"/>
                <a:ext cx="152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d Eag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05520" y="3063960"/>
                <a:ext cx="289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reat Horned Ow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553080" y="4968720"/>
                <a:ext cx="1752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eregrine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alcon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30184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33920" y="2530440"/>
                <a:ext cx="0" cy="44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724280" y="31399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562720" y="3444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5610240" y="4664160"/>
                <a:ext cx="30492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flipV="1">
                <a:off x="6934320" y="4664160"/>
                <a:ext cx="30456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 txBox="1"/>
            <p:nvPr/>
          </p:nvSpPr>
          <p:spPr>
            <a:xfrm>
              <a:off x="1822320" y="1143000"/>
              <a:ext cx="5410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oper Black"/>
                </a:rPr>
                <a:t>Raptor Tal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  <a:ea typeface="Cooper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5955" t="0" r="16626" b="0"/>
          <a:stretch/>
        </p:blipFill>
        <p:spPr>
          <a:xfrm>
            <a:off x="1219320" y="1066680"/>
            <a:ext cx="2971800" cy="4762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105520" y="1066680"/>
            <a:ext cx="2854080" cy="4724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609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 Bald Ea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609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ature Bald Ea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0:54:17Z</dcterms:modified>
  <cp:revision>78</cp:revision>
  <dc:subject/>
  <dc:title>Who am I?</dc:title>
</cp:coreProperties>
</file>