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94CD-F6EF-4524-8068-588DCF83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C80A-67BE-4837-8E6B-5B243B05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C41B-5DDF-45AE-BD3E-D223BEA9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AC96-350F-4887-B0FD-97FD1138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DB01-5152-4E59-A22D-2CAC0BF7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DE56-290C-4CC7-8A24-7955E709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80B5-EEF1-4B04-8B80-E3438AAB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E2A5-83AA-4B8A-9967-088F28D9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5CFE-0DA4-4209-8466-1918B3B8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2128-11A7-44CD-B4F4-224DEF46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0F8F-DD80-4A08-B31C-FCBA6256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C2FF-1034-4223-954E-18D557CC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03D9-6BFF-435E-AE97-7AE1EB384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fws.gov/nctc/cam/eaglecam.htm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0" y="3505320"/>
            <a:ext cx="4191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uch do you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now about bald eagles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t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4114800" cy="2714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533520" y="914400"/>
            <a:ext cx="7848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Broadway"/>
              </a:rPr>
              <a:t>Eagle Triv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Broadway"/>
              <a:ea typeface="Broadway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75400" y="9684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228600"/>
            <a:ext cx="8686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How long is the incubation period for an eagle eg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15-25 day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31 - 45 day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53-68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How old are bald eagles before they fledge, or take their first fli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4-6 week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7-8 week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9-14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Eagles are diurnal hunters. What does this me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They hunt during the n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They hunt during the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They hunt any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A bald eagle can see a rabbit or other prey from ________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0.5 mi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1 mi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2 m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TRUE or FALSE? The bald eagle appears on the Illinois State Fl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Bald eagles usually use the same nest year after year. How heavy was the largest nest found in Oh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500 pound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1 t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2 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228600"/>
            <a:ext cx="8686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How long is the incubation period for an eagle eg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15-25 day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31 - 45 day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53-68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How old are bald eagles before they fledge, or take their first fli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4-6 week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7-8 week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9-14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Eagles are diurnal hunters. What does this me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They hunt during the n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They hunt during the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They hunt any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A bald eagle can see a rabbit or other prey from ________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0.5 mi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1 mi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2 m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TRUE or FALSE? The bald eagle appears on the Illinois State Fl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Bald eagles usually use the same nest year after year. How heavy was the largest nest found in Oh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500 pound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1 t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2 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431640"/>
            <a:ext cx="1828800" cy="60984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38680" y="1371600"/>
            <a:ext cx="1828800" cy="60948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641680"/>
            <a:ext cx="3581640" cy="45720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819520" y="3352680"/>
            <a:ext cx="6019560" cy="1067040"/>
            <a:chOff x="2819520" y="3352680"/>
            <a:chExt cx="6019560" cy="1067040"/>
          </a:xfrm>
        </p:grpSpPr>
        <p:sp>
          <p:nvSpPr>
            <p:cNvPr id="52" name=""/>
            <p:cNvSpPr/>
            <p:nvPr/>
          </p:nvSpPr>
          <p:spPr>
            <a:xfrm>
              <a:off x="2819520" y="3809880"/>
              <a:ext cx="1371600" cy="609840"/>
            </a:xfrm>
            <a:prstGeom prst="ellipse">
              <a:avLst/>
            </a:prstGeom>
            <a:noFill/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76920" y="3352680"/>
              <a:ext cx="39621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ald eagles can see objects almost 8 X’s further away than humans ca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93840" y="4483080"/>
            <a:ext cx="990360" cy="45720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5638680"/>
            <a:ext cx="1295640" cy="60984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18766" t="16669" r="17281" b="0"/>
          <a:stretch/>
        </p:blipFill>
        <p:spPr>
          <a:xfrm>
            <a:off x="4343400" y="380880"/>
            <a:ext cx="4648320" cy="4037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395280"/>
            <a:ext cx="3962520" cy="60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d you know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ald eagle’s nest is called a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eri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by eagles are calle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agle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d eagles build their nests by placing stick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The first layer is placed in the shape of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ang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The following layers follow the triangula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ut are rotated. Each stick has other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v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-betw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pleted nest is lined wit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edles, 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s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The finished nest might look messy, but is actually ver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r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In fact,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uman ad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be supported in a bald eagle’s nes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45925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are the two brown birds in the ne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5049720"/>
            <a:ext cx="144792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0:54:04Z</dcterms:modified>
  <cp:revision>82</cp:revision>
  <dc:subject/>
  <dc:title>Who am I?</dc:title>
</cp:coreProperties>
</file>