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A158-FD0A-4B60-9E78-14D20C25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8E61-2795-4E78-B7D9-8D3CFD6A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F2D-1628-41CB-B847-A9C77A6D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029-1796-41FE-8645-520FDEC3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8427-BE9C-4F66-82AC-22FED806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9A8-585F-4C9B-AD55-A42B8559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696-979F-4A33-BD3A-45EC1CCA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D374-C6E5-455F-A8A5-D22A554C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0FF-ED04-4D46-94B4-749A7C69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384-A1BF-4EF7-B8C2-90719735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F56-71FB-485F-9A66-1B541586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326-AD5D-4CC2-AAF7-0E64BE6C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0CE7-65A1-44C6-B4AA-903CA7274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fws.gov/nctc/cam/eaglecam.htm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0" y="3505320"/>
            <a:ext cx="4191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uch do you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 about bald eagles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4114800" cy="2714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33520" y="914400"/>
            <a:ext cx="7848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roadway"/>
              </a:rPr>
              <a:t>Eagle Triv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roadway"/>
              <a:ea typeface="Broadway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28600"/>
            <a:ext cx="8686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How long is the incubation period for an eagle eg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5-25 day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31 - 45 day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53-68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How old are bald eagles before they fledge, or take their first fli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4-6 week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7-8 week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9-14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Eagles are diurnal hunters. What does this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They hunt during the 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They hunt during the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They hunt any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A bald eagle can see a rabbit or other prey from ________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0.5 mi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1 mi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2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TRUE or FALSE? The bald eagle appears on the Illinois State Fl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Bald eagles usually use the same nest year after year. How heavy was the largest nest found in Oh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500 poun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1 t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2 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686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How long is the incubation period for an eagle eg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5-25 day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31 - 45 day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53-68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How old are bald eagles before they fledge, or take their first fli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4-6 week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7-8 week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9-14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Eagles are diurnal hunters. What does this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They hunt during the 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They hunt during the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They hunt any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A bald eagle can see a rabbit or other prey from ________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0.5 mi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1 mi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2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TRUE or FALSE? The bald eagle appears on the Illinois State Fl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Bald eagles usually use the same nest year after year. How heavy was the largest nest found in Oh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500 poun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1 t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2 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431640"/>
            <a:ext cx="1828800" cy="60984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8680" y="1371600"/>
            <a:ext cx="1828800" cy="60948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641680"/>
            <a:ext cx="3581640" cy="45720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3352680"/>
            <a:ext cx="6019560" cy="1067040"/>
            <a:chOff x="2819520" y="3352680"/>
            <a:chExt cx="6019560" cy="1067040"/>
          </a:xfrm>
        </p:grpSpPr>
        <p:sp>
          <p:nvSpPr>
            <p:cNvPr id="52" name=""/>
            <p:cNvSpPr/>
            <p:nvPr/>
          </p:nvSpPr>
          <p:spPr>
            <a:xfrm>
              <a:off x="2819520" y="3809880"/>
              <a:ext cx="1371600" cy="609840"/>
            </a:xfrm>
            <a:prstGeom prst="ellipse">
              <a:avLst/>
            </a:prstGeom>
            <a:noFill/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76920" y="3352680"/>
              <a:ext cx="39621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ld eagles can see objects almost 8 X’s further away than humans ca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93840" y="4483080"/>
            <a:ext cx="990360" cy="45720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5638680"/>
            <a:ext cx="1295640" cy="60984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18766" t="16669" r="17281" b="0"/>
          <a:stretch/>
        </p:blipFill>
        <p:spPr>
          <a:xfrm>
            <a:off x="4343400" y="380880"/>
            <a:ext cx="4648320" cy="4037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395280"/>
            <a:ext cx="3962520" cy="60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d you know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ald eagle’s nest is called a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er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by eagles are call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agl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d eagles build their nests by placing stick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The first layer is placed in the shape of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The following layers follow the triangula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t are rotated. Each stick has other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v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-betw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pleted nest is lined wit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edles, 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s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The finished nest might look messy, but is actually ver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r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In fact,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uman ad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supported in a bald eagle’s nes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4592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are the two brown birds in the n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5049720"/>
            <a:ext cx="144792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0:54:04Z</dcterms:modified>
  <cp:revision>82</cp:revision>
  <dc:subject/>
  <dc:title>Who am I?</dc:title>
</cp:coreProperties>
</file>