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18A4-A2BE-4C1B-B26B-5316542DE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8DEF-C01A-4BE6-89F6-88A91279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5F1E-76A2-4678-8349-1203E447C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CDD8-1FAB-467D-887A-8F710BD7A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5C63-DF01-4385-A0E1-BCDA5BBF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90C3-F7B6-4FAA-AEAE-18B8C64C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E9CD-9777-434C-8C08-E62DAAA6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58F4-68ED-41D4-8A94-07DDDD90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BA1B-6103-423C-B928-4AA782F3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4D09-3125-4BD8-8563-AD7F0E7D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B3A1-47A5-441B-B547-39617418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744C-EBE8-438A-A211-6F53C8B3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5EDE-228B-4FAB-B490-1FAB726CD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2000" y="3505320"/>
            <a:ext cx="4191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much do you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now about bald eagles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rt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3581280"/>
            <a:ext cx="4114800" cy="2714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533520" y="914400"/>
            <a:ext cx="78483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Broadway"/>
              </a:rPr>
              <a:t>Eagle Triv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Broadway"/>
              <a:ea typeface="Broadway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75400" y="9684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9528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228600"/>
            <a:ext cx="8686800" cy="67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agle can up more than 7000 feathers on its body.  How much would all the feathers weigh togeth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½ pou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1.3 pou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3.75 pou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True or False?  Eagles have hollow bo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weight of an eagle’s skeleton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½ pou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1.5 pou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4 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 or False?  Bald eagles are only found in North Ame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average, which would be larger: a male or a female bald eagl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Fema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 Neither, they are the same 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old are eagles when they are considered adults or are able to start reproduci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1 year 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B. 2 to 3 years 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4 to 5 years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228600"/>
            <a:ext cx="8686800" cy="67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agle can up more than 7000 feathers on its body.  How much would all the feathers weigh togeth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½ pou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B. 1.3 pounds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3.75 pou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True or False?  Eagles have hollow bo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weight of an eagle’s skeleton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½ pou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. 1.5 pounds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4 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 or False?  Bald eagles are only found in North Ame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average, which would be larger: a male or a female bald eagl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Fema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 Neither, they are the same 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old are eagles when they are considered adults or are able to start reproduci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1 year 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B. 2 to 3 years 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4 to 5 years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876240"/>
            <a:ext cx="1981440" cy="609840"/>
          </a:xfrm>
          <a:prstGeom prst="ellipse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33520" y="914400"/>
            <a:ext cx="8256600" cy="1611360"/>
            <a:chOff x="533520" y="914400"/>
            <a:chExt cx="8256600" cy="1611360"/>
          </a:xfrm>
        </p:grpSpPr>
        <p:sp>
          <p:nvSpPr>
            <p:cNvPr id="50" name=""/>
            <p:cNvSpPr/>
            <p:nvPr/>
          </p:nvSpPr>
          <p:spPr>
            <a:xfrm>
              <a:off x="533520" y="1549440"/>
              <a:ext cx="914400" cy="457200"/>
            </a:xfrm>
            <a:prstGeom prst="ellipse">
              <a:avLst/>
            </a:prstGeom>
            <a:noFill/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" descr="From Eagles (Zoo Books) Wildlife Ed., Ltd."/>
            <p:cNvPicPr/>
            <p:nvPr/>
          </p:nvPicPr>
          <p:blipFill>
            <a:blip r:embed="rId1"/>
            <a:stretch/>
          </p:blipFill>
          <p:spPr>
            <a:xfrm>
              <a:off x="6172200" y="914400"/>
              <a:ext cx="2617920" cy="161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"/>
          <p:cNvSpPr/>
          <p:nvPr/>
        </p:nvSpPr>
        <p:spPr>
          <a:xfrm>
            <a:off x="457200" y="2438280"/>
            <a:ext cx="1981080" cy="609840"/>
          </a:xfrm>
          <a:prstGeom prst="ellipse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3137040"/>
            <a:ext cx="838440" cy="457200"/>
          </a:xfrm>
          <a:prstGeom prst="ellipse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4444920"/>
            <a:ext cx="1523880" cy="457200"/>
          </a:xfrm>
          <a:prstGeom prst="ellipse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6058080"/>
            <a:ext cx="2667240" cy="533160"/>
          </a:xfrm>
          <a:prstGeom prst="ellipse">
            <a:avLst/>
          </a:pr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5-05T00:53:37Z</dcterms:modified>
  <cp:revision>88</cp:revision>
  <dc:subject/>
  <dc:title>Who am I?</dc:title>
</cp:coreProperties>
</file>