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B61F-320E-4440-9FD2-392EADB2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58D2-D92E-41E3-B742-4258FCCE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2D0-4505-48FF-B132-17BDC8DE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6160-9BF5-45FC-B59F-2E56EB97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C831-5329-4296-B3DF-B51CCAB6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CFD-5215-4117-BEC6-7AD1C5B9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A6F-D4E1-4A6A-9266-FC3F4FB7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7150-1E77-4DB8-B7B7-32E5E390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3DAC-6F3A-4700-8EE8-39556E91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4A16-92CE-4A17-AD07-367061F5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9C8F-3F8B-42A5-9E64-E5AA22DE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276-17CB-4B9C-B117-A8CEFF8E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F76E-BD28-4806-A45C-391C8A3AD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0" y="3505320"/>
            <a:ext cx="4191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uch do you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 about bald eagles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4114800" cy="2714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33520" y="914400"/>
            <a:ext cx="7848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roadway"/>
              </a:rPr>
              <a:t>Eagle Triv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roadway"/>
              <a:ea typeface="Broadway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228600"/>
            <a:ext cx="8686800" cy="67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agle can up more than 7000 feathers on its body.  How much would all the feathers weigh togeth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½ pou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.3 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3.75 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True or False?  Eagles have hollow b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weight of an eagle’s skeleton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½ pou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.5 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4 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or False?  Bald eagles are only found in North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verage, which would be larger: a male or a female bald eag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Fem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Neither, they are the same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old are eagles when they are considered adults or are able to start reproduc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 year 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B. 2 to 3 years 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4 to 5 year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686800" cy="67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agle can up more than 7000 feathers on its body.  How much would all the feathers weigh togeth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½ pou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B. 1.3 pounds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3.75 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True or False?  Eagles have hollow b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weight of an eagle’s skeleton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½ pou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. 1.5 pounds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4 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or False?  Bald eagles are only found in North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verage, which would be larger: a male or a female bald eag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Fem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Neither, they are the same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old are eagles when they are considered adults or are able to start reproduc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 year 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B. 2 to 3 years 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4 to 5 year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876240"/>
            <a:ext cx="1981440" cy="60984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33520" y="914400"/>
            <a:ext cx="8256600" cy="1611360"/>
            <a:chOff x="533520" y="914400"/>
            <a:chExt cx="8256600" cy="1611360"/>
          </a:xfrm>
        </p:grpSpPr>
        <p:sp>
          <p:nvSpPr>
            <p:cNvPr id="50" name=""/>
            <p:cNvSpPr/>
            <p:nvPr/>
          </p:nvSpPr>
          <p:spPr>
            <a:xfrm>
              <a:off x="533520" y="1549440"/>
              <a:ext cx="914400" cy="457200"/>
            </a:xfrm>
            <a:prstGeom prst="ellipse">
              <a:avLst/>
            </a:prstGeom>
            <a:noFill/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From Eagles (Zoo Books) Wildlife Ed., Ltd."/>
            <p:cNvPicPr/>
            <p:nvPr/>
          </p:nvPicPr>
          <p:blipFill>
            <a:blip r:embed="rId1"/>
            <a:stretch/>
          </p:blipFill>
          <p:spPr>
            <a:xfrm>
              <a:off x="6172200" y="914400"/>
              <a:ext cx="2617920" cy="161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457200" y="2438280"/>
            <a:ext cx="1981080" cy="60984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137040"/>
            <a:ext cx="838440" cy="45720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444920"/>
            <a:ext cx="1523880" cy="45720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6058080"/>
            <a:ext cx="2667240" cy="53316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0:53:37Z</dcterms:modified>
  <cp:revision>88</cp:revision>
  <dc:subject/>
  <dc:title>Who am I?</dc:title>
</cp:coreProperties>
</file>