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139A-6C1A-4BF0-85F3-E823074D5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4FCD-273D-4C0E-89CD-29CC2A7E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24EB-2504-40C0-A81A-E78F5E4C3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4CCD-C947-4110-BEB4-F12915817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9D74-E67A-444A-8EEC-A637AF06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61A8-453F-4F3E-82C1-E2DFE520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134B-D2FD-4C17-983C-2C6E6C81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D962-83F8-4EFC-89FD-6C2DBC10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6315-F513-4F9D-8CD5-5D8718D6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25B6-61C0-4E09-9212-476A35CE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4ACB-A17C-42EB-86FB-84167DED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FEBA-698A-4081-A4E7-0E576E8D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3688-B553-4745-AB7D-B1A9844B1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962160" y="3809520"/>
            <a:ext cx="4190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n you identify these common birds found in Illino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3520" y="457200"/>
            <a:ext cx="784836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Broadway"/>
              </a:rPr>
              <a:t>Backyard Bird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Broadway"/>
              <a:ea typeface="Broadway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3733920"/>
            <a:ext cx="2614680" cy="266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8120" y="380880"/>
            <a:ext cx="1371600" cy="1087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575400" y="9684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9528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971800" y="380880"/>
            <a:ext cx="350532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oose from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 J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ckad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y Woodpe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c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04920" y="266760"/>
            <a:ext cx="8686800" cy="6392880"/>
            <a:chOff x="304920" y="266760"/>
            <a:chExt cx="8686800" cy="639288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685800" y="272880"/>
              <a:ext cx="2209680" cy="219564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6566040" y="2800440"/>
              <a:ext cx="1842840" cy="18669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685800" y="5106960"/>
              <a:ext cx="2209680" cy="14731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885960" y="2666880"/>
              <a:ext cx="180792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pic>
          <p:nvPicPr>
            <p:cNvPr id="53" name="" descr=""/>
            <p:cNvPicPr/>
            <p:nvPr/>
          </p:nvPicPr>
          <p:blipFill>
            <a:blip r:embed="rId5"/>
            <a:stretch/>
          </p:blipFill>
          <p:spPr>
            <a:xfrm>
              <a:off x="6591240" y="266760"/>
              <a:ext cx="1792440" cy="220968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pic>
          <p:nvPicPr>
            <p:cNvPr id="54" name="" descr=""/>
            <p:cNvPicPr/>
            <p:nvPr/>
          </p:nvPicPr>
          <p:blipFill>
            <a:blip r:embed="rId6"/>
            <a:stretch/>
          </p:blipFill>
          <p:spPr>
            <a:xfrm>
              <a:off x="6343560" y="5029200"/>
              <a:ext cx="2286000" cy="163044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pic>
          <p:nvPicPr>
            <p:cNvPr id="55" name="" descr=""/>
            <p:cNvPicPr/>
            <p:nvPr/>
          </p:nvPicPr>
          <p:blipFill>
            <a:blip r:embed="rId7"/>
            <a:stretch/>
          </p:blipFill>
          <p:spPr>
            <a:xfrm>
              <a:off x="3733920" y="4038480"/>
              <a:ext cx="1904760" cy="18795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56" name=""/>
            <p:cNvSpPr txBox="1"/>
            <p:nvPr/>
          </p:nvSpPr>
          <p:spPr>
            <a:xfrm>
              <a:off x="304920" y="1090440"/>
              <a:ext cx="237960" cy="562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larendon Condensed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larendon Condensed"/>
                <a:ea typeface="Clarendon Condensed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>
              <a:off x="533520" y="3452760"/>
              <a:ext cx="237960" cy="561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larendon Condensed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larendon Condensed"/>
                <a:ea typeface="Clarendon Condensed"/>
              </a:endParaRPr>
            </a:p>
          </p:txBody>
        </p:sp>
        <p:sp>
          <p:nvSpPr>
            <p:cNvPr id="58" name=""/>
            <p:cNvSpPr txBox="1"/>
            <p:nvPr/>
          </p:nvSpPr>
          <p:spPr>
            <a:xfrm>
              <a:off x="304920" y="5564160"/>
              <a:ext cx="237960" cy="561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larendon Condensed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larendon Condensed"/>
                <a:ea typeface="Clarendon Condensed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4567320" y="6019920"/>
              <a:ext cx="237960" cy="561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larendon Condensed"/>
                </a:rPr>
                <a:t>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larendon Condensed"/>
                <a:ea typeface="Clarendon Condensed"/>
              </a:endParaRPr>
            </a:p>
          </p:txBody>
        </p:sp>
        <p:sp>
          <p:nvSpPr>
            <p:cNvPr id="60" name=""/>
            <p:cNvSpPr txBox="1"/>
            <p:nvPr/>
          </p:nvSpPr>
          <p:spPr>
            <a:xfrm>
              <a:off x="8601120" y="1090440"/>
              <a:ext cx="237960" cy="562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larendon Condensed"/>
                </a:rPr>
                <a:t>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larendon Condensed"/>
                <a:ea typeface="Clarendon Condensed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8524800" y="3452760"/>
              <a:ext cx="238320" cy="561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larendon Condensed"/>
                </a:rPr>
                <a:t>F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larendon Condensed"/>
                <a:ea typeface="Clarendon Condensed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>
              <a:off x="8753400" y="5564160"/>
              <a:ext cx="238320" cy="561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larendon Condensed"/>
                </a:rPr>
                <a:t>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larendon Condensed"/>
                <a:ea typeface="Clarendon Condense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933640" y="990720"/>
            <a:ext cx="3505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Blue J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Downy Woodpeck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Spar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Cardi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 Star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. Chickad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. Grac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04920" y="266760"/>
            <a:ext cx="8686800" cy="6392880"/>
            <a:chOff x="304920" y="266760"/>
            <a:chExt cx="8686800" cy="639288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685800" y="272880"/>
              <a:ext cx="2209680" cy="219564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6566040" y="2800440"/>
              <a:ext cx="1842840" cy="18669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pic>
          <p:nvPicPr>
            <p:cNvPr id="67" name="" descr=""/>
            <p:cNvPicPr/>
            <p:nvPr/>
          </p:nvPicPr>
          <p:blipFill>
            <a:blip r:embed="rId3"/>
            <a:stretch/>
          </p:blipFill>
          <p:spPr>
            <a:xfrm>
              <a:off x="685800" y="5106960"/>
              <a:ext cx="2209680" cy="14731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pic>
          <p:nvPicPr>
            <p:cNvPr id="68" name="" descr=""/>
            <p:cNvPicPr/>
            <p:nvPr/>
          </p:nvPicPr>
          <p:blipFill>
            <a:blip r:embed="rId4"/>
            <a:stretch/>
          </p:blipFill>
          <p:spPr>
            <a:xfrm>
              <a:off x="885960" y="2666880"/>
              <a:ext cx="180792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pic>
          <p:nvPicPr>
            <p:cNvPr id="69" name="" descr=""/>
            <p:cNvPicPr/>
            <p:nvPr/>
          </p:nvPicPr>
          <p:blipFill>
            <a:blip r:embed="rId5"/>
            <a:stretch/>
          </p:blipFill>
          <p:spPr>
            <a:xfrm>
              <a:off x="6591240" y="266760"/>
              <a:ext cx="1792440" cy="220968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pic>
          <p:nvPicPr>
            <p:cNvPr id="70" name="" descr=""/>
            <p:cNvPicPr/>
            <p:nvPr/>
          </p:nvPicPr>
          <p:blipFill>
            <a:blip r:embed="rId6"/>
            <a:stretch/>
          </p:blipFill>
          <p:spPr>
            <a:xfrm>
              <a:off x="6343560" y="5029200"/>
              <a:ext cx="2286000" cy="163044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3733920" y="4038480"/>
              <a:ext cx="1904760" cy="18795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72" name=""/>
            <p:cNvSpPr txBox="1"/>
            <p:nvPr/>
          </p:nvSpPr>
          <p:spPr>
            <a:xfrm>
              <a:off x="304920" y="1090440"/>
              <a:ext cx="237960" cy="562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larendon Condensed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larendon Condensed"/>
                <a:ea typeface="Clarendon Condensed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533520" y="3452760"/>
              <a:ext cx="237960" cy="561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larendon Condensed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larendon Condensed"/>
                <a:ea typeface="Clarendon Condensed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>
              <a:off x="304920" y="5564160"/>
              <a:ext cx="237960" cy="561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larendon Condensed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larendon Condensed"/>
                <a:ea typeface="Clarendon Condensed"/>
              </a:endParaRPr>
            </a:p>
          </p:txBody>
        </p:sp>
        <p:sp>
          <p:nvSpPr>
            <p:cNvPr id="75" name=""/>
            <p:cNvSpPr txBox="1"/>
            <p:nvPr/>
          </p:nvSpPr>
          <p:spPr>
            <a:xfrm>
              <a:off x="4567320" y="6019920"/>
              <a:ext cx="237960" cy="561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larendon Condensed"/>
                </a:rPr>
                <a:t>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larendon Condensed"/>
                <a:ea typeface="Clarendon Condensed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>
              <a:off x="8601120" y="1090440"/>
              <a:ext cx="237960" cy="562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larendon Condensed"/>
                </a:rPr>
                <a:t>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larendon Condensed"/>
                <a:ea typeface="Clarendon Condensed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>
              <a:off x="8524800" y="3452760"/>
              <a:ext cx="238320" cy="561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larendon Condensed"/>
                </a:rPr>
                <a:t>F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larendon Condensed"/>
                <a:ea typeface="Clarendon Condensed"/>
              </a:endParaRPr>
            </a:p>
          </p:txBody>
        </p:sp>
        <p:sp>
          <p:nvSpPr>
            <p:cNvPr id="78" name=""/>
            <p:cNvSpPr txBox="1"/>
            <p:nvPr/>
          </p:nvSpPr>
          <p:spPr>
            <a:xfrm>
              <a:off x="8753400" y="5564160"/>
              <a:ext cx="238320" cy="561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larendon Condensed"/>
                </a:rPr>
                <a:t>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larendon Condensed"/>
                <a:ea typeface="Clarendon Condensed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2933640" y="304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0:55:35Z</dcterms:modified>
  <cp:revision>90</cp:revision>
  <dc:subject/>
  <dc:title>Who am I?</dc:title>
</cp:coreProperties>
</file>