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D90-79E8-40EA-AB2D-351D6D79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CB8-5B63-443B-8DDA-459BBC0C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865-29E0-4C7D-A8D1-ECD09A4B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259-65E3-407F-A7C8-D5B3633F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EFC-A029-4BAE-86F5-A2ADE30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888-86CA-4690-ACC4-5A7F820C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957-31AC-4E5B-82D6-A143E088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6CC-A9A0-4BE2-94D1-6CA8527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E75-2A6F-4125-989A-87219AA8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2F8-2BEA-4697-9063-4CFC61BD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56F-B345-4E54-9FFD-8DA60DFF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6F8E-AD67-4525-81DD-9C8BFC3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0F39-C6B9-48B7-A181-ADEC7221F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62160" y="3809520"/>
            <a:ext cx="4190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identify these common birds found in Illino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457200"/>
            <a:ext cx="78483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Broadway"/>
              </a:rPr>
              <a:t>Backyard Bird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Broadway"/>
              <a:ea typeface="Broadway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261468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1371600" cy="1087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380880"/>
            <a:ext cx="35053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from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ka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y Woodp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4920" y="266760"/>
            <a:ext cx="8686800" cy="6392880"/>
            <a:chOff x="304920" y="266760"/>
            <a:chExt cx="8686800" cy="63928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685800" y="272880"/>
              <a:ext cx="2209680" cy="2195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566040" y="2800440"/>
              <a:ext cx="1842840" cy="18669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85800" y="5106960"/>
              <a:ext cx="2209680" cy="14731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885960" y="2666880"/>
              <a:ext cx="180792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6591240" y="266760"/>
              <a:ext cx="1792440" cy="2209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6343560" y="5029200"/>
              <a:ext cx="2286000" cy="1630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3733920" y="4038480"/>
              <a:ext cx="1904760" cy="1879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6" name=""/>
            <p:cNvSpPr txBox="1"/>
            <p:nvPr/>
          </p:nvSpPr>
          <p:spPr>
            <a:xfrm>
              <a:off x="3049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533520" y="34527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04920" y="55641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567320" y="601992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86011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8524800" y="34527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8753400" y="55641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933640" y="990720"/>
            <a:ext cx="35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lue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owny Woodpec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p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ard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Star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Chicka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Grac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266760"/>
            <a:ext cx="8686800" cy="6392880"/>
            <a:chOff x="304920" y="266760"/>
            <a:chExt cx="8686800" cy="63928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685800" y="272880"/>
              <a:ext cx="2209680" cy="2195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6566040" y="2800440"/>
              <a:ext cx="1842840" cy="18669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685800" y="5106960"/>
              <a:ext cx="2209680" cy="14731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8" name="" descr=""/>
            <p:cNvPicPr/>
            <p:nvPr/>
          </p:nvPicPr>
          <p:blipFill>
            <a:blip r:embed="rId4"/>
            <a:stretch/>
          </p:blipFill>
          <p:spPr>
            <a:xfrm>
              <a:off x="885960" y="2666880"/>
              <a:ext cx="180792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6591240" y="266760"/>
              <a:ext cx="1792440" cy="22096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6343560" y="5029200"/>
              <a:ext cx="2286000" cy="16304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3733920" y="4038480"/>
              <a:ext cx="1904760" cy="1879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2" name=""/>
            <p:cNvSpPr txBox="1"/>
            <p:nvPr/>
          </p:nvSpPr>
          <p:spPr>
            <a:xfrm>
              <a:off x="3049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533520" y="34527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304920" y="556416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567320" y="6019920"/>
              <a:ext cx="23796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8601120" y="1090440"/>
              <a:ext cx="237960" cy="56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8524800" y="34527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8753400" y="5564160"/>
              <a:ext cx="238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larendon Condensed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larendon Condensed"/>
                <a:ea typeface="Clarendon Condensed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93364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5:35Z</dcterms:modified>
  <cp:revision>90</cp:revision>
  <dc:subject/>
  <dc:title>Who am I?</dc:title>
</cp:coreProperties>
</file>