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FF2-0830-437B-824E-BA5046A5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1D9-2BFF-47D8-80A7-61689E0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14C-3295-4160-8CF1-6C7A93E9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175-ADD6-49E8-A414-49B64373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563-A2DA-449A-A0EC-70F42798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0A6-0C3B-4DF8-9AFB-148B12C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740-16CA-4E9A-9D31-675CEA47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B25-2DCF-443D-A26C-414D1BF5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2B6-28C6-43CE-A70C-80CD21C1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E6B-B0D1-4B9D-9349-9EA522A1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4C9-F32D-4690-9C8B-EB9F70A5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32B-D2A2-4AFC-8CEA-8F62F2C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43D2-BC78-4748-BA3E-7F2D860D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4038480"/>
            <a:ext cx="41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d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know abou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rd nest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ligraph421 BT"/>
              </a:rPr>
              <a:t>BIRD BASICS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ligraph421 BT"/>
              <a:ea typeface="Calligraph421 B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4190760" cy="2311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1429" t="16814" r="8572" b="-865"/>
          <a:stretch/>
        </p:blipFill>
        <p:spPr>
          <a:xfrm>
            <a:off x="380880" y="380880"/>
            <a:ext cx="3310200" cy="197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21942" r="0" b="7120"/>
          <a:stretch/>
        </p:blipFill>
        <p:spPr>
          <a:xfrm>
            <a:off x="3774960" y="2392200"/>
            <a:ext cx="3006720" cy="233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40177"/>
          <a:stretch/>
        </p:blipFill>
        <p:spPr>
          <a:xfrm>
            <a:off x="2362320" y="48769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943600" y="4876920"/>
            <a:ext cx="2838600" cy="159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09480" y="2666880"/>
            <a:ext cx="2362320" cy="197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00400" y="1523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86200" y="25909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3828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6200" y="50292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1532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62520" y="304920"/>
            <a:ext cx="4876200" cy="1756080"/>
            <a:chOff x="3962520" y="304920"/>
            <a:chExt cx="4876200" cy="1756080"/>
          </a:xfrm>
        </p:grpSpPr>
        <p:grpSp>
          <p:nvGrpSpPr>
            <p:cNvPr id="57" name=""/>
            <p:cNvGrpSpPr/>
            <p:nvPr/>
          </p:nvGrpSpPr>
          <p:grpSpPr>
            <a:xfrm>
              <a:off x="3962520" y="869760"/>
              <a:ext cx="4876200" cy="1191240"/>
              <a:chOff x="3962520" y="869760"/>
              <a:chExt cx="4876200" cy="1191240"/>
            </a:xfrm>
          </p:grpSpPr>
          <p:sp>
            <p:nvSpPr>
              <p:cNvPr id="58" name=""/>
              <p:cNvSpPr/>
              <p:nvPr/>
            </p:nvSpPr>
            <p:spPr>
              <a:xfrm>
                <a:off x="6400800" y="869760"/>
                <a:ext cx="243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avity Nest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crape Ne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962520" y="869760"/>
                <a:ext cx="2438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urrow Nes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upped Nes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latform Nes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029200" y="30492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dentify each ne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1429" t="16814" r="8572" b="-865"/>
          <a:stretch/>
        </p:blipFill>
        <p:spPr>
          <a:xfrm>
            <a:off x="380880" y="380880"/>
            <a:ext cx="3310200" cy="197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21942" r="0" b="7120"/>
          <a:stretch/>
        </p:blipFill>
        <p:spPr>
          <a:xfrm>
            <a:off x="3774960" y="2392200"/>
            <a:ext cx="3006720" cy="233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0" r="0" b="40177"/>
          <a:stretch/>
        </p:blipFill>
        <p:spPr>
          <a:xfrm>
            <a:off x="2362320" y="48769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43600" y="4876920"/>
            <a:ext cx="2838600" cy="1596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9480" y="2666880"/>
            <a:ext cx="2362320" cy="197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200400" y="1523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86200" y="25909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3828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50292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1532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380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019920" y="380880"/>
            <a:ext cx="26668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5:21Z</dcterms:modified>
  <cp:revision>84</cp:revision>
  <dc:subject/>
  <dc:title>Who am I?</dc:title>
</cp:coreProperties>
</file>