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F79-DDE6-4194-8E21-01033480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BE7-90DE-4B8E-98DB-DD747D54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AE6-0E48-4F04-B622-28296CFF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135-3BB2-42FC-A407-9D85E226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8AE-8F9E-4DF7-8C46-8DC9A920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B05-B4F2-4516-BC21-47B0B340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3E6-7B9B-4AB3-9742-3029F987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9DC-0EE5-46AE-BB84-E6D737C3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C7D-D86E-422C-A8D2-32ED1059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D5F-4A67-4941-B460-EFD4FF1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7B3-B6A4-40D3-BD5B-18865C24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869-D69B-4957-ACA6-7CCADC20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72D8-1C96-4CC0-B5E5-C81B86CC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4038480"/>
            <a:ext cx="4191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uch d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know abou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rd nest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914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ligraph421 BT"/>
              </a:rPr>
              <a:t>BIRD BASICS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ligraph421 BT"/>
              <a:ea typeface="Calligraph421 B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4190760" cy="2311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1429" t="16814" r="8572" b="-865"/>
          <a:stretch/>
        </p:blipFill>
        <p:spPr>
          <a:xfrm>
            <a:off x="380880" y="380880"/>
            <a:ext cx="3310200" cy="1970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21942" r="0" b="7120"/>
          <a:stretch/>
        </p:blipFill>
        <p:spPr>
          <a:xfrm>
            <a:off x="3774960" y="2392200"/>
            <a:ext cx="3006720" cy="2332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40177"/>
          <a:stretch/>
        </p:blipFill>
        <p:spPr>
          <a:xfrm>
            <a:off x="2362320" y="4876920"/>
            <a:ext cx="2057400" cy="182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943600" y="4876920"/>
            <a:ext cx="2838600" cy="1596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09480" y="2666880"/>
            <a:ext cx="2362320" cy="1970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200400" y="1523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86200" y="25909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38280" y="28195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86200" y="50292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1532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962520" y="304920"/>
            <a:ext cx="4876200" cy="1756080"/>
            <a:chOff x="3962520" y="304920"/>
            <a:chExt cx="4876200" cy="1756080"/>
          </a:xfrm>
        </p:grpSpPr>
        <p:grpSp>
          <p:nvGrpSpPr>
            <p:cNvPr id="57" name=""/>
            <p:cNvGrpSpPr/>
            <p:nvPr/>
          </p:nvGrpSpPr>
          <p:grpSpPr>
            <a:xfrm>
              <a:off x="3962520" y="869760"/>
              <a:ext cx="4876200" cy="1191240"/>
              <a:chOff x="3962520" y="869760"/>
              <a:chExt cx="4876200" cy="1191240"/>
            </a:xfrm>
          </p:grpSpPr>
          <p:sp>
            <p:nvSpPr>
              <p:cNvPr id="58" name=""/>
              <p:cNvSpPr/>
              <p:nvPr/>
            </p:nvSpPr>
            <p:spPr>
              <a:xfrm>
                <a:off x="6400800" y="869760"/>
                <a:ext cx="2437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avity Nest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crape Ne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962520" y="869760"/>
                <a:ext cx="2438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urrow Nest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upped Nest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latform Nes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029200" y="30492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dentify each nes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1429" t="16814" r="8572" b="-865"/>
          <a:stretch/>
        </p:blipFill>
        <p:spPr>
          <a:xfrm>
            <a:off x="380880" y="380880"/>
            <a:ext cx="3310200" cy="1970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21942" r="0" b="7120"/>
          <a:stretch/>
        </p:blipFill>
        <p:spPr>
          <a:xfrm>
            <a:off x="3774960" y="2392200"/>
            <a:ext cx="3006720" cy="233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0" t="0" r="0" b="40177"/>
          <a:stretch/>
        </p:blipFill>
        <p:spPr>
          <a:xfrm>
            <a:off x="2362320" y="4876920"/>
            <a:ext cx="2057400" cy="182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943600" y="4876920"/>
            <a:ext cx="2838600" cy="1596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09480" y="2666880"/>
            <a:ext cx="2362320" cy="197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200400" y="1523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86200" y="25909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438280" y="28195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86200" y="50292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1532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434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380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019920" y="380880"/>
            <a:ext cx="26668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5:21Z</dcterms:modified>
  <cp:revision>84</cp:revision>
  <dc:subject/>
  <dc:title>Who am I?</dc:title>
</cp:coreProperties>
</file>