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503-DEF0-41ED-B0A0-339BF06B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3D6-FF0B-457B-BAD6-87D26DF5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C4B-84D2-4065-8572-D981A405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024-46BD-4285-9938-C9BFD41A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E0D-37D0-4231-9CBA-53769CFA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D33-5054-4F12-A98D-927968C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E1F-57EF-4047-B382-43A4CD70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8E8-1934-4DA0-85B4-02CA84A4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DD4-B08A-48B2-9935-F13915F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A97-5C05-4112-8AA5-5096C7A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5CD-CE5C-4E00-B3C2-84AE4B9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DB2-74A2-4A08-9C8E-8E6F258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4410FD07-DE38-4646-90A4-DA6EC1248827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6.png"/><Relationship Id="rId10" Type="http://schemas.openxmlformats.org/officeDocument/2006/relationships/image" Target="../media/image13.jpeg"/><Relationship Id="rId11" Type="http://schemas.openxmlformats.org/officeDocument/2006/relationships/image" Target="../media/image4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952520"/>
            <a:ext cx="5745240" cy="16160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birds by their fee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Bird Basic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347328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6232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29000" y="1278000"/>
            <a:ext cx="3809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odpeck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u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heas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b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adrun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67000" y="79056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96280" y="35053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1104840"/>
            <a:ext cx="9144000" cy="1143000"/>
            <a:chOff x="685800" y="1104840"/>
            <a:chExt cx="9144000" cy="1143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85800" y="110484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8305920" y="110484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247840" y="6019920"/>
            <a:ext cx="6019920" cy="1143000"/>
            <a:chOff x="2247840" y="6019920"/>
            <a:chExt cx="6019920" cy="114300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6743880" y="601992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2247840" y="6019920"/>
              <a:ext cx="15242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1181160" y="3695760"/>
            <a:ext cx="8153280" cy="1143000"/>
            <a:chOff x="1181160" y="3695760"/>
            <a:chExt cx="8153280" cy="114300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7810560" y="3695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181160" y="3695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905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4771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34520" y="6400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0" y="9144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7848720"/>
            <a:ext cx="94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normanbirdsanctuary.org/feet_adaptations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838080" y="152280"/>
            <a:ext cx="4038480" cy="2761560"/>
            <a:chOff x="838080" y="152280"/>
            <a:chExt cx="4038480" cy="2761560"/>
          </a:xfrm>
        </p:grpSpPr>
        <p:sp>
          <p:nvSpPr>
            <p:cNvPr id="64" name=""/>
            <p:cNvSpPr/>
            <p:nvPr/>
          </p:nvSpPr>
          <p:spPr>
            <a:xfrm>
              <a:off x="838080" y="1905120"/>
              <a:ext cx="40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sprey &amp; other raptors use feet with sharp talons to help them catch fish or other pr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00160" y="3906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218960" y="70488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rcRect l="26469" t="0" r="23531" b="8005"/>
            <a:stretch/>
          </p:blipFill>
          <p:spPr>
            <a:xfrm>
              <a:off x="2971440" y="152280"/>
              <a:ext cx="1424160" cy="175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6058080" y="5638680"/>
            <a:ext cx="4038480" cy="2304000"/>
            <a:chOff x="6058080" y="5638680"/>
            <a:chExt cx="4038480" cy="230400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6401160" y="586728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058080" y="57146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58080" y="6933960"/>
              <a:ext cx="40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bins &amp; other perching birds have a long back toe, which lets them grab a perch tightly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8115480" y="5638680"/>
              <a:ext cx="1981080" cy="13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6058080" y="3132000"/>
            <a:ext cx="4038480" cy="2135520"/>
            <a:chOff x="6058080" y="3132000"/>
            <a:chExt cx="4038480" cy="2135520"/>
          </a:xfrm>
        </p:grpSpPr>
        <p:pic>
          <p:nvPicPr>
            <p:cNvPr id="74" name="" descr=""/>
            <p:cNvPicPr/>
            <p:nvPr/>
          </p:nvPicPr>
          <p:blipFill>
            <a:blip r:embed="rId5"/>
            <a:stretch/>
          </p:blipFill>
          <p:spPr>
            <a:xfrm>
              <a:off x="8420040" y="3551040"/>
              <a:ext cx="15235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058080" y="45637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ucks &amp; other swimming birds use their feet like paddle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6"/>
            <a:srcRect l="8827" t="19234" r="5888" b="0"/>
            <a:stretch/>
          </p:blipFill>
          <p:spPr>
            <a:xfrm>
              <a:off x="6134040" y="3132000"/>
              <a:ext cx="220932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9220320" y="3284280"/>
              <a:ext cx="60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38080" y="3184560"/>
            <a:ext cx="4038480" cy="2364120"/>
            <a:chOff x="838080" y="3184560"/>
            <a:chExt cx="4038480" cy="2364120"/>
          </a:xfrm>
        </p:grpSpPr>
        <p:grpSp>
          <p:nvGrpSpPr>
            <p:cNvPr id="79" name=""/>
            <p:cNvGrpSpPr/>
            <p:nvPr/>
          </p:nvGrpSpPr>
          <p:grpSpPr>
            <a:xfrm>
              <a:off x="3047760" y="3541680"/>
              <a:ext cx="1523880" cy="1143000"/>
              <a:chOff x="3047760" y="3541680"/>
              <a:chExt cx="1523880" cy="1143000"/>
            </a:xfrm>
          </p:grpSpPr>
          <p:pic>
            <p:nvPicPr>
              <p:cNvPr id="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47760" y="3541680"/>
                <a:ext cx="152388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771360" y="3579840"/>
                <a:ext cx="609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838080" y="484488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woodpecker's hind toes enable it to climb without falling backward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8"/>
            <a:srcRect l="14704" t="0" r="29419" b="0"/>
            <a:stretch/>
          </p:blipFill>
          <p:spPr>
            <a:xfrm>
              <a:off x="1142640" y="3184560"/>
              <a:ext cx="140040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685800" y="5819760"/>
            <a:ext cx="4343400" cy="1959120"/>
            <a:chOff x="685800" y="5819760"/>
            <a:chExt cx="4343400" cy="1959120"/>
          </a:xfrm>
        </p:grpSpPr>
        <p:pic>
          <p:nvPicPr>
            <p:cNvPr id="85" name="" descr=""/>
            <p:cNvPicPr/>
            <p:nvPr/>
          </p:nvPicPr>
          <p:blipFill>
            <a:blip r:embed="rId9"/>
            <a:stretch/>
          </p:blipFill>
          <p:spPr>
            <a:xfrm>
              <a:off x="1123920" y="5972040"/>
              <a:ext cx="152388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00200" y="58957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707508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y fast-running birds, such as the roadrunner have 3 toes rather than 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0"/>
            <a:srcRect l="0" t="6043" r="26469" b="0"/>
            <a:stretch/>
          </p:blipFill>
          <p:spPr>
            <a:xfrm>
              <a:off x="2876400" y="5819760"/>
              <a:ext cx="1523880" cy="13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581280" y="79246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d pictur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946840" y="533520"/>
            <a:ext cx="4260960" cy="2226600"/>
            <a:chOff x="5946840" y="533520"/>
            <a:chExt cx="4260960" cy="2226600"/>
          </a:xfrm>
        </p:grpSpPr>
        <p:grpSp>
          <p:nvGrpSpPr>
            <p:cNvPr id="91" name=""/>
            <p:cNvGrpSpPr/>
            <p:nvPr/>
          </p:nvGrpSpPr>
          <p:grpSpPr>
            <a:xfrm>
              <a:off x="6004080" y="533520"/>
              <a:ext cx="1523880" cy="1370880"/>
              <a:chOff x="6004080" y="533520"/>
              <a:chExt cx="1523880" cy="137088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04080" y="761760"/>
                <a:ext cx="152388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6842160" y="533520"/>
                <a:ext cx="60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5946840" y="2056320"/>
              <a:ext cx="426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asants &amp; other birds that scratch the soil for food have nail-like toe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2"/>
            <a:stretch/>
          </p:blipFill>
          <p:spPr>
            <a:xfrm>
              <a:off x="7832880" y="533520"/>
              <a:ext cx="2057400" cy="13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4:46Z</dcterms:modified>
  <cp:revision>51</cp:revision>
  <dc:subject/>
  <dc:title>Who am I?</dc:title>
</cp:coreProperties>
</file>