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062-9E8A-47A6-9D49-050B3AE0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268-2660-4138-A92E-B2ABE037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26D-CB48-47FC-BF16-78DD5CD7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705-B2F6-4134-83D3-CEB3F23B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BD3E-FB8B-4787-96CD-5B126BD0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5A1-5597-47BC-981F-CC14853C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4AA-8069-4C65-B581-A10E5498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E6D-3DC4-4A1A-A658-C7E8B0BE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AF8-EFAE-4C60-BEAB-C252641E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621-6763-42A5-857A-DA0B340D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824-B52F-4A66-AAA5-A85AB943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565-EFE3-4A98-8821-DDA2D21D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3CA2E811-E0B7-4C22-9385-E7C3B23FF6FE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image" Target="../media/image10.jpeg"/><Relationship Id="rId5" Type="http://schemas.openxmlformats.org/officeDocument/2006/relationships/image" Target="../media/image7.png"/><Relationship Id="rId6" Type="http://schemas.openxmlformats.org/officeDocument/2006/relationships/image" Target="../media/image11.jpeg"/><Relationship Id="rId7" Type="http://schemas.openxmlformats.org/officeDocument/2006/relationships/image" Target="../media/image8.png"/><Relationship Id="rId8" Type="http://schemas.openxmlformats.org/officeDocument/2006/relationships/image" Target="../media/image12.jpeg"/><Relationship Id="rId9" Type="http://schemas.openxmlformats.org/officeDocument/2006/relationships/image" Target="../media/image6.png"/><Relationship Id="rId10" Type="http://schemas.openxmlformats.org/officeDocument/2006/relationships/image" Target="../media/image13.jpeg"/><Relationship Id="rId11" Type="http://schemas.openxmlformats.org/officeDocument/2006/relationships/image" Target="../media/image4.pn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520" y="4952520"/>
            <a:ext cx="5745240" cy="161604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you identif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birds by their fee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2120" y="609480"/>
            <a:ext cx="9067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oper Black"/>
              </a:rPr>
              <a:t>Bird Basic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3473280" cy="3886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62320" y="77724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1880" y="22860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29000" y="1278000"/>
            <a:ext cx="3809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sprey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oodpecker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uck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heasant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obin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oadrunn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67000" y="79056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296280" y="35053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85800" y="1104840"/>
            <a:ext cx="9144000" cy="1143000"/>
            <a:chOff x="685800" y="1104840"/>
            <a:chExt cx="9144000" cy="1143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685800" y="110484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8305920" y="110484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2247840" y="6019920"/>
            <a:ext cx="6019920" cy="1143000"/>
            <a:chOff x="2247840" y="6019920"/>
            <a:chExt cx="6019920" cy="1143000"/>
          </a:xfrm>
        </p:grpSpPr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6743880" y="601992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2247840" y="6019920"/>
              <a:ext cx="152424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1181160" y="3695760"/>
            <a:ext cx="8153280" cy="1143000"/>
            <a:chOff x="1181160" y="3695760"/>
            <a:chExt cx="8153280" cy="1143000"/>
          </a:xfrm>
        </p:grpSpPr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7810560" y="369576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1181160" y="369576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1905120" y="373392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6477120"/>
            <a:ext cx="6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534520" y="64008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0" y="914400"/>
            <a:ext cx="6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7848720"/>
            <a:ext cx="944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normanbirdsanctuary.org/feet_adaptations.s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838080" y="152280"/>
            <a:ext cx="4038480" cy="2761560"/>
            <a:chOff x="838080" y="152280"/>
            <a:chExt cx="4038480" cy="2761560"/>
          </a:xfrm>
        </p:grpSpPr>
        <p:sp>
          <p:nvSpPr>
            <p:cNvPr id="64" name=""/>
            <p:cNvSpPr/>
            <p:nvPr/>
          </p:nvSpPr>
          <p:spPr>
            <a:xfrm>
              <a:off x="838080" y="1905120"/>
              <a:ext cx="4038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sprey &amp; other raptors use feet with sharp talons to help them catch fish or other pre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00160" y="39060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218960" y="70488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rcRect l="26469" t="0" r="23531" b="8005"/>
            <a:stretch/>
          </p:blipFill>
          <p:spPr>
            <a:xfrm>
              <a:off x="2971440" y="152280"/>
              <a:ext cx="1424160" cy="175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6058080" y="5638680"/>
            <a:ext cx="4038480" cy="2304000"/>
            <a:chOff x="6058080" y="5638680"/>
            <a:chExt cx="4038480" cy="2304000"/>
          </a:xfrm>
        </p:grpSpPr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6401160" y="586728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058080" y="571464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58080" y="6933960"/>
              <a:ext cx="4038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obins &amp; other perching birds have a long back toe, which lets them grab a perch tightly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8115480" y="5638680"/>
              <a:ext cx="1981080" cy="132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6058080" y="3132000"/>
            <a:ext cx="4038480" cy="2135520"/>
            <a:chOff x="6058080" y="3132000"/>
            <a:chExt cx="4038480" cy="2135520"/>
          </a:xfrm>
        </p:grpSpPr>
        <p:pic>
          <p:nvPicPr>
            <p:cNvPr id="74" name="" descr=""/>
            <p:cNvPicPr/>
            <p:nvPr/>
          </p:nvPicPr>
          <p:blipFill>
            <a:blip r:embed="rId5"/>
            <a:stretch/>
          </p:blipFill>
          <p:spPr>
            <a:xfrm>
              <a:off x="8420040" y="3551040"/>
              <a:ext cx="15235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058080" y="4563720"/>
              <a:ext cx="403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ucks &amp; other swimming birds use their feet like paddle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6"/>
            <a:srcRect l="8827" t="19234" r="5888" b="0"/>
            <a:stretch/>
          </p:blipFill>
          <p:spPr>
            <a:xfrm>
              <a:off x="6134040" y="3132000"/>
              <a:ext cx="2209320" cy="14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9220320" y="3284280"/>
              <a:ext cx="609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838080" y="3184560"/>
            <a:ext cx="4038480" cy="2364120"/>
            <a:chOff x="838080" y="3184560"/>
            <a:chExt cx="4038480" cy="2364120"/>
          </a:xfrm>
        </p:grpSpPr>
        <p:grpSp>
          <p:nvGrpSpPr>
            <p:cNvPr id="79" name=""/>
            <p:cNvGrpSpPr/>
            <p:nvPr/>
          </p:nvGrpSpPr>
          <p:grpSpPr>
            <a:xfrm>
              <a:off x="3047760" y="3541680"/>
              <a:ext cx="1523880" cy="1143000"/>
              <a:chOff x="3047760" y="3541680"/>
              <a:chExt cx="1523880" cy="1143000"/>
            </a:xfrm>
          </p:grpSpPr>
          <p:pic>
            <p:nvPicPr>
              <p:cNvPr id="8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047760" y="3541680"/>
                <a:ext cx="152388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3771360" y="3579840"/>
                <a:ext cx="6098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#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838080" y="4844880"/>
              <a:ext cx="403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woodpecker's hind toes enable it to climb without falling backward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8"/>
            <a:srcRect l="14704" t="0" r="29419" b="0"/>
            <a:stretch/>
          </p:blipFill>
          <p:spPr>
            <a:xfrm>
              <a:off x="1142640" y="3184560"/>
              <a:ext cx="1400400" cy="167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685800" y="5819760"/>
            <a:ext cx="4343400" cy="1959120"/>
            <a:chOff x="685800" y="5819760"/>
            <a:chExt cx="4343400" cy="1959120"/>
          </a:xfrm>
        </p:grpSpPr>
        <p:pic>
          <p:nvPicPr>
            <p:cNvPr id="85" name="" descr=""/>
            <p:cNvPicPr/>
            <p:nvPr/>
          </p:nvPicPr>
          <p:blipFill>
            <a:blip r:embed="rId9"/>
            <a:stretch/>
          </p:blipFill>
          <p:spPr>
            <a:xfrm>
              <a:off x="1123920" y="5972040"/>
              <a:ext cx="152388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00200" y="589572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#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" y="7075080"/>
              <a:ext cx="434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ny fast-running birds, such as the roadrunner have 3 toes rather than 4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0"/>
            <a:srcRect l="0" t="6043" r="26469" b="0"/>
            <a:stretch/>
          </p:blipFill>
          <p:spPr>
            <a:xfrm>
              <a:off x="2876400" y="5819760"/>
              <a:ext cx="1523880" cy="13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3581280" y="792468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rd pictures from enatur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946840" y="533520"/>
            <a:ext cx="4260960" cy="2226600"/>
            <a:chOff x="5946840" y="533520"/>
            <a:chExt cx="4260960" cy="2226600"/>
          </a:xfrm>
        </p:grpSpPr>
        <p:grpSp>
          <p:nvGrpSpPr>
            <p:cNvPr id="91" name=""/>
            <p:cNvGrpSpPr/>
            <p:nvPr/>
          </p:nvGrpSpPr>
          <p:grpSpPr>
            <a:xfrm>
              <a:off x="6004080" y="533520"/>
              <a:ext cx="1523880" cy="1370880"/>
              <a:chOff x="6004080" y="533520"/>
              <a:chExt cx="1523880" cy="1370880"/>
            </a:xfrm>
          </p:grpSpPr>
          <p:pic>
            <p:nvPicPr>
              <p:cNvPr id="9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004080" y="761760"/>
                <a:ext cx="1523880" cy="11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6842160" y="533520"/>
                <a:ext cx="609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1096920"/>
                    <a:tab algn="l" pos="2193840"/>
                    <a:tab algn="l" pos="3290760"/>
                    <a:tab algn="l" pos="4387680"/>
                    <a:tab algn="l" pos="5484960"/>
                    <a:tab algn="l" pos="6581880"/>
                    <a:tab algn="l" pos="7678800"/>
                    <a:tab algn="l" pos="8775720"/>
                    <a:tab algn="l" pos="9872640"/>
                    <a:tab algn="l" pos="1096956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#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5946840" y="2056320"/>
              <a:ext cx="4260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asants &amp; other birds that scratch the soil for food have nail-like toe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2"/>
            <a:stretch/>
          </p:blipFill>
          <p:spPr>
            <a:xfrm>
              <a:off x="7832880" y="533520"/>
              <a:ext cx="2057400" cy="137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0:54:46Z</dcterms:modified>
  <cp:revision>51</cp:revision>
  <dc:subject/>
  <dc:title>Who am I?</dc:title>
</cp:coreProperties>
</file>