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250-01D4-476F-B7F3-C10D4C24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DB5-7A0B-4EB5-A9BC-BAF645D4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B5E-A27F-4729-B65E-F0282195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4A9-1496-4A3C-9DA8-21447CD9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DDD-62C8-4864-82C2-136CA5B4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A9D-9CF6-4484-8D5F-146097CD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A12-25B2-4E08-970F-7412107A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484-73FA-402A-854F-8152081D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D59-2DCF-418C-A9E4-FD399A46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0BD-4217-4CF1-8EBE-FA69FB0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7E4-66C8-4656-9613-5962939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D3A-D702-4795-B818-4ACF91C0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AB8D6542-0CC9-4918-BE0A-3F660BE55A3E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181120"/>
            <a:ext cx="5745240" cy="160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identify these birds by their bea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609480"/>
            <a:ext cx="9067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oper Black"/>
              </a:rPr>
              <a:t>Bird Basic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347328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62320" y="77724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76920" y="457200"/>
            <a:ext cx="586728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Used to crack open seeds</a:t>
            </a:r>
            <a:br>
              <a:rPr sz="28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Used to tear meat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Used to bore into trees for insects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Used to get nectar in flowers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 Used to strain plants and animals from water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 Used to spear fish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. Used to catch and eat insects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. A multipurpose bill used for fruit, seeds, insects, fish, and other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7848720"/>
            <a:ext cx="944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ormanbirdsanctuary.org/beak_adaptations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" y="2514600"/>
            <a:ext cx="1905120" cy="990360"/>
            <a:chOff x="457200" y="2514600"/>
            <a:chExt cx="1905120" cy="990360"/>
          </a:xfrm>
        </p:grpSpPr>
        <p:sp>
          <p:nvSpPr>
            <p:cNvPr id="49" name=""/>
            <p:cNvSpPr/>
            <p:nvPr/>
          </p:nvSpPr>
          <p:spPr>
            <a:xfrm>
              <a:off x="457200" y="25146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143000" y="2590560"/>
              <a:ext cx="12193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533520" y="4191120"/>
            <a:ext cx="1752480" cy="914400"/>
            <a:chOff x="533520" y="4191120"/>
            <a:chExt cx="1752480" cy="914400"/>
          </a:xfrm>
        </p:grpSpPr>
        <p:sp>
          <p:nvSpPr>
            <p:cNvPr id="52" name=""/>
            <p:cNvSpPr/>
            <p:nvPr/>
          </p:nvSpPr>
          <p:spPr>
            <a:xfrm>
              <a:off x="1676520" y="42674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33520" y="4191120"/>
              <a:ext cx="12193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914400"/>
            <a:ext cx="1218960" cy="914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685800" y="5791320"/>
            <a:ext cx="1447560" cy="1191240"/>
            <a:chOff x="685800" y="5791320"/>
            <a:chExt cx="1447560" cy="119124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685800" y="5791320"/>
              <a:ext cx="1218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523880" y="65534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819520" y="4057560"/>
            <a:ext cx="1218960" cy="9144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705040" y="685800"/>
            <a:ext cx="1752480" cy="914400"/>
            <a:chOff x="2705040" y="685800"/>
            <a:chExt cx="1752480" cy="914400"/>
          </a:xfrm>
        </p:grpSpPr>
        <p:sp>
          <p:nvSpPr>
            <p:cNvPr id="60" name=""/>
            <p:cNvSpPr/>
            <p:nvPr/>
          </p:nvSpPr>
          <p:spPr>
            <a:xfrm>
              <a:off x="2705040" y="83808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3238560" y="685800"/>
              <a:ext cx="121896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2666880" y="2371680"/>
            <a:ext cx="1828800" cy="914400"/>
            <a:chOff x="2666880" y="2371680"/>
            <a:chExt cx="1828800" cy="914400"/>
          </a:xfrm>
        </p:grpSpPr>
        <p:sp>
          <p:nvSpPr>
            <p:cNvPr id="63" name=""/>
            <p:cNvSpPr/>
            <p:nvPr/>
          </p:nvSpPr>
          <p:spPr>
            <a:xfrm>
              <a:off x="2666880" y="252396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3276360" y="2371680"/>
              <a:ext cx="12193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2819520" y="5867280"/>
            <a:ext cx="1523880" cy="1114920"/>
            <a:chOff x="2819520" y="5867280"/>
            <a:chExt cx="1523880" cy="1114920"/>
          </a:xfrm>
        </p:grpSpPr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2819520" y="5867280"/>
              <a:ext cx="1218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733920" y="655308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09480" y="685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46674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7848720"/>
            <a:ext cx="944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ormanbirdsanctuary.org/beak_adaptations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5943600"/>
            <a:ext cx="4800600" cy="1648800"/>
            <a:chOff x="228600" y="5943600"/>
            <a:chExt cx="4800600" cy="1648800"/>
          </a:xfrm>
        </p:grpSpPr>
        <p:sp>
          <p:nvSpPr>
            <p:cNvPr id="72" name=""/>
            <p:cNvSpPr/>
            <p:nvPr/>
          </p:nvSpPr>
          <p:spPr>
            <a:xfrm>
              <a:off x="1295280" y="59436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28600" y="6019920"/>
              <a:ext cx="1219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6553440"/>
              <a:ext cx="3657600" cy="10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Seed eaters like sparrows and cardinals have short, thick conical bills for cracking seed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943600" y="6324480"/>
            <a:ext cx="4800600" cy="1371600"/>
            <a:chOff x="5943600" y="6324480"/>
            <a:chExt cx="4800600" cy="13716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943600" y="6781680"/>
              <a:ext cx="1219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400800" y="632448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86600" y="6477120"/>
              <a:ext cx="3657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Birds of prey like hawks and owls have sharp, curved bills for tearing meat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28600" y="4267080"/>
            <a:ext cx="5181120" cy="1447560"/>
            <a:chOff x="228600" y="4267080"/>
            <a:chExt cx="5181120" cy="144756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4724280"/>
              <a:ext cx="1904400" cy="990360"/>
              <a:chOff x="228600" y="4724280"/>
              <a:chExt cx="1904400" cy="990360"/>
            </a:xfrm>
          </p:grpSpPr>
          <p:sp>
            <p:nvSpPr>
              <p:cNvPr id="81" name=""/>
              <p:cNvSpPr/>
              <p:nvPr/>
            </p:nvSpPr>
            <p:spPr>
              <a:xfrm>
                <a:off x="228600" y="4724280"/>
                <a:ext cx="60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040" y="4800240"/>
                <a:ext cx="121896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"/>
            <p:cNvSpPr/>
            <p:nvPr/>
          </p:nvSpPr>
          <p:spPr>
            <a:xfrm>
              <a:off x="1752480" y="4267080"/>
              <a:ext cx="3657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Woodpeckers have bills that are long &amp; chisel-like for boring into wood to eat insect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943600" y="4191120"/>
            <a:ext cx="4495680" cy="1724760"/>
            <a:chOff x="5943600" y="4191120"/>
            <a:chExt cx="4495680" cy="172476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6095880" y="4419720"/>
              <a:ext cx="1219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943600" y="41911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4876920"/>
              <a:ext cx="3657600" cy="10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Hummingbird bills are long and slender for probing flowers for nectar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943600" y="533520"/>
            <a:ext cx="4876920" cy="1572480"/>
            <a:chOff x="5943600" y="533520"/>
            <a:chExt cx="4876920" cy="1572480"/>
          </a:xfrm>
        </p:grpSpPr>
        <p:grpSp>
          <p:nvGrpSpPr>
            <p:cNvPr id="89" name=""/>
            <p:cNvGrpSpPr/>
            <p:nvPr/>
          </p:nvGrpSpPr>
          <p:grpSpPr>
            <a:xfrm>
              <a:off x="5943600" y="533520"/>
              <a:ext cx="1752480" cy="914400"/>
              <a:chOff x="5943600" y="533520"/>
              <a:chExt cx="1752480" cy="914400"/>
            </a:xfrm>
          </p:grpSpPr>
          <p:sp>
            <p:nvSpPr>
              <p:cNvPr id="90" name=""/>
              <p:cNvSpPr/>
              <p:nvPr/>
            </p:nvSpPr>
            <p:spPr>
              <a:xfrm>
                <a:off x="7086600" y="609840"/>
                <a:ext cx="609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3600" y="533520"/>
                <a:ext cx="121932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7162920" y="1067040"/>
              <a:ext cx="3657600" cy="10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. Birds like herons &amp; kingfishers have spear-like bills adapted for fishing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" y="2438280"/>
            <a:ext cx="4952520" cy="1313640"/>
            <a:chOff x="228600" y="2438280"/>
            <a:chExt cx="4952520" cy="1313640"/>
          </a:xfrm>
        </p:grpSpPr>
        <p:grpSp>
          <p:nvGrpSpPr>
            <p:cNvPr id="94" name=""/>
            <p:cNvGrpSpPr/>
            <p:nvPr/>
          </p:nvGrpSpPr>
          <p:grpSpPr>
            <a:xfrm>
              <a:off x="228600" y="2438280"/>
              <a:ext cx="1752480" cy="914400"/>
              <a:chOff x="228600" y="2438280"/>
              <a:chExt cx="1752480" cy="914400"/>
            </a:xfrm>
          </p:grpSpPr>
          <p:sp>
            <p:nvSpPr>
              <p:cNvPr id="95" name=""/>
              <p:cNvSpPr/>
              <p:nvPr/>
            </p:nvSpPr>
            <p:spPr>
              <a:xfrm>
                <a:off x="228600" y="2590560"/>
                <a:ext cx="609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2120" y="2438280"/>
                <a:ext cx="121896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1523880" y="3048120"/>
              <a:ext cx="365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. Insect eaters like warblers have thin, pointed bill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943600" y="2422440"/>
            <a:ext cx="4647960" cy="1694520"/>
            <a:chOff x="5943600" y="2422440"/>
            <a:chExt cx="4647960" cy="1694520"/>
          </a:xfrm>
        </p:grpSpPr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5943600" y="2575080"/>
              <a:ext cx="1218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933960" y="3108240"/>
              <a:ext cx="3657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. Some ducks have long, flat bills that strain small plants and animals from the water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81680" y="24224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8600" y="457200"/>
            <a:ext cx="4619160" cy="1678680"/>
            <a:chOff x="228600" y="457200"/>
            <a:chExt cx="4619160" cy="1678680"/>
          </a:xfrm>
        </p:grpSpPr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580680" y="457200"/>
              <a:ext cx="1218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09280" y="1127160"/>
              <a:ext cx="40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. Crows have a multi-purpose bill that allows them to eat fruit, seeds, insects, fish, &amp; other animal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4856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49:39Z</dcterms:modified>
  <cp:revision>68</cp:revision>
  <dc:subject/>
  <dc:title>Who am I?</dc:title>
</cp:coreProperties>
</file>