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AEF-DD75-4EE8-844F-99F16BFC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FEA-CD50-43F8-AC7B-25732A7F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0B1-7A2E-4FC4-BB58-22CEE928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090-9D26-4E20-8237-632CF45A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4D9C-1432-4484-BBF5-46A8CB3C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058D-8278-4D94-97C6-C85D131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C97-0EAF-4947-A5F8-1FF7807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C80-4544-486E-9392-FF09F05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905-74CC-4D67-8359-BAE26C74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5C0-4DA7-48EE-8FA7-3A5ACEC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A1F-C28D-4398-BF65-D651439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E71-B6BA-49CC-A6D2-EBC2126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165CCBDC-997B-4C83-AA5E-98F9012915C9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181120"/>
            <a:ext cx="5745240" cy="160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these birds by their bea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Bird Basic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347328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76920" y="457200"/>
            <a:ext cx="586728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Used to crack open seeds</a:t>
            </a:r>
            <a:br>
              <a:rPr sz="28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Used to tear meat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Used to bore into trees for insects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Used to get nectar in flowers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 Used to strain plants and animals from water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Used to spear fish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. Used to catch and eat insects</a:t>
            </a:r>
            <a:br>
              <a:rPr sz="2800"/>
            </a:b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. A multipurpose bill used for fruit, seeds, insects, fish, and other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7848720"/>
            <a:ext cx="94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ormanbirdsanctuary.org/beak_adaptations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7200" y="2514600"/>
            <a:ext cx="1905120" cy="990360"/>
            <a:chOff x="457200" y="2514600"/>
            <a:chExt cx="1905120" cy="990360"/>
          </a:xfrm>
        </p:grpSpPr>
        <p:sp>
          <p:nvSpPr>
            <p:cNvPr id="49" name=""/>
            <p:cNvSpPr/>
            <p:nvPr/>
          </p:nvSpPr>
          <p:spPr>
            <a:xfrm>
              <a:off x="457200" y="25146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143000" y="2590560"/>
              <a:ext cx="12193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33520" y="4191120"/>
            <a:ext cx="1752480" cy="914400"/>
            <a:chOff x="533520" y="4191120"/>
            <a:chExt cx="1752480" cy="914400"/>
          </a:xfrm>
        </p:grpSpPr>
        <p:sp>
          <p:nvSpPr>
            <p:cNvPr id="52" name=""/>
            <p:cNvSpPr/>
            <p:nvPr/>
          </p:nvSpPr>
          <p:spPr>
            <a:xfrm>
              <a:off x="1676520" y="4267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33520" y="4191120"/>
              <a:ext cx="12193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12189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685800" y="5791320"/>
            <a:ext cx="1447560" cy="1191240"/>
            <a:chOff x="685800" y="5791320"/>
            <a:chExt cx="1447560" cy="119124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685800" y="579132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523880" y="6553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819520" y="4057560"/>
            <a:ext cx="12189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705040" y="685800"/>
            <a:ext cx="1752480" cy="914400"/>
            <a:chOff x="2705040" y="685800"/>
            <a:chExt cx="1752480" cy="914400"/>
          </a:xfrm>
        </p:grpSpPr>
        <p:sp>
          <p:nvSpPr>
            <p:cNvPr id="60" name=""/>
            <p:cNvSpPr/>
            <p:nvPr/>
          </p:nvSpPr>
          <p:spPr>
            <a:xfrm>
              <a:off x="2705040" y="8380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3238560" y="685800"/>
              <a:ext cx="121896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2666880" y="2371680"/>
            <a:ext cx="1828800" cy="914400"/>
            <a:chOff x="2666880" y="2371680"/>
            <a:chExt cx="1828800" cy="914400"/>
          </a:xfrm>
        </p:grpSpPr>
        <p:sp>
          <p:nvSpPr>
            <p:cNvPr id="63" name=""/>
            <p:cNvSpPr/>
            <p:nvPr/>
          </p:nvSpPr>
          <p:spPr>
            <a:xfrm>
              <a:off x="2666880" y="252396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3276360" y="2371680"/>
              <a:ext cx="121932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2819520" y="5867280"/>
            <a:ext cx="1523880" cy="1114920"/>
            <a:chOff x="2819520" y="5867280"/>
            <a:chExt cx="1523880" cy="1114920"/>
          </a:xfrm>
        </p:grpSpPr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2819520" y="586728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733920" y="65530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09480" y="68580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46674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7848720"/>
            <a:ext cx="94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ormanbirdsanctuary.org/beak_adaptations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8600" y="5943600"/>
            <a:ext cx="4800600" cy="1648800"/>
            <a:chOff x="228600" y="5943600"/>
            <a:chExt cx="4800600" cy="1648800"/>
          </a:xfrm>
        </p:grpSpPr>
        <p:sp>
          <p:nvSpPr>
            <p:cNvPr id="72" name=""/>
            <p:cNvSpPr/>
            <p:nvPr/>
          </p:nvSpPr>
          <p:spPr>
            <a:xfrm>
              <a:off x="1295280" y="59436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28600" y="601992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6553440"/>
              <a:ext cx="3657600" cy="10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Seed eaters like sparrows and cardinals have short, thick conical bills for cracking seed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943600" y="6324480"/>
            <a:ext cx="4800600" cy="1371600"/>
            <a:chOff x="5943600" y="6324480"/>
            <a:chExt cx="4800600" cy="13716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943600" y="678168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400800" y="63244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86600" y="6477120"/>
              <a:ext cx="3657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Birds of prey like hawks and owls have sharp, curved bills for tearing meat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28600" y="4267080"/>
            <a:ext cx="5181120" cy="1447560"/>
            <a:chOff x="228600" y="4267080"/>
            <a:chExt cx="5181120" cy="1447560"/>
          </a:xfrm>
        </p:grpSpPr>
        <p:grpSp>
          <p:nvGrpSpPr>
            <p:cNvPr id="80" name=""/>
            <p:cNvGrpSpPr/>
            <p:nvPr/>
          </p:nvGrpSpPr>
          <p:grpSpPr>
            <a:xfrm>
              <a:off x="228600" y="4724280"/>
              <a:ext cx="1904400" cy="990360"/>
              <a:chOff x="228600" y="4724280"/>
              <a:chExt cx="1904400" cy="990360"/>
            </a:xfrm>
          </p:grpSpPr>
          <p:sp>
            <p:nvSpPr>
              <p:cNvPr id="81" name=""/>
              <p:cNvSpPr/>
              <p:nvPr/>
            </p:nvSpPr>
            <p:spPr>
              <a:xfrm>
                <a:off x="228600" y="4724280"/>
                <a:ext cx="60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040" y="4800240"/>
                <a:ext cx="121896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"/>
            <p:cNvSpPr/>
            <p:nvPr/>
          </p:nvSpPr>
          <p:spPr>
            <a:xfrm>
              <a:off x="1752480" y="4267080"/>
              <a:ext cx="3657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Woodpeckers have bills that are long &amp; chisel-like for boring into wood to eat insect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943600" y="4191120"/>
            <a:ext cx="4495680" cy="1724760"/>
            <a:chOff x="5943600" y="4191120"/>
            <a:chExt cx="4495680" cy="172476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6095880" y="4419720"/>
              <a:ext cx="1219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943600" y="41911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7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4876920"/>
              <a:ext cx="3657600" cy="10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Hummingbird bills are long and slender for probing flowers for nectar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943600" y="533520"/>
            <a:ext cx="4876920" cy="1572480"/>
            <a:chOff x="5943600" y="533520"/>
            <a:chExt cx="4876920" cy="1572480"/>
          </a:xfrm>
        </p:grpSpPr>
        <p:grpSp>
          <p:nvGrpSpPr>
            <p:cNvPr id="89" name=""/>
            <p:cNvGrpSpPr/>
            <p:nvPr/>
          </p:nvGrpSpPr>
          <p:grpSpPr>
            <a:xfrm>
              <a:off x="5943600" y="533520"/>
              <a:ext cx="1752480" cy="914400"/>
              <a:chOff x="5943600" y="533520"/>
              <a:chExt cx="1752480" cy="914400"/>
            </a:xfrm>
          </p:grpSpPr>
          <p:sp>
            <p:nvSpPr>
              <p:cNvPr id="90" name=""/>
              <p:cNvSpPr/>
              <p:nvPr/>
            </p:nvSpPr>
            <p:spPr>
              <a:xfrm>
                <a:off x="7086600" y="609840"/>
                <a:ext cx="609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3600" y="533520"/>
                <a:ext cx="121932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7162920" y="1067040"/>
              <a:ext cx="3657600" cy="103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. Birds like herons &amp; kingfishers have spear-like bills adapted for fishing.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" y="2438280"/>
            <a:ext cx="4952520" cy="1313640"/>
            <a:chOff x="228600" y="2438280"/>
            <a:chExt cx="4952520" cy="1313640"/>
          </a:xfrm>
        </p:grpSpPr>
        <p:grpSp>
          <p:nvGrpSpPr>
            <p:cNvPr id="94" name=""/>
            <p:cNvGrpSpPr/>
            <p:nvPr/>
          </p:nvGrpSpPr>
          <p:grpSpPr>
            <a:xfrm>
              <a:off x="228600" y="2438280"/>
              <a:ext cx="1752480" cy="914400"/>
              <a:chOff x="228600" y="2438280"/>
              <a:chExt cx="1752480" cy="914400"/>
            </a:xfrm>
          </p:grpSpPr>
          <p:sp>
            <p:nvSpPr>
              <p:cNvPr id="95" name=""/>
              <p:cNvSpPr/>
              <p:nvPr/>
            </p:nvSpPr>
            <p:spPr>
              <a:xfrm>
                <a:off x="228600" y="2590560"/>
                <a:ext cx="609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2120" y="2438280"/>
                <a:ext cx="121896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1523880" y="3048120"/>
              <a:ext cx="365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. Insect eaters like warblers have thin, pointed bil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943600" y="2422440"/>
            <a:ext cx="4647960" cy="1694520"/>
            <a:chOff x="5943600" y="2422440"/>
            <a:chExt cx="4647960" cy="1694520"/>
          </a:xfrm>
        </p:grpSpPr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5943600" y="257508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933960" y="3108240"/>
              <a:ext cx="3657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. Some ducks have long, flat bills that strain small plants and animals from the wate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81680" y="2422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28600" y="457200"/>
            <a:ext cx="4619160" cy="1678680"/>
            <a:chOff x="228600" y="457200"/>
            <a:chExt cx="4619160" cy="1678680"/>
          </a:xfrm>
        </p:grpSpPr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580680" y="457200"/>
              <a:ext cx="1218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09280" y="112716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. Crows have a multi-purpose bill that allows them to eat fruit, seeds, insects, fish, &amp; other animal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4856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49:39Z</dcterms:modified>
  <cp:revision>68</cp:revision>
  <dc:subject/>
  <dc:title>Who am I?</dc:title>
</cp:coreProperties>
</file>