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058-B3EB-42E7-B5CC-134A56DE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0FC-652F-4ED2-833F-6484691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D66-619D-40D8-8A29-972CE20D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C4D-D877-4912-84D7-4872E943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733-5BBB-4C49-B24A-9CAA0B4B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2EA-649C-4413-8887-C69AECF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F7D-6BE8-4A7A-A8F6-11D1719D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978-5985-4935-86A3-59DA222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A2F-01F2-4971-8CF2-E89951B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186-F5EF-4912-9312-505FA3A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D47-4CB9-46CC-A5E6-9AA5770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24D-6E66-4379-8D8A-039CF29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2D875C15-FB75-4396-80AB-2ABAD258136F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54100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some common Illinois cri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665200">
            <a:off x="243000" y="864720"/>
            <a:ext cx="9815400" cy="27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Srambled Critt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13640" y="2666880"/>
            <a:ext cx="2987640" cy="518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6320"/>
            <a:ext cx="109728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some common Illinois cri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1 –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DE 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2 – LU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 NK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3 – AN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EDT  RUL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4 – TIO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5 – CA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6720" y="838080"/>
            <a:ext cx="2857320" cy="2600280"/>
            <a:chOff x="666720" y="838080"/>
            <a:chExt cx="2857320" cy="26002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6720" y="1295280"/>
              <a:ext cx="2857320" cy="214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761760" y="838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- Leopar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543800" y="4114800"/>
            <a:ext cx="2743200" cy="3698280"/>
            <a:chOff x="7543800" y="4114800"/>
            <a:chExt cx="2743200" cy="36982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696080" y="4114800"/>
              <a:ext cx="2354400" cy="3124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2" name=""/>
            <p:cNvSpPr/>
            <p:nvPr/>
          </p:nvSpPr>
          <p:spPr>
            <a:xfrm>
              <a:off x="7543800" y="7353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- Racc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09480" y="4876920"/>
            <a:ext cx="2971800" cy="2676240"/>
            <a:chOff x="609480" y="4876920"/>
            <a:chExt cx="2971800" cy="267624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66720" y="5410080"/>
              <a:ext cx="2857320" cy="214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609480" y="48769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- Bull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038480" y="3657600"/>
            <a:ext cx="2971800" cy="2650320"/>
            <a:chOff x="4038480" y="3657600"/>
            <a:chExt cx="2971800" cy="2650320"/>
          </a:xfrm>
        </p:grpSpPr>
        <p:sp>
          <p:nvSpPr>
            <p:cNvPr id="57" name=""/>
            <p:cNvSpPr/>
            <p:nvPr/>
          </p:nvSpPr>
          <p:spPr>
            <a:xfrm>
              <a:off x="4038480" y="58482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- Painted Tur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4081320" y="3657600"/>
              <a:ext cx="2857680" cy="2142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7429680" y="838080"/>
            <a:ext cx="2971800" cy="2581560"/>
            <a:chOff x="7429680" y="838080"/>
            <a:chExt cx="2971800" cy="2581560"/>
          </a:xfrm>
        </p:grpSpPr>
        <p:sp>
          <p:nvSpPr>
            <p:cNvPr id="60" name=""/>
            <p:cNvSpPr/>
            <p:nvPr/>
          </p:nvSpPr>
          <p:spPr>
            <a:xfrm>
              <a:off x="7429680" y="838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- Cottont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7506000" y="1295280"/>
              <a:ext cx="2819520" cy="212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62" name=""/>
          <p:cNvSpPr/>
          <p:nvPr/>
        </p:nvSpPr>
        <p:spPr>
          <a:xfrm>
            <a:off x="175248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5:51Z</dcterms:modified>
  <cp:revision>82</cp:revision>
  <dc:subject/>
  <dc:title>Who am I?</dc:title>
</cp:coreProperties>
</file>