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88F-B3FF-4F55-A550-23C8F45D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203-3B53-42FC-93E2-28293D7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959-3388-489D-8972-D87D3E0C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227-AD82-4A84-AD3B-4AF418E3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42A5-4CCB-4AFA-8103-4FA786E5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3F0-A58E-4D02-938A-185E19FE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D0B-9315-48A1-88B1-2B0FCDA7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9042-EE1C-4A60-B10B-E1FDBABE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27B-9E54-47F2-AE74-50B5BB4C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5FA-DFF6-476F-9C4F-16E668A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8EA-6538-416F-A643-63EC792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FBD4-883E-4628-A39C-C792795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39285C96-4418-433B-8514-6AA4A94BA409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54100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of some common Illinois cri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665200">
            <a:off x="243000" y="864720"/>
            <a:ext cx="9815400" cy="27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Srambled Critt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13640" y="2666880"/>
            <a:ext cx="2987640" cy="518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6320"/>
            <a:ext cx="109728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reveal the names of some common Illinois cri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1 –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DE G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2 – LU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  NK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3 – AN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EDT  RUL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4 – TIOT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#5 – CA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66720" y="838080"/>
            <a:ext cx="2857320" cy="2600280"/>
            <a:chOff x="666720" y="838080"/>
            <a:chExt cx="2857320" cy="26002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6720" y="1295280"/>
              <a:ext cx="2857320" cy="214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761760" y="8380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- Leopard Fr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543800" y="4114800"/>
            <a:ext cx="2743200" cy="3698280"/>
            <a:chOff x="7543800" y="4114800"/>
            <a:chExt cx="2743200" cy="369828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696080" y="4114800"/>
              <a:ext cx="2354400" cy="3124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2" name=""/>
            <p:cNvSpPr/>
            <p:nvPr/>
          </p:nvSpPr>
          <p:spPr>
            <a:xfrm>
              <a:off x="7543800" y="73533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- Racco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09480" y="4876920"/>
            <a:ext cx="2971800" cy="2676240"/>
            <a:chOff x="609480" y="4876920"/>
            <a:chExt cx="2971800" cy="267624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666720" y="5410080"/>
              <a:ext cx="2857320" cy="214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609480" y="48769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- Bull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038480" y="3657600"/>
            <a:ext cx="2971800" cy="2650320"/>
            <a:chOff x="4038480" y="3657600"/>
            <a:chExt cx="2971800" cy="2650320"/>
          </a:xfrm>
        </p:grpSpPr>
        <p:sp>
          <p:nvSpPr>
            <p:cNvPr id="57" name=""/>
            <p:cNvSpPr/>
            <p:nvPr/>
          </p:nvSpPr>
          <p:spPr>
            <a:xfrm>
              <a:off x="4038480" y="58482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- Painted Tur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4081320" y="3657600"/>
              <a:ext cx="2857680" cy="2142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7429680" y="838080"/>
            <a:ext cx="2971800" cy="2581560"/>
            <a:chOff x="7429680" y="838080"/>
            <a:chExt cx="2971800" cy="2581560"/>
          </a:xfrm>
        </p:grpSpPr>
        <p:sp>
          <p:nvSpPr>
            <p:cNvPr id="60" name=""/>
            <p:cNvSpPr/>
            <p:nvPr/>
          </p:nvSpPr>
          <p:spPr>
            <a:xfrm>
              <a:off x="7429680" y="838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- Cottont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7506000" y="1295280"/>
              <a:ext cx="2819520" cy="212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62" name=""/>
          <p:cNvSpPr/>
          <p:nvPr/>
        </p:nvSpPr>
        <p:spPr>
          <a:xfrm>
            <a:off x="175248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5:51Z</dcterms:modified>
  <cp:revision>82</cp:revision>
  <dc:subject/>
  <dc:title>Who am I?</dc:title>
</cp:coreProperties>
</file>