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5F8-D38B-4F11-9CFA-C2CD974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D0B-7FFD-4CD2-B599-4F60B7CC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1F7-2298-42FF-A6D4-6A239B5B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6CC-87FD-4CE8-987E-D3724D4D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2D4-DDEB-4FDF-A68C-24DA4104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D67-9458-4FC4-896E-AB3D2106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D70-78EA-412A-AF1B-155FF0E9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C54-E942-4DC2-AA37-C9DEDC1D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D1E-80B1-4539-950D-C20E0CC7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AC0-5108-453B-9CA8-1224699D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1AE-CC5B-43C3-AE60-2DEBC3E8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BBA-9FAB-4031-917B-680F9AF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CC9E96C7-006F-4C1F-B74E-C9F7D0D11EC9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saustralia.com/koala450j.jpg" TargetMode="External"/><Relationship Id="rId2" Type="http://schemas.openxmlformats.org/officeDocument/2006/relationships/hyperlink" Target="http://dsc.discovery.com/news/briefs/20041025/gallery/bat2_zoom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1059192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eal the names 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’m a pouched mammal, but many people think I am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W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  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the only flying mam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 A   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the largest member of the canin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 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P C A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marine mammal known for its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E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E F G R I 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considered the tallest mammal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’m a pouched mammal, but many people think I am a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the only flying mam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the largest member of the canin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water dwelling mammal known for my so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considered the tallest mammal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371600" y="228600"/>
            <a:ext cx="8386920" cy="2376360"/>
            <a:chOff x="1371600" y="228600"/>
            <a:chExt cx="8386920" cy="2376360"/>
          </a:xfrm>
        </p:grpSpPr>
        <p:sp>
          <p:nvSpPr>
            <p:cNvPr id="49" name=""/>
            <p:cNvSpPr/>
            <p:nvPr/>
          </p:nvSpPr>
          <p:spPr>
            <a:xfrm>
              <a:off x="1371600" y="2133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O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7543800" y="228600"/>
              <a:ext cx="2214720" cy="23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1371600" y="1905120"/>
            <a:ext cx="6553080" cy="1868400"/>
            <a:chOff x="1371600" y="1905120"/>
            <a:chExt cx="6553080" cy="1868400"/>
          </a:xfrm>
        </p:grpSpPr>
        <p:sp>
          <p:nvSpPr>
            <p:cNvPr id="52" name=""/>
            <p:cNvSpPr/>
            <p:nvPr/>
          </p:nvSpPr>
          <p:spPr>
            <a:xfrm>
              <a:off x="1371600" y="32004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ROWN 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rcRect l="4073" t="3681" r="5557" b="3681"/>
            <a:stretch/>
          </p:blipFill>
          <p:spPr>
            <a:xfrm>
              <a:off x="5334120" y="1905120"/>
              <a:ext cx="2590560" cy="186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1371600" y="2514600"/>
            <a:ext cx="8910720" cy="2819520"/>
            <a:chOff x="1371600" y="2514600"/>
            <a:chExt cx="8910720" cy="2819520"/>
          </a:xfrm>
        </p:grpSpPr>
        <p:sp>
          <p:nvSpPr>
            <p:cNvPr id="55" name=""/>
            <p:cNvSpPr/>
            <p:nvPr/>
          </p:nvSpPr>
          <p:spPr>
            <a:xfrm>
              <a:off x="1371600" y="4267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Y WOL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rcRect l="0" t="7335" r="15719" b="0"/>
            <a:stretch/>
          </p:blipFill>
          <p:spPr>
            <a:xfrm>
              <a:off x="8229600" y="2514600"/>
              <a:ext cx="2052720" cy="281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1371600" y="5105520"/>
            <a:ext cx="9277200" cy="2116080"/>
            <a:chOff x="1371600" y="5105520"/>
            <a:chExt cx="9277200" cy="2116080"/>
          </a:xfrm>
        </p:grpSpPr>
        <p:sp>
          <p:nvSpPr>
            <p:cNvPr id="58" name=""/>
            <p:cNvSpPr/>
            <p:nvPr/>
          </p:nvSpPr>
          <p:spPr>
            <a:xfrm>
              <a:off x="137160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UMPBACK WH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7315200" y="5105520"/>
              <a:ext cx="3333600" cy="211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1371600" y="6248520"/>
            <a:ext cx="6172200" cy="1766880"/>
            <a:chOff x="1371600" y="6248520"/>
            <a:chExt cx="6172200" cy="1766880"/>
          </a:xfrm>
        </p:grpSpPr>
        <p:sp>
          <p:nvSpPr>
            <p:cNvPr id="61" name=""/>
            <p:cNvSpPr/>
            <p:nvPr/>
          </p:nvSpPr>
          <p:spPr>
            <a:xfrm>
              <a:off x="1371600" y="6553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RAF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rcRect l="10345" t="0" r="0" b="0"/>
            <a:stretch/>
          </p:blipFill>
          <p:spPr>
            <a:xfrm>
              <a:off x="5562720" y="6248520"/>
              <a:ext cx="1981080" cy="176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080" y="290520"/>
            <a:ext cx="107442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e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ala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magesaustralia.com/koala450j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own Bat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sc.discovery.com/news/briefs/20041025/gallery/bat2_zoom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y Wolf - http://fohn.net/wolf-pictures-facts/gray-wolf-gazing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pback Whale - http://www.theage.com.au/ffximage/2005/06/29/humpback_wideweb__430x273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raffe - http://www.zoo-berlin.de/fileadmin/user_upload/dateien/wallpaper/zoo-berlin_giraffe_1280x1024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1T01:31:34Z</dcterms:modified>
  <cp:revision>100</cp:revision>
  <dc:subject/>
  <dc:title>Who am I?</dc:title>
</cp:coreProperties>
</file>