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C26-1A5A-4E77-AEA1-400A4AD1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36C-3AFB-4965-A9A2-6BF85F36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A7A-5CC9-429B-A912-129BB687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DE7-0560-4270-8AE4-73BC82B3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A9C-3922-4265-AA68-8D89960F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B86-628B-4D97-97AA-03988F7A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D8F-0A95-40D6-84DA-C1E4EE9B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459-C028-4075-B6E0-B0586DFD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E34-3868-4DA4-AD97-70743874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C91-ECD7-4B6B-BE8E-BD3C305F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B36-818C-4B27-B65D-D6E40B19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0A5-7EAB-4ECC-B4B4-049FB221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8B0ADC97-C4C0-4465-A65D-3192EAF76855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cache2.allposters.com/images/pic/NYG/78027~Great-White-Shark-Posters.jpg" TargetMode="External"/><Relationship Id="rId2" Type="http://schemas.openxmlformats.org/officeDocument/2006/relationships/hyperlink" Target="http://images.wildmadagascar.org/pictures/masoala/Tomato%20frog%201.jp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0552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 #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figure out the nam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these 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62200">
            <a:off x="425160" y="1290600"/>
            <a:ext cx="10126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Srambled Critt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7620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10591920" cy="77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unscramble the letters below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eal the names of these 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y skeleton is made out of carti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O T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a bright red amphibian with poison glands beh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y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 T A L I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 am a large reptile that lives mainly in fresh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T 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 I S 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land-dwelling turtle with a domed-shaped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A 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A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a raptor that can be found on flags, money,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ther governmental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219320"/>
            <a:ext cx="7620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y skeleton is made out of carti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a bright red amphibian with poison glands beh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 am a large reptile that lives mainly in fresh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land-dwelling turtles with a domed-shaped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a raptor that can be found on flags, money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overnmental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102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228600"/>
            <a:ext cx="6176880" cy="2057400"/>
            <a:chOff x="533520" y="228600"/>
            <a:chExt cx="6176880" cy="2057400"/>
          </a:xfrm>
        </p:grpSpPr>
        <p:sp>
          <p:nvSpPr>
            <p:cNvPr id="49" name=""/>
            <p:cNvSpPr/>
            <p:nvPr/>
          </p:nvSpPr>
          <p:spPr>
            <a:xfrm>
              <a:off x="533520" y="17524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A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5334120" y="228600"/>
              <a:ext cx="137628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533520" y="1066680"/>
            <a:ext cx="9020160" cy="2517120"/>
            <a:chOff x="533520" y="1066680"/>
            <a:chExt cx="9020160" cy="2517120"/>
          </a:xfrm>
        </p:grpSpPr>
        <p:sp>
          <p:nvSpPr>
            <p:cNvPr id="52" name=""/>
            <p:cNvSpPr/>
            <p:nvPr/>
          </p:nvSpPr>
          <p:spPr>
            <a:xfrm>
              <a:off x="533520" y="3124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MATO TO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858000" y="1066680"/>
              <a:ext cx="2695680" cy="20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533520" y="2438280"/>
            <a:ext cx="10261440" cy="3057480"/>
            <a:chOff x="533520" y="2438280"/>
            <a:chExt cx="10261440" cy="3057480"/>
          </a:xfrm>
        </p:grpSpPr>
        <p:sp>
          <p:nvSpPr>
            <p:cNvPr id="55" name=""/>
            <p:cNvSpPr/>
            <p:nvPr/>
          </p:nvSpPr>
          <p:spPr>
            <a:xfrm>
              <a:off x="533520" y="41911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LIG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8610480" y="2438280"/>
              <a:ext cx="2184480" cy="30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533520" y="4038480"/>
            <a:ext cx="7905600" cy="2035440"/>
            <a:chOff x="533520" y="4038480"/>
            <a:chExt cx="7905600" cy="2035440"/>
          </a:xfrm>
        </p:grpSpPr>
        <p:sp>
          <p:nvSpPr>
            <p:cNvPr id="58" name=""/>
            <p:cNvSpPr/>
            <p:nvPr/>
          </p:nvSpPr>
          <p:spPr>
            <a:xfrm>
              <a:off x="533520" y="5410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RTOS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5867280" y="4038480"/>
              <a:ext cx="2571840" cy="203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533520" y="5410080"/>
            <a:ext cx="10104480" cy="2590920"/>
            <a:chOff x="533520" y="5410080"/>
            <a:chExt cx="10104480" cy="2590920"/>
          </a:xfrm>
        </p:grpSpPr>
        <p:sp>
          <p:nvSpPr>
            <p:cNvPr id="61" name=""/>
            <p:cNvSpPr/>
            <p:nvPr/>
          </p:nvSpPr>
          <p:spPr>
            <a:xfrm>
              <a:off x="533520" y="68580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LD EA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8915400" y="5410080"/>
              <a:ext cx="1722600" cy="259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10439280" cy="70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age Cred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k –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cache2.allposters.com/images/pic/NYG/78027~Great-White-Shark-Posters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mato Toad –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wildmadagascar.org/pictures/masoala/Tomato%20frog%201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gator – http://www.knowledgerush.com/wiki_image/1/1c/Florida_Alligator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rtoise – http://spot.colorado.edu/~humphrey/fact%20sheets/tortoise_galapagos/images/tortoise_photo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d Eagle - http://islandfox.org/uploaded_images/beagle-706532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6-03T02:47:17Z</dcterms:modified>
  <cp:revision>92</cp:revision>
  <dc:subject/>
  <dc:title>Who am I?</dc:title>
</cp:coreProperties>
</file>