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6F2-BA81-4BB1-951F-EE86E086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55E4-5DD7-4D1F-A73A-3DE5C453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31F6-DF9A-4C74-8C59-E8A18579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BE42-7213-42CA-BB53-E0C32581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2AC-D95D-4583-AFD2-48BAEF03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58A-D878-4631-975F-8B7AADD9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48E-0C3D-4DCC-B681-CCB19EAE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CB7-B820-4DC0-8931-DBE2D654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09C-468A-43F7-B19F-759B4C5F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2BB-E073-4EA1-86CA-184DD77E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37D-FB10-432C-B18B-F95C5A54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FB69-CEE9-49F5-8851-0F49C3C4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6BF0D3D2-563A-4C49-BC7F-773BB234F364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cache2.allposters.com/images/pic/NYG/78027~Great-White-Shark-Posters.jpg" TargetMode="External"/><Relationship Id="rId2" Type="http://schemas.openxmlformats.org/officeDocument/2006/relationships/hyperlink" Target="http://images.wildmadagascar.org/pictures/masoala/Tomato%20frog%201.jpg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5105520"/>
            <a:ext cx="6781680" cy="22860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llenge #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figure out the nam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these vertebr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962200">
            <a:off x="425160" y="1290600"/>
            <a:ext cx="101264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Srambled Critter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7620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228600"/>
            <a:ext cx="10591920" cy="77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unscramble the letters below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veal the names of these vertebr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 H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My skeleton is made out of cartil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 O T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 a bright red amphibian with poison glands beh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y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 T A L I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 am a large reptile that lives mainly in fresh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T 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 I S 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a land-dwelling turtle with a domed-shaped sh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A 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A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 a raptor that can be found on flags, money,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other governmental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219320"/>
            <a:ext cx="7620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My skeleton is made out of cartil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 a bright red amphibian with poison glands beh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 am a large reptile that lives mainly in fresh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a land-dwelling turtles with a domed-shaped sh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 a raptor that can be found on flags, money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governmental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28600"/>
            <a:ext cx="1028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33520" y="228600"/>
            <a:ext cx="6176880" cy="2057400"/>
            <a:chOff x="533520" y="228600"/>
            <a:chExt cx="6176880" cy="2057400"/>
          </a:xfrm>
        </p:grpSpPr>
        <p:sp>
          <p:nvSpPr>
            <p:cNvPr id="49" name=""/>
            <p:cNvSpPr/>
            <p:nvPr/>
          </p:nvSpPr>
          <p:spPr>
            <a:xfrm>
              <a:off x="533520" y="17524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A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5334120" y="228600"/>
              <a:ext cx="137628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533520" y="1066680"/>
            <a:ext cx="9020160" cy="2517120"/>
            <a:chOff x="533520" y="1066680"/>
            <a:chExt cx="9020160" cy="2517120"/>
          </a:xfrm>
        </p:grpSpPr>
        <p:sp>
          <p:nvSpPr>
            <p:cNvPr id="52" name=""/>
            <p:cNvSpPr/>
            <p:nvPr/>
          </p:nvSpPr>
          <p:spPr>
            <a:xfrm>
              <a:off x="533520" y="31240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MATO TO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6858000" y="1066680"/>
              <a:ext cx="2695680" cy="202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533520" y="2438280"/>
            <a:ext cx="10261440" cy="3057480"/>
            <a:chOff x="533520" y="2438280"/>
            <a:chExt cx="10261440" cy="3057480"/>
          </a:xfrm>
        </p:grpSpPr>
        <p:sp>
          <p:nvSpPr>
            <p:cNvPr id="55" name=""/>
            <p:cNvSpPr/>
            <p:nvPr/>
          </p:nvSpPr>
          <p:spPr>
            <a:xfrm>
              <a:off x="533520" y="41911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LIG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8610480" y="2438280"/>
              <a:ext cx="2184480" cy="305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533520" y="4038480"/>
            <a:ext cx="7905600" cy="2035440"/>
            <a:chOff x="533520" y="4038480"/>
            <a:chExt cx="7905600" cy="2035440"/>
          </a:xfrm>
        </p:grpSpPr>
        <p:sp>
          <p:nvSpPr>
            <p:cNvPr id="58" name=""/>
            <p:cNvSpPr/>
            <p:nvPr/>
          </p:nvSpPr>
          <p:spPr>
            <a:xfrm>
              <a:off x="533520" y="54100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RTOS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5867280" y="4038480"/>
              <a:ext cx="2571840" cy="203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533520" y="5410080"/>
            <a:ext cx="10104480" cy="2590920"/>
            <a:chOff x="533520" y="5410080"/>
            <a:chExt cx="10104480" cy="2590920"/>
          </a:xfrm>
        </p:grpSpPr>
        <p:sp>
          <p:nvSpPr>
            <p:cNvPr id="61" name=""/>
            <p:cNvSpPr/>
            <p:nvPr/>
          </p:nvSpPr>
          <p:spPr>
            <a:xfrm>
              <a:off x="533520" y="68580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ALD EAG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8915400" y="5410080"/>
              <a:ext cx="1722600" cy="2590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304920"/>
            <a:ext cx="10439280" cy="70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age Cred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k –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agecache2.allposters.com/images/pic/NYG/78027~Great-White-Shark-Posters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mato Toad –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wildmadagascar.org/pictures/masoala/Tomato%20frog%201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igator – http://www.knowledgerush.com/wiki_image/1/1c/Florida_Alligator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rtoise – http://spot.colorado.edu/~humphrey/fact%20sheets/tortoise_galapagos/images/tortoise_photo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d Eagle - http://islandfox.org/uploaded_images/beagle-706532.jp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6-03T02:47:17Z</dcterms:modified>
  <cp:revision>92</cp:revision>
  <dc:subject/>
  <dc:title>Who am I?</dc:title>
</cp:coreProperties>
</file>