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260D-7EC6-45FB-BF9A-9C8DD595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4E3D-ED7C-43C1-A748-2740CCC8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EF8B-FFD2-4AE5-8DC0-44A882E4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0BD8-4726-44B6-B191-34F3850D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7172-6B85-43B1-8A38-CC81680A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650D-692C-421B-A8A1-B0F7555E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32BB-E3FF-45B3-99AC-4CDA6CBC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EC5E-9360-49BB-A598-2D0FBCE5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E807-0A37-4FA8-96C2-CA833E1D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FFDA-2B82-46EC-86C7-819510A1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94C1-BF09-4A72-A3D9-3ED0F255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E9E6-395B-4D17-B863-AC76AB74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C3541218-4EA1-4844-860F-AACFC80B413A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idzcraftz.ca/pics/Ladybug6.jpg" TargetMode="External"/><Relationship Id="rId2" Type="http://schemas.openxmlformats.org/officeDocument/2006/relationships/hyperlink" Target="http://www.chbr.noaa.gov/categories/raim/images/coral_01.jpg" TargetMode="External"/><Relationship Id="rId3" Type="http://schemas.openxmlformats.org/officeDocument/2006/relationships/hyperlink" Target="http://w3.rennes.inra.fr/umrbio3pE/equipes/nematodes/images/lamelle-460.jpg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362320" y="5105520"/>
            <a:ext cx="6781680" cy="22860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llenge #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figure out the names of these invertebr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20962200">
            <a:off x="425160" y="1290600"/>
            <a:ext cx="101264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oper Black"/>
              </a:rPr>
              <a:t>Srambled Critter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7620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228600"/>
            <a:ext cx="1059192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unscramble the letters below to reveal the names of these invertebr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A B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Y G 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 am a good defense against aph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 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A 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be found in “great” places in the ocea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A W R 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 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’m a parasite found in the digestive tract of mam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 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E A D 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might have been responsible for destroy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pongeBob’s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O T U S C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have tentacles and can release ink into the water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help me hide from predato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447920"/>
            <a:ext cx="10287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 am a good defense against aph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be found in “great” places in the ocea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’m a parasite found in the digestive tract of mam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might have been responsible for destroy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pongeBob’s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have tentacles and can release ink into the water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help me hide from predato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228600"/>
            <a:ext cx="1028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nswers are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33520" y="4343400"/>
            <a:ext cx="9967680" cy="2023920"/>
            <a:chOff x="533520" y="4343400"/>
            <a:chExt cx="9967680" cy="2023920"/>
          </a:xfrm>
        </p:grpSpPr>
        <p:sp>
          <p:nvSpPr>
            <p:cNvPr id="49" name=""/>
            <p:cNvSpPr/>
            <p:nvPr/>
          </p:nvSpPr>
          <p:spPr>
            <a:xfrm>
              <a:off x="533520" y="55627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MAT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8305920" y="4343400"/>
              <a:ext cx="2195280" cy="20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"/>
          <p:cNvGrpSpPr/>
          <p:nvPr/>
        </p:nvGrpSpPr>
        <p:grpSpPr>
          <a:xfrm>
            <a:off x="533520" y="380880"/>
            <a:ext cx="7524720" cy="1983960"/>
            <a:chOff x="533520" y="380880"/>
            <a:chExt cx="7524720" cy="1983960"/>
          </a:xfrm>
        </p:grpSpPr>
        <p:sp>
          <p:nvSpPr>
            <p:cNvPr id="52" name=""/>
            <p:cNvSpPr/>
            <p:nvPr/>
          </p:nvSpPr>
          <p:spPr>
            <a:xfrm>
              <a:off x="533520" y="19051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ADYBU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rcRect l="0" t="0" r="22415" b="31610"/>
            <a:stretch/>
          </p:blipFill>
          <p:spPr>
            <a:xfrm>
              <a:off x="5486400" y="380880"/>
              <a:ext cx="2571840" cy="170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533520" y="1066680"/>
            <a:ext cx="10172520" cy="2364840"/>
            <a:chOff x="533520" y="1066680"/>
            <a:chExt cx="10172520" cy="2364840"/>
          </a:xfrm>
        </p:grpSpPr>
        <p:sp>
          <p:nvSpPr>
            <p:cNvPr id="55" name=""/>
            <p:cNvSpPr/>
            <p:nvPr/>
          </p:nvSpPr>
          <p:spPr>
            <a:xfrm>
              <a:off x="533520" y="297180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R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7772400" y="1066680"/>
              <a:ext cx="2933640" cy="210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"/>
          <p:cNvGrpSpPr/>
          <p:nvPr/>
        </p:nvGrpSpPr>
        <p:grpSpPr>
          <a:xfrm>
            <a:off x="533520" y="2971800"/>
            <a:ext cx="8991360" cy="1526400"/>
            <a:chOff x="533520" y="2971800"/>
            <a:chExt cx="8991360" cy="1526400"/>
          </a:xfrm>
        </p:grpSpPr>
        <p:sp>
          <p:nvSpPr>
            <p:cNvPr id="58" name=""/>
            <p:cNvSpPr/>
            <p:nvPr/>
          </p:nvSpPr>
          <p:spPr>
            <a:xfrm>
              <a:off x="533520" y="403848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PEWO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4"/>
            <a:srcRect l="10002" t="0" r="0" b="0"/>
            <a:stretch/>
          </p:blipFill>
          <p:spPr>
            <a:xfrm>
              <a:off x="7543800" y="2971800"/>
              <a:ext cx="1981080" cy="146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"/>
          <p:cNvGrpSpPr/>
          <p:nvPr/>
        </p:nvGrpSpPr>
        <p:grpSpPr>
          <a:xfrm>
            <a:off x="533520" y="5867280"/>
            <a:ext cx="9524880" cy="2114640"/>
            <a:chOff x="533520" y="5867280"/>
            <a:chExt cx="9524880" cy="2114640"/>
          </a:xfrm>
        </p:grpSpPr>
        <p:sp>
          <p:nvSpPr>
            <p:cNvPr id="61" name=""/>
            <p:cNvSpPr/>
            <p:nvPr/>
          </p:nvSpPr>
          <p:spPr>
            <a:xfrm>
              <a:off x="533520" y="69343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CTOP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7238880" y="5867280"/>
              <a:ext cx="2819520" cy="211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304920"/>
            <a:ext cx="1043928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age Cred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dybug -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kidzcraftz.ca/pics/Ladybug6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al -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hbr.noaa.gov/categories/raim/images/coral_01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peworm – http://www.cheamviewvet.com/images/Tapeworm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matode -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3.rennes.inra.fr/umrbio3pE/equipes/nematodes/images/lamelle-460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topus – http://upload.wikimedia.org/wikipedia/commons/thumb/2/23/Moving_Octopus_Vulgaris_2005-01-14.ogg/mid-Moving_Octopus_Vulgaris_2005-01-14.ogg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6-03T02:45:51Z</dcterms:modified>
  <cp:revision>84</cp:revision>
  <dc:subject/>
  <dc:title>Who am I?</dc:title>
</cp:coreProperties>
</file>