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82B-EF5A-4BC2-8ACF-1FDDE194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27D-48C2-4496-9134-B5C1E2C8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3D0-47A5-44A9-859A-5613D114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61A1-F722-4841-BF2B-54BD7FD8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B6C-BCC6-4456-8666-DEB6DB5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24D-EE49-4E91-91A8-87A8A0FA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840-5A06-48FB-8D3C-37C3F2A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7CD-A71E-4923-9D0C-2251A3E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EF1-18C7-4EA7-9828-DD6CB40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919-3777-485F-B456-E5BFBC7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769-D671-489D-924B-936858B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03A-1013-43E3-9D84-B4F8D00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A40E7583-84C7-4FBD-A36D-BAC9634EFB4D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idzcraftz.ca/pics/Ladybug6.jpg" TargetMode="External"/><Relationship Id="rId2" Type="http://schemas.openxmlformats.org/officeDocument/2006/relationships/hyperlink" Target="http://www.chbr.noaa.gov/categories/raim/images/coral_01.jpg" TargetMode="External"/><Relationship Id="rId3" Type="http://schemas.openxmlformats.org/officeDocument/2006/relationships/hyperlink" Target="http://w3.rennes.inra.fr/umrbio3pE/equipes/nematodes/images/lamelle-460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these in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A B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 G 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a good defense against aph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in “great” places in the oce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A W R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 parasite found in the digestive tract of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E A D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ight have been responsible for destroy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pongeBob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O T U S 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tentacles and can release ink into the water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elp me hide from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447920"/>
            <a:ext cx="10287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 am a good defense against aph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in “great” places in the oce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’m a parasite found in the digestive tract of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ight have been responsible for destroy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pongeBob’s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tentacles and can release ink into the water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help me hide from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4343400"/>
            <a:ext cx="9967680" cy="2023920"/>
            <a:chOff x="533520" y="4343400"/>
            <a:chExt cx="9967680" cy="2023920"/>
          </a:xfrm>
        </p:grpSpPr>
        <p:sp>
          <p:nvSpPr>
            <p:cNvPr id="49" name=""/>
            <p:cNvSpPr/>
            <p:nvPr/>
          </p:nvSpPr>
          <p:spPr>
            <a:xfrm>
              <a:off x="53352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MAT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305920" y="4343400"/>
              <a:ext cx="2195280" cy="20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380880"/>
            <a:ext cx="7524720" cy="1983960"/>
            <a:chOff x="533520" y="380880"/>
            <a:chExt cx="7524720" cy="1983960"/>
          </a:xfrm>
        </p:grpSpPr>
        <p:sp>
          <p:nvSpPr>
            <p:cNvPr id="52" name=""/>
            <p:cNvSpPr/>
            <p:nvPr/>
          </p:nvSpPr>
          <p:spPr>
            <a:xfrm>
              <a:off x="533520" y="1905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DYBU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0" t="0" r="22415" b="31610"/>
            <a:stretch/>
          </p:blipFill>
          <p:spPr>
            <a:xfrm>
              <a:off x="5486400" y="380880"/>
              <a:ext cx="2571840" cy="17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533520" y="1066680"/>
            <a:ext cx="10172520" cy="2364840"/>
            <a:chOff x="533520" y="1066680"/>
            <a:chExt cx="10172520" cy="2364840"/>
          </a:xfrm>
        </p:grpSpPr>
        <p:sp>
          <p:nvSpPr>
            <p:cNvPr id="55" name=""/>
            <p:cNvSpPr/>
            <p:nvPr/>
          </p:nvSpPr>
          <p:spPr>
            <a:xfrm>
              <a:off x="53352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772400" y="1066680"/>
              <a:ext cx="2933640" cy="21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33520" y="2971800"/>
            <a:ext cx="8991360" cy="1526400"/>
            <a:chOff x="533520" y="2971800"/>
            <a:chExt cx="8991360" cy="1526400"/>
          </a:xfrm>
        </p:grpSpPr>
        <p:sp>
          <p:nvSpPr>
            <p:cNvPr id="58" name=""/>
            <p:cNvSpPr/>
            <p:nvPr/>
          </p:nvSpPr>
          <p:spPr>
            <a:xfrm>
              <a:off x="533520" y="4038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PEW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rcRect l="10002" t="0" r="0" b="0"/>
            <a:stretch/>
          </p:blipFill>
          <p:spPr>
            <a:xfrm>
              <a:off x="7543800" y="2971800"/>
              <a:ext cx="1981080" cy="14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533520" y="5867280"/>
            <a:ext cx="9524880" cy="2114640"/>
            <a:chOff x="533520" y="5867280"/>
            <a:chExt cx="9524880" cy="2114640"/>
          </a:xfrm>
        </p:grpSpPr>
        <p:sp>
          <p:nvSpPr>
            <p:cNvPr id="61" name=""/>
            <p:cNvSpPr/>
            <p:nvPr/>
          </p:nvSpPr>
          <p:spPr>
            <a:xfrm>
              <a:off x="533520" y="69343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CTOP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238880" y="5867280"/>
              <a:ext cx="2819520" cy="211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1043928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ybug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idzcraftz.ca/pics/Ladybug6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al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hbr.noaa.gov/categories/raim/images/coral_01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peworm – http://www.cheamviewvet.com/images/Tapeworm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matode -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3.rennes.inra.fr/umrbio3pE/equipes/nematodes/images/lamelle-460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pus – http://upload.wikimedia.org/wikipedia/commons/thumb/2/23/Moving_Octopus_Vulgaris_2005-01-14.ogg/mid-Moving_Octopus_Vulgaris_2005-01-14.ogg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5:51Z</dcterms:modified>
  <cp:revision>84</cp:revision>
  <dc:subject/>
  <dc:title>Who am I?</dc:title>
</cp:coreProperties>
</file>