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81B3-AFA4-4E1D-9647-B2B92371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CA5-D9B1-4931-BD13-4F9CB681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BF5E-9150-4F8E-BB10-4EA3AEB6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329-259A-4288-A2CB-4274C27A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F6C-9FD6-4B4A-8229-5F3FFFA1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5AF2-CE88-4259-9F9B-06917C76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764-27A3-4182-9828-26BBD77F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D8D-8C07-45A8-8A4A-3032C932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9725-5825-433F-A5C3-9F57ED98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113-A807-47AF-AD93-14D42D65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8C4D-ADFE-45AD-8EB5-DD70D422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90C-4928-4630-9776-08ED6995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AF893D2A-A069-428B-9FEC-576ECBBCDED4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33720" y="510552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 #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figure out the names of these invertebr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962200">
            <a:off x="425160" y="1290600"/>
            <a:ext cx="101264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Srambled Critter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7620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228600"/>
            <a:ext cx="10287000" cy="70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unscramble the letters below to reveal the names of these invertebr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T W 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 H M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 am important invertebrate for gard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 Y I H L 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ngeBob and Patrick like to fish for 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O 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 O P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’m an arachnid with a wicked 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 F I H 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hape looks like something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 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O 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A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name may indicate money, but I don’t have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228600"/>
            <a:ext cx="102870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 am important invertebrate for gard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ngeBob and Patrick like to fish for 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’m an arachnid with a wicked 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hape looks like something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name may indicate money, but I don’t have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3520" y="380880"/>
            <a:ext cx="7772400" cy="1983960"/>
            <a:chOff x="533520" y="380880"/>
            <a:chExt cx="7772400" cy="19839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943600" y="380880"/>
              <a:ext cx="236232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33520" y="19051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ARTHW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33520" y="1523880"/>
            <a:ext cx="9296280" cy="2229120"/>
            <a:chOff x="533520" y="1523880"/>
            <a:chExt cx="9296280" cy="2229120"/>
          </a:xfrm>
        </p:grpSpPr>
        <p:sp>
          <p:nvSpPr>
            <p:cNvPr id="51" name=""/>
            <p:cNvSpPr/>
            <p:nvPr/>
          </p:nvSpPr>
          <p:spPr>
            <a:xfrm>
              <a:off x="533520" y="29718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ELLYFI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2"/>
            <a:srcRect l="0" t="0" r="25845" b="0"/>
            <a:stretch/>
          </p:blipFill>
          <p:spPr>
            <a:xfrm>
              <a:off x="7315200" y="1523880"/>
              <a:ext cx="2514600" cy="222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"/>
          <p:cNvGrpSpPr/>
          <p:nvPr/>
        </p:nvGrpSpPr>
        <p:grpSpPr>
          <a:xfrm>
            <a:off x="533520" y="2895480"/>
            <a:ext cx="8001000" cy="2052720"/>
            <a:chOff x="533520" y="2895480"/>
            <a:chExt cx="8001000" cy="2052720"/>
          </a:xfrm>
        </p:grpSpPr>
        <p:sp>
          <p:nvSpPr>
            <p:cNvPr id="54" name=""/>
            <p:cNvSpPr/>
            <p:nvPr/>
          </p:nvSpPr>
          <p:spPr>
            <a:xfrm>
              <a:off x="533520" y="40384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ORP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2161" t="5697" r="6077" b="9665"/>
            <a:stretch/>
          </p:blipFill>
          <p:spPr>
            <a:xfrm>
              <a:off x="6019920" y="2895480"/>
              <a:ext cx="2514600" cy="205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533520" y="4767120"/>
            <a:ext cx="10210680" cy="2167200"/>
            <a:chOff x="533520" y="4767120"/>
            <a:chExt cx="10210680" cy="2167200"/>
          </a:xfrm>
        </p:grpSpPr>
        <p:sp>
          <p:nvSpPr>
            <p:cNvPr id="57" name=""/>
            <p:cNvSpPr/>
            <p:nvPr/>
          </p:nvSpPr>
          <p:spPr>
            <a:xfrm>
              <a:off x="533520" y="51055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RFI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4"/>
            <a:srcRect l="5949" t="9998" r="0" b="2003"/>
            <a:stretch/>
          </p:blipFill>
          <p:spPr>
            <a:xfrm>
              <a:off x="7238880" y="4767120"/>
              <a:ext cx="3505320" cy="216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533520" y="6172200"/>
            <a:ext cx="7010280" cy="1638360"/>
            <a:chOff x="533520" y="6172200"/>
            <a:chExt cx="7010280" cy="1638360"/>
          </a:xfrm>
        </p:grpSpPr>
        <p:sp>
          <p:nvSpPr>
            <p:cNvPr id="60" name=""/>
            <p:cNvSpPr/>
            <p:nvPr/>
          </p:nvSpPr>
          <p:spPr>
            <a:xfrm>
              <a:off x="533520" y="61722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ND DOLL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5"/>
            <a:srcRect l="12668" t="0" r="10887" b="0"/>
            <a:stretch/>
          </p:blipFill>
          <p:spPr>
            <a:xfrm>
              <a:off x="6019920" y="6400800"/>
              <a:ext cx="1523880" cy="140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6-03T02:44:44Z</dcterms:modified>
  <cp:revision>82</cp:revision>
  <dc:subject/>
  <dc:title>Who am I?</dc:title>
</cp:coreProperties>
</file>