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972800" cy="8229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166E-0F5D-4C17-8720-16FCCDFFD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987408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360" y="4757400"/>
            <a:ext cx="987408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FE3B-6A68-445F-B201-FC2355781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08800" y="19206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360" y="47574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608800" y="47574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4D84-5FCF-42AE-B0DD-B91CE375A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317916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88000" y="1920600"/>
            <a:ext cx="317916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226280" y="1920600"/>
            <a:ext cx="317916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360" y="4757400"/>
            <a:ext cx="317916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88000" y="4757400"/>
            <a:ext cx="317916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226280" y="4757400"/>
            <a:ext cx="317916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8026-7312-4CA9-8270-AE1F84158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360" y="1920600"/>
            <a:ext cx="9874080" cy="54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7D3D-6E98-4E83-8CA8-1D914BEE9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9874080" cy="5430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DED1-A276-4247-B71A-30F048EDA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4818240" cy="5430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608800" y="1920600"/>
            <a:ext cx="4818240" cy="5430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5AFC-4550-4D4B-8CC7-3B99B9EC7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9DD7-9A2E-4187-B429-30031D03A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360" y="330120"/>
            <a:ext cx="987408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9E7E-DD28-4A0E-8119-C293FDADC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08800" y="1920600"/>
            <a:ext cx="4818240" cy="5430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360" y="47574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06A1-BE43-419D-AA59-5B13C0DAC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4818240" cy="5430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08800" y="19206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08800" y="47574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0570-CB48-45DD-A880-5D7C8BD53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08800" y="19206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360" y="4757400"/>
            <a:ext cx="987408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4B2D-E475-450D-87AF-55ED42C48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9360" y="1920600"/>
            <a:ext cx="9874080" cy="5430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marL="411120" indent="-41112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92080" indent="-342720">
              <a:spcBef>
                <a:spcPts val="950"/>
              </a:spcBef>
              <a:buClr>
                <a:srgbClr val="000000"/>
              </a:buClr>
              <a:buFont typeface="Arial"/>
              <a:buChar char="–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27468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3" marL="1920960" indent="-274680">
              <a:spcBef>
                <a:spcPts val="950"/>
              </a:spcBef>
              <a:buClr>
                <a:srgbClr val="000000"/>
              </a:buClr>
              <a:buFont typeface="Arial"/>
              <a:buChar char="–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4" marL="2468520" indent="-27468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5" marL="2468520" indent="-27468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6" marL="2468520" indent="-27468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49360" y="7494480"/>
            <a:ext cx="2558880" cy="57168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Autofit/>
          </a:bodyPr>
          <a:lstStyle>
            <a:lvl1pPr indent="0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  <a:defRPr b="0" lang="en-US" sz="1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49760" y="7494480"/>
            <a:ext cx="3473280" cy="57168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Autofit/>
          </a:bodyPr>
          <a:lstStyle>
            <a:lvl1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  <a:defRPr b="0" lang="en-US" sz="1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64560" y="7494480"/>
            <a:ext cx="2558880" cy="57168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Autofit/>
          </a:bodyPr>
          <a:lstStyle>
            <a:lvl1pPr indent="0" algn="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  <a:defRPr b="0" lang="en-US" sz="1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fld id="{2E6E8EAD-372D-4F1C-8680-74508B29F262}" type="slidenum">
              <a:rPr b="0" lang="en-US" sz="1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133720" y="5105520"/>
            <a:ext cx="6781680" cy="22860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hallenge #1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an you figure out the names of these invertebrat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 rot="20962200">
            <a:off x="425160" y="1290600"/>
            <a:ext cx="10126440" cy="32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oper Black"/>
              </a:rPr>
              <a:t>Srambled Critters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oper Black"/>
              <a:ea typeface="Cooper Black"/>
            </a:endParaRPr>
          </a:p>
        </p:txBody>
      </p:sp>
      <p:sp>
        <p:nvSpPr>
          <p:cNvPr id="43" name=""/>
          <p:cNvSpPr/>
          <p:nvPr/>
        </p:nvSpPr>
        <p:spPr>
          <a:xfrm>
            <a:off x="2514600" y="7620120"/>
            <a:ext cx="6400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74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23814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228600"/>
            <a:ext cx="10287000" cy="70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an you unscramble the letters below to reveal the names of these invertebrat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 T W O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 H M 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I am important invertebrate for garden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 L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F Y I H L 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ongeBob and Patrick like to fish for m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 O R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 O P 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I’m an arachnid with a wicked tai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 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 F I H 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shape looks like something in the s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N D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O L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L A 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name may indicate money, but I don’t have an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80880" y="228600"/>
            <a:ext cx="10287000" cy="64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answers are 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I am important invertebrate for garden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ongeBob and Patrick like to fish for m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I’m an arachnid with a wicked tai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shape looks like something in the s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name may indicate money, but I don’t have an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533520" y="380880"/>
            <a:ext cx="7772400" cy="1983960"/>
            <a:chOff x="533520" y="380880"/>
            <a:chExt cx="7772400" cy="1983960"/>
          </a:xfrm>
        </p:grpSpPr>
        <p:pic>
          <p:nvPicPr>
            <p:cNvPr id="48" name="" descr=""/>
            <p:cNvPicPr/>
            <p:nvPr/>
          </p:nvPicPr>
          <p:blipFill>
            <a:blip r:embed="rId1"/>
            <a:stretch/>
          </p:blipFill>
          <p:spPr>
            <a:xfrm>
              <a:off x="5943600" y="380880"/>
              <a:ext cx="2362320" cy="177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533520" y="1905120"/>
              <a:ext cx="335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096920"/>
                  <a:tab algn="l" pos="2193840"/>
                  <a:tab algn="l" pos="3290760"/>
                  <a:tab algn="l" pos="4387680"/>
                  <a:tab algn="l" pos="5484960"/>
                  <a:tab algn="l" pos="6581880"/>
                  <a:tab algn="l" pos="7678800"/>
                  <a:tab algn="l" pos="8775720"/>
                  <a:tab algn="l" pos="9872640"/>
                  <a:tab algn="l" pos="1096956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ARTHWOR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533520" y="1523880"/>
            <a:ext cx="9296280" cy="2229120"/>
            <a:chOff x="533520" y="1523880"/>
            <a:chExt cx="9296280" cy="2229120"/>
          </a:xfrm>
        </p:grpSpPr>
        <p:sp>
          <p:nvSpPr>
            <p:cNvPr id="51" name=""/>
            <p:cNvSpPr/>
            <p:nvPr/>
          </p:nvSpPr>
          <p:spPr>
            <a:xfrm>
              <a:off x="533520" y="2971800"/>
              <a:ext cx="335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096920"/>
                  <a:tab algn="l" pos="2193840"/>
                  <a:tab algn="l" pos="3290760"/>
                  <a:tab algn="l" pos="4387680"/>
                  <a:tab algn="l" pos="5484960"/>
                  <a:tab algn="l" pos="6581880"/>
                  <a:tab algn="l" pos="7678800"/>
                  <a:tab algn="l" pos="8775720"/>
                  <a:tab algn="l" pos="9872640"/>
                  <a:tab algn="l" pos="1096956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JELLYFIS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" name="" descr=""/>
            <p:cNvPicPr/>
            <p:nvPr/>
          </p:nvPicPr>
          <p:blipFill>
            <a:blip r:embed="rId2"/>
            <a:srcRect l="0" t="0" r="25845" b="0"/>
            <a:stretch/>
          </p:blipFill>
          <p:spPr>
            <a:xfrm>
              <a:off x="7315200" y="1523880"/>
              <a:ext cx="2514600" cy="2229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3" name=""/>
          <p:cNvGrpSpPr/>
          <p:nvPr/>
        </p:nvGrpSpPr>
        <p:grpSpPr>
          <a:xfrm>
            <a:off x="533520" y="2895480"/>
            <a:ext cx="8001000" cy="2052720"/>
            <a:chOff x="533520" y="2895480"/>
            <a:chExt cx="8001000" cy="2052720"/>
          </a:xfrm>
        </p:grpSpPr>
        <p:sp>
          <p:nvSpPr>
            <p:cNvPr id="54" name=""/>
            <p:cNvSpPr/>
            <p:nvPr/>
          </p:nvSpPr>
          <p:spPr>
            <a:xfrm>
              <a:off x="533520" y="4038480"/>
              <a:ext cx="335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096920"/>
                  <a:tab algn="l" pos="2193840"/>
                  <a:tab algn="l" pos="3290760"/>
                  <a:tab algn="l" pos="4387680"/>
                  <a:tab algn="l" pos="5484960"/>
                  <a:tab algn="l" pos="6581880"/>
                  <a:tab algn="l" pos="7678800"/>
                  <a:tab algn="l" pos="8775720"/>
                  <a:tab algn="l" pos="9872640"/>
                  <a:tab algn="l" pos="1096956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CORP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3"/>
            <a:srcRect l="2161" t="5697" r="6077" b="9665"/>
            <a:stretch/>
          </p:blipFill>
          <p:spPr>
            <a:xfrm>
              <a:off x="6019920" y="2895480"/>
              <a:ext cx="2514600" cy="2052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6" name=""/>
          <p:cNvGrpSpPr/>
          <p:nvPr/>
        </p:nvGrpSpPr>
        <p:grpSpPr>
          <a:xfrm>
            <a:off x="533520" y="4767120"/>
            <a:ext cx="10210680" cy="2167200"/>
            <a:chOff x="533520" y="4767120"/>
            <a:chExt cx="10210680" cy="2167200"/>
          </a:xfrm>
        </p:grpSpPr>
        <p:sp>
          <p:nvSpPr>
            <p:cNvPr id="57" name=""/>
            <p:cNvSpPr/>
            <p:nvPr/>
          </p:nvSpPr>
          <p:spPr>
            <a:xfrm>
              <a:off x="533520" y="5105520"/>
              <a:ext cx="335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096920"/>
                  <a:tab algn="l" pos="2193840"/>
                  <a:tab algn="l" pos="3290760"/>
                  <a:tab algn="l" pos="4387680"/>
                  <a:tab algn="l" pos="5484960"/>
                  <a:tab algn="l" pos="6581880"/>
                  <a:tab algn="l" pos="7678800"/>
                  <a:tab algn="l" pos="8775720"/>
                  <a:tab algn="l" pos="9872640"/>
                  <a:tab algn="l" pos="1096956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TARFIS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" name="" descr=""/>
            <p:cNvPicPr/>
            <p:nvPr/>
          </p:nvPicPr>
          <p:blipFill>
            <a:blip r:embed="rId4"/>
            <a:srcRect l="5949" t="9998" r="0" b="2003"/>
            <a:stretch/>
          </p:blipFill>
          <p:spPr>
            <a:xfrm>
              <a:off x="7238880" y="4767120"/>
              <a:ext cx="3505320" cy="216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9" name=""/>
          <p:cNvGrpSpPr/>
          <p:nvPr/>
        </p:nvGrpSpPr>
        <p:grpSpPr>
          <a:xfrm>
            <a:off x="533520" y="6172200"/>
            <a:ext cx="7010280" cy="1638360"/>
            <a:chOff x="533520" y="6172200"/>
            <a:chExt cx="7010280" cy="1638360"/>
          </a:xfrm>
        </p:grpSpPr>
        <p:sp>
          <p:nvSpPr>
            <p:cNvPr id="60" name=""/>
            <p:cNvSpPr/>
            <p:nvPr/>
          </p:nvSpPr>
          <p:spPr>
            <a:xfrm>
              <a:off x="533520" y="6172200"/>
              <a:ext cx="335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096920"/>
                  <a:tab algn="l" pos="2193840"/>
                  <a:tab algn="l" pos="3290760"/>
                  <a:tab algn="l" pos="4387680"/>
                  <a:tab algn="l" pos="5484960"/>
                  <a:tab algn="l" pos="6581880"/>
                  <a:tab algn="l" pos="7678800"/>
                  <a:tab algn="l" pos="8775720"/>
                  <a:tab algn="l" pos="9872640"/>
                  <a:tab algn="l" pos="1096956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AND DOLLA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" name="" descr=""/>
            <p:cNvPicPr/>
            <p:nvPr/>
          </p:nvPicPr>
          <p:blipFill>
            <a:blip r:embed="rId5"/>
            <a:srcRect l="12668" t="0" r="10887" b="0"/>
            <a:stretch/>
          </p:blipFill>
          <p:spPr>
            <a:xfrm>
              <a:off x="6019920" y="6400800"/>
              <a:ext cx="1523880" cy="1409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0T02:20:42Z</dcterms:created>
  <dc:creator>Tracy Trimpe</dc:creator>
  <dc:description/>
  <dc:language>en-US</dc:language>
  <cp:lastModifiedBy>Tracy Trimpe</cp:lastModifiedBy>
  <dcterms:modified xsi:type="dcterms:W3CDTF">2008-06-03T02:44:44Z</dcterms:modified>
  <cp:revision>82</cp:revision>
  <dc:subject/>
  <dc:title>Who am I?</dc:title>
</cp:coreProperties>
</file>