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5C0E-1BD1-40DB-970E-BD1A51B3F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DF69-A9AF-462B-83ED-2EDD5894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B5F4-05AA-4116-8B89-B78967DFA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8084-15A5-43D8-BA08-864868811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7E4E-19FF-4C18-8F47-F5447155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949B-D51F-46B0-BEFA-86C47EC0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E547-A99E-4FC9-B9D1-DC6AE7C4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0500-EB88-449E-AC75-787B1CC2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CF1F-A516-4956-B372-6328B98B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1FF1-DFB9-4B76-8EDD-39E5344B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AE5A-8433-41FC-8481-5DC41420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A67A-6598-4AB0-8837-91B55C8A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DDFE-BEF6-4B21-9994-D1CE7B3BA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305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Cooper Black"/>
              </a:rPr>
              <a:t>Who am I?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3809880"/>
            <a:ext cx="8153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n you identify these Illinois critter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20160000">
            <a:off x="1447920" y="4724280"/>
            <a:ext cx="1388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4940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4940000"/>
              </a:gradFill>
              <a:latin typeface="Cooper Black"/>
              <a:ea typeface="Cooper Black"/>
            </a:endParaRPr>
          </a:p>
        </p:txBody>
      </p:sp>
      <p:sp>
        <p:nvSpPr>
          <p:cNvPr id="44" name=""/>
          <p:cNvSpPr txBox="1"/>
          <p:nvPr/>
        </p:nvSpPr>
        <p:spPr>
          <a:xfrm rot="1768200">
            <a:off x="6705360" y="4571640"/>
            <a:ext cx="858600" cy="20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1730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1730000"/>
              </a:gradFill>
              <a:latin typeface="Cooper Black"/>
              <a:ea typeface="Cooper Black"/>
            </a:endParaRPr>
          </a:p>
        </p:txBody>
      </p:sp>
      <p:sp>
        <p:nvSpPr>
          <p:cNvPr id="45" name=""/>
          <p:cNvSpPr txBox="1"/>
          <p:nvPr/>
        </p:nvSpPr>
        <p:spPr>
          <a:xfrm rot="20160000">
            <a:off x="3733560" y="1066320"/>
            <a:ext cx="914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4940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4940000"/>
              </a:gradFill>
              <a:latin typeface="Cooper Black"/>
              <a:ea typeface="Cooper Black"/>
            </a:endParaRPr>
          </a:p>
        </p:txBody>
      </p:sp>
      <p:sp>
        <p:nvSpPr>
          <p:cNvPr id="46" name=""/>
          <p:cNvSpPr txBox="1"/>
          <p:nvPr/>
        </p:nvSpPr>
        <p:spPr>
          <a:xfrm rot="21194400">
            <a:off x="6629400" y="837720"/>
            <a:ext cx="68904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908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908000"/>
              </a:gradFill>
              <a:latin typeface="Cooper Black"/>
              <a:ea typeface="Cooper Black"/>
            </a:endParaRPr>
          </a:p>
        </p:txBody>
      </p:sp>
      <p:sp>
        <p:nvSpPr>
          <p:cNvPr id="47" name=""/>
          <p:cNvSpPr txBox="1"/>
          <p:nvPr/>
        </p:nvSpPr>
        <p:spPr>
          <a:xfrm rot="1027200">
            <a:off x="1447560" y="533160"/>
            <a:ext cx="68868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2474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2474000"/>
              </a:gradFill>
              <a:latin typeface="Cooper Black"/>
              <a:ea typeface="Cooper Black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 rot="1128600">
            <a:off x="4191120" y="4952880"/>
            <a:ext cx="468360" cy="6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2372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2372000"/>
              </a:gra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66680" y="228600"/>
            <a:ext cx="792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use cattails for food and shel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can eat myself out of house and h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naked tail is sensitive to the c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sels are a special treat for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am sometimes on the menu as “marsh rabbit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 know who I 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 rot="16200000">
            <a:off x="-709200" y="1471320"/>
            <a:ext cx="2400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Cooper Black"/>
              </a:rPr>
              <a:t>Who am I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Cooper Black"/>
              <a:ea typeface="Cooper Black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666880" y="3505320"/>
            <a:ext cx="5562720" cy="2639880"/>
            <a:chOff x="2666880" y="3505320"/>
            <a:chExt cx="5562720" cy="263988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4724280" y="3505320"/>
              <a:ext cx="3505320" cy="26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2666880" y="563868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uskra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04920" y="6477120"/>
            <a:ext cx="58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dnr.state.il.us/lands/Education/interprt/wskid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228600"/>
            <a:ext cx="7620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feed my young at dawn and du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have a double pair of upper incis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step with my front feet behind my rear f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tuck my young in a coverlet of my own fu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fluffy white tail helps me escape predato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 know who I 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 rot="16200000">
            <a:off x="-709200" y="1471320"/>
            <a:ext cx="2400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Cooper Black"/>
              </a:rPr>
              <a:t>Who am I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Cooper Black"/>
              <a:ea typeface="Cooper Black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981080" y="3809880"/>
            <a:ext cx="6477120" cy="2640240"/>
            <a:chOff x="1981080" y="3809880"/>
            <a:chExt cx="6477120" cy="264024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4952880" y="3809880"/>
              <a:ext cx="3505320" cy="264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1981080" y="579132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astern Cottontai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4920" y="6477120"/>
            <a:ext cx="58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dnr.state.il.us/lands/Education/interprt/wskid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143000" y="324000"/>
            <a:ext cx="7772400" cy="50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can produce one million descendants in my life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am eaten by almost every animal that eats me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average lifetime is two - three mon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travel in runways I’ve clipped in the gr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ngle acre of grassland is habitat for two hundred of us, yet you seldom see m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urine is visible in ultraviolet light, which predators use to find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 know who I 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 rot="16200000">
            <a:off x="-709200" y="1471320"/>
            <a:ext cx="2400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Who am I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743200" y="3930480"/>
            <a:ext cx="5715000" cy="2698920"/>
            <a:chOff x="2743200" y="3930480"/>
            <a:chExt cx="5715000" cy="2698920"/>
          </a:xfrm>
        </p:grpSpPr>
        <p:sp>
          <p:nvSpPr>
            <p:cNvPr id="66" name=""/>
            <p:cNvSpPr/>
            <p:nvPr/>
          </p:nvSpPr>
          <p:spPr>
            <a:xfrm>
              <a:off x="2743200" y="614016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4876920" y="3930480"/>
              <a:ext cx="3581280" cy="269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"/>
          <p:cNvSpPr/>
          <p:nvPr/>
        </p:nvSpPr>
        <p:spPr>
          <a:xfrm>
            <a:off x="304920" y="6477120"/>
            <a:ext cx="58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dnr.state.il.us/lands/Education/interprt/wskid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05-05T01:06:31Z</dcterms:modified>
  <cp:revision>26</cp:revision>
  <dc:subject/>
  <dc:title>Who am I?</dc:title>
</cp:coreProperties>
</file>