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AD1A-12B7-48C6-ABE1-8A60D84F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2D2-7CA4-4F66-A026-3AAC8F47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1A81-097C-4221-BC73-89CCC295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A3D-9754-41C7-B4A5-6A810B6E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B6E5-8566-417F-93AE-88F9AE9B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F64-1187-4043-9426-E5282478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2A1E-A134-4112-ADC0-3FF2BB8E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8C8A-0326-4D03-8DB3-E0EE9235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4E36-3FA3-44F1-8A9C-A3B29D6C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CFA9-80B6-4D12-B03D-DD1578ED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63F-DF77-4C47-800D-FF21D8AD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03E4-A62F-4C11-B0CA-C1E15427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0E4F-877A-4D5C-9BFE-4794D2308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ooper Black"/>
              </a:rPr>
              <a:t>Who am I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098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Illinois critt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0160000">
            <a:off x="1447920" y="4724280"/>
            <a:ext cx="138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768200">
            <a:off x="6705360" y="4571640"/>
            <a:ext cx="85860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173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1730000"/>
              </a:gra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20160000">
            <a:off x="3733560" y="106632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21194400">
            <a:off x="6629400" y="837720"/>
            <a:ext cx="6890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908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908000"/>
              </a:gra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027200">
            <a:off x="1447560" y="533160"/>
            <a:ext cx="6886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474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474000"/>
              </a:gradFill>
              <a:latin typeface="Cooper Black"/>
              <a:ea typeface="Cooper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1128600">
            <a:off x="4191120" y="4952880"/>
            <a:ext cx="46836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372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372000"/>
              </a:gra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2286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use cattails for food and shel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eat myself out of house and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naked tail is sensitive to the c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sels are a special treat for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sometimes on the menu as “marsh rabbit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666880" y="3505320"/>
            <a:ext cx="5562720" cy="2639880"/>
            <a:chOff x="2666880" y="3505320"/>
            <a:chExt cx="5562720" cy="26398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4724280" y="3505320"/>
              <a:ext cx="350532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666880" y="56386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skr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22860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feed my young at dawn and du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a double pair of upper inci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step with my front feet behind my rear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uck my young in a coverlet of my own f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luffy white tail helps me escape predat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Cooper Black"/>
              <a:ea typeface="Cooper Black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981080" y="3809880"/>
            <a:ext cx="6477120" cy="2640240"/>
            <a:chOff x="1981080" y="3809880"/>
            <a:chExt cx="6477120" cy="26402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4952880" y="3809880"/>
              <a:ext cx="3505320" cy="26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981080" y="57913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stern Cottonta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324000"/>
            <a:ext cx="777240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produce one million descendants in my life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eaten by almost every animal that eats m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average lifetime is two - three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ravel in runways I’ve clipped in the gr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acre of grassland is habitat for two hundred of us, yet you seldom see m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urine is visible in ultraviolet light, which predators use to find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743200" y="3930480"/>
            <a:ext cx="5715000" cy="2698920"/>
            <a:chOff x="2743200" y="3930480"/>
            <a:chExt cx="5715000" cy="2698920"/>
          </a:xfrm>
        </p:grpSpPr>
        <p:sp>
          <p:nvSpPr>
            <p:cNvPr id="66" name=""/>
            <p:cNvSpPr/>
            <p:nvPr/>
          </p:nvSpPr>
          <p:spPr>
            <a:xfrm>
              <a:off x="2743200" y="614016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4876920" y="3930480"/>
              <a:ext cx="3581280" cy="269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06:31Z</dcterms:modified>
  <cp:revision>26</cp:revision>
  <dc:subject/>
  <dc:title>Who am I?</dc:title>
</cp:coreProperties>
</file>