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F11-1447-4FFD-A56E-C85C5D5C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371-77C0-4DA7-8D0E-45CA2265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541-FA50-495C-A82B-D8CD6CBD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890-9A59-470A-8589-8E4A9E49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730-0663-4293-AD49-22EF211E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BE7-ACD4-4D47-BF71-EC8A7BA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D90-FA46-4A0E-AAA8-4944B26C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617-687E-4F27-A233-99D0FE0E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BA5-BB77-4A66-9C65-32AA705D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7D2-D95B-4B61-803B-88D9EB08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F8A-7E0D-4ED4-818C-E41F465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DA0-7DEB-445B-9126-5B6B2025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314A-DB76-48A3-936B-7A81ED23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ke to eat crayfish, insects, snails, small clams, worms, fish, and the seeds of elm and silver maple t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record for me is 59 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be caught by a technique called “noodling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whiskers are called bar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“cat”, but I don’t “meow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95280" y="4086360"/>
            <a:ext cx="7429680" cy="2114280"/>
            <a:chOff x="1295280" y="4086360"/>
            <a:chExt cx="7429680" cy="21142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276720" y="4086360"/>
              <a:ext cx="544824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295280" y="48006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nel Cat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228600"/>
            <a:ext cx="762012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am sometimes called a "Federation Squirrel" because of the pattern on my back and sides which looks like stars and strip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y heartbeat changes when I’m hibernating from 350 beats per minute to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make three types of burrows – hiding, nesting, and hibern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am often mistaken for a chipmunk, which has white stripes bordered with black on its back and f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4771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57800" y="3962520"/>
            <a:ext cx="3429000" cy="2730240"/>
            <a:chOff x="5257800" y="3962520"/>
            <a:chExt cx="3429000" cy="2730240"/>
          </a:xfrm>
        </p:grpSpPr>
        <p:sp>
          <p:nvSpPr>
            <p:cNvPr id="60" name=""/>
            <p:cNvSpPr/>
            <p:nvPr/>
          </p:nvSpPr>
          <p:spPr>
            <a:xfrm>
              <a:off x="5295960" y="63244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rteen-lined Groun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5257800" y="3962520"/>
              <a:ext cx="3429000" cy="23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1600200" y="4267080"/>
            <a:ext cx="2895480" cy="2124360"/>
            <a:chOff x="1600200" y="4267080"/>
            <a:chExt cx="2895480" cy="21243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16009" t="0" r="16795" b="0"/>
            <a:stretch/>
          </p:blipFill>
          <p:spPr>
            <a:xfrm>
              <a:off x="1600200" y="4267080"/>
              <a:ext cx="1600200" cy="21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00400" y="51814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ipmu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324000"/>
            <a:ext cx="8001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be found on every continent except for Antarc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me means wanderer and I have one of the longest migrations of any North American bi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a black cap, sideburns, a blue beak, and yellow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fastest animal on Earth traveling as fast as 200 m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52680" y="3962520"/>
            <a:ext cx="5181840" cy="2425680"/>
            <a:chOff x="3352680" y="3962520"/>
            <a:chExt cx="5181840" cy="2425680"/>
          </a:xfrm>
        </p:grpSpPr>
        <p:sp>
          <p:nvSpPr>
            <p:cNvPr id="68" name=""/>
            <p:cNvSpPr/>
            <p:nvPr/>
          </p:nvSpPr>
          <p:spPr>
            <a:xfrm>
              <a:off x="3352680" y="54864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egrine Fal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486400" y="3962520"/>
              <a:ext cx="3048120" cy="24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39Z</dcterms:modified>
  <cp:revision>42</cp:revision>
  <dc:subject/>
  <dc:title>Who am I?</dc:title>
</cp:coreProperties>
</file>