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6A2-AB75-489E-A57F-AA8C26C3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CAD-3839-4B42-B396-09AFC98C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815-D773-4D00-A072-6C11E483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991-538F-48A7-BF87-0172436B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237-7C4B-476C-9DF0-8F35EBEB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9DF2-7B4F-463C-B1CB-72D4D11B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F94-FF9E-469B-88FF-98515393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F17-BBD3-4B89-8324-6307C72E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58C-518D-4431-9BE2-B4886ABE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E0A-41C8-467D-BCDA-14F3A0EF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748-24E7-4D34-B3BB-8876209D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26F-3D2B-4EA1-A078-BA2D860A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357B-ECF4-4DC1-8F90-D76359934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79250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ke to eat crayfish, insects, snails, small clams, worms, fish, and the seeds of elm and silver maple tre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ld record for me is 59 p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be caught by a technique called “noodling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whiskers are called bar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a “cat”, but I don’t “meow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95280" y="4086360"/>
            <a:ext cx="7429680" cy="2114280"/>
            <a:chOff x="1295280" y="4086360"/>
            <a:chExt cx="7429680" cy="21142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3276720" y="4086360"/>
              <a:ext cx="544824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295280" y="48006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nnel Catfi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43000" y="228600"/>
            <a:ext cx="762012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am sometimes called a "Federation Squirrel" because of the pattern on my back and sides which looks like stars and strip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y heartbeat changes when I’m hibernating from 350 beats per minute to 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make three types of burrows – hiding, nesting, and hibern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am often mistaken for a chipmunk, which has white stripes bordered with black on its back and f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47712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nr.state.wi.us/org/caer/ce/eek/critt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57800" y="3962520"/>
            <a:ext cx="3429000" cy="2730240"/>
            <a:chOff x="5257800" y="3962520"/>
            <a:chExt cx="3429000" cy="2730240"/>
          </a:xfrm>
        </p:grpSpPr>
        <p:sp>
          <p:nvSpPr>
            <p:cNvPr id="60" name=""/>
            <p:cNvSpPr/>
            <p:nvPr/>
          </p:nvSpPr>
          <p:spPr>
            <a:xfrm>
              <a:off x="5295960" y="63244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irteen-lined Ground Squirr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5257800" y="3962520"/>
              <a:ext cx="3429000" cy="230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1600200" y="4267080"/>
            <a:ext cx="2895480" cy="2124360"/>
            <a:chOff x="1600200" y="4267080"/>
            <a:chExt cx="2895480" cy="212436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16009" t="0" r="16795" b="0"/>
            <a:stretch/>
          </p:blipFill>
          <p:spPr>
            <a:xfrm>
              <a:off x="1600200" y="4267080"/>
              <a:ext cx="1600200" cy="21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00400" y="51814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hipmu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3000" y="324000"/>
            <a:ext cx="8001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be found on every continent except for Antarc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name means wanderer and I have one of the longest migrations of any North American bi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have a black cap, sideburns, a blue beak, and yellow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fastest animal on Earth traveling as fast as 200 m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52680" y="3962520"/>
            <a:ext cx="5181840" cy="2425680"/>
            <a:chOff x="3352680" y="3962520"/>
            <a:chExt cx="5181840" cy="2425680"/>
          </a:xfrm>
        </p:grpSpPr>
        <p:sp>
          <p:nvSpPr>
            <p:cNvPr id="68" name=""/>
            <p:cNvSpPr/>
            <p:nvPr/>
          </p:nvSpPr>
          <p:spPr>
            <a:xfrm>
              <a:off x="3352680" y="54864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egrine Falc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5486400" y="3962520"/>
              <a:ext cx="3048120" cy="242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nr.state.wi.us/org/caer/ce/eek/critt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39Z</dcterms:modified>
  <cp:revision>42</cp:revision>
  <dc:subject/>
  <dc:title>Who am I?</dc:title>
</cp:coreProperties>
</file>