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761A-CA57-4B39-B97F-AA89DDAB8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014E-2ABB-486F-AE74-99042475E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5B27-B129-4098-BC81-578D324D7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D909-272A-4F21-BAA6-FBD66818B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2F6D-5D58-4BB4-94C1-7CF549A09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DAD4-5258-4525-B993-5302030E6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1F01-0772-4B14-A137-C0F93E6AF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E8BE-0F7B-4EAF-80BA-07112DB27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89B4-EEC1-44C6-9ACB-E60D70021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67C2-413C-48F3-A6C7-E6310E430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7654-98AA-480F-A5EE-853687424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8D5D-8EBD-4E0A-A477-9A20A3F0B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B84D6-D035-43B4-B957-DDBD3ED088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8305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Cooper Black"/>
              </a:rPr>
              <a:t>Who am I?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120" y="3809880"/>
            <a:ext cx="8153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n you identify these Illinois critter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 rot="20160000">
            <a:off x="1447920" y="4724280"/>
            <a:ext cx="13888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4940000"/>
                </a:gradFill>
                <a:latin typeface="Cooper Black"/>
              </a:rPr>
              <a:t>?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4940000"/>
              </a:gradFill>
              <a:latin typeface="Cooper Black"/>
              <a:ea typeface="Cooper Black"/>
            </a:endParaRPr>
          </a:p>
        </p:txBody>
      </p:sp>
      <p:sp>
        <p:nvSpPr>
          <p:cNvPr id="44" name=""/>
          <p:cNvSpPr txBox="1"/>
          <p:nvPr/>
        </p:nvSpPr>
        <p:spPr>
          <a:xfrm rot="1768200">
            <a:off x="6705360" y="4571640"/>
            <a:ext cx="858600" cy="204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1730000"/>
                </a:gradFill>
                <a:latin typeface="Cooper Black"/>
              </a:rPr>
              <a:t>?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1730000"/>
              </a:gradFill>
              <a:latin typeface="Cooper Black"/>
              <a:ea typeface="Cooper Black"/>
            </a:endParaRPr>
          </a:p>
        </p:txBody>
      </p:sp>
      <p:sp>
        <p:nvSpPr>
          <p:cNvPr id="45" name=""/>
          <p:cNvSpPr txBox="1"/>
          <p:nvPr/>
        </p:nvSpPr>
        <p:spPr>
          <a:xfrm rot="20160000">
            <a:off x="3733560" y="1066320"/>
            <a:ext cx="914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4940000"/>
                </a:gradFill>
                <a:latin typeface="Cooper Black"/>
              </a:rPr>
              <a:t>?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4940000"/>
              </a:gradFill>
              <a:latin typeface="Cooper Black"/>
              <a:ea typeface="Cooper Black"/>
            </a:endParaRPr>
          </a:p>
        </p:txBody>
      </p:sp>
      <p:sp>
        <p:nvSpPr>
          <p:cNvPr id="46" name=""/>
          <p:cNvSpPr txBox="1"/>
          <p:nvPr/>
        </p:nvSpPr>
        <p:spPr>
          <a:xfrm rot="21194400">
            <a:off x="6629400" y="837720"/>
            <a:ext cx="68904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3908000"/>
                </a:gradFill>
                <a:latin typeface="Cooper Black"/>
              </a:rPr>
              <a:t>?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3908000"/>
              </a:gradFill>
              <a:latin typeface="Cooper Black"/>
              <a:ea typeface="Cooper Black"/>
            </a:endParaRPr>
          </a:p>
        </p:txBody>
      </p:sp>
      <p:sp>
        <p:nvSpPr>
          <p:cNvPr id="47" name=""/>
          <p:cNvSpPr txBox="1"/>
          <p:nvPr/>
        </p:nvSpPr>
        <p:spPr>
          <a:xfrm rot="1027200">
            <a:off x="1447560" y="533160"/>
            <a:ext cx="68868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2474000"/>
                </a:gradFill>
                <a:latin typeface="Cooper Black"/>
              </a:rPr>
              <a:t>?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2474000"/>
              </a:gradFill>
              <a:latin typeface="Cooper Black"/>
              <a:ea typeface="Cooper Black"/>
            </a:endParaRPr>
          </a:p>
        </p:txBody>
      </p:sp>
      <p:sp>
        <p:nvSpPr>
          <p:cNvPr id="48" name=""/>
          <p:cNvSpPr/>
          <p:nvPr/>
        </p:nvSpPr>
        <p:spPr>
          <a:xfrm>
            <a:off x="121932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 rot="1128600">
            <a:off x="4191120" y="4952880"/>
            <a:ext cx="468360" cy="61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2372000"/>
                </a:gradFill>
                <a:latin typeface="Cooper Black"/>
              </a:rPr>
              <a:t>?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2372000"/>
              </a:gradFill>
              <a:latin typeface="Cooper Black"/>
              <a:ea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066680" y="228600"/>
            <a:ext cx="792504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hough most consider me a carnivore, I often eat ber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ip of my tail is always wh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genus and species names are the same – Vulpes vul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solitary, I sleep out in the op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take over a groundhog den to house my you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average weight is 9 ½ pounds - less than many domestic cats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you know who I 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 rot="16200000">
            <a:off x="-709200" y="1471320"/>
            <a:ext cx="2400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Cooper Black"/>
              </a:rPr>
              <a:t>Who am I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Cooper Black"/>
              <a:ea typeface="Cooper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952880" y="3886200"/>
            <a:ext cx="2895840" cy="19684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04920" y="6477120"/>
            <a:ext cx="58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dnr.state.il.us/lands/Education/interprt/wskids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143000" y="228600"/>
            <a:ext cx="76201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have flourished alongside M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name, in Algonquin, means “he who scratches with his hands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“see” underwater with my h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coat is countershaded - dark on top and light be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don’t really wash my foo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you know who I 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 rot="16200000">
            <a:off x="-709200" y="1471320"/>
            <a:ext cx="2400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Cooper Black"/>
              </a:rPr>
              <a:t>Who am I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Cooper Black"/>
              <a:ea typeface="Cooper Black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334120" y="3429000"/>
            <a:ext cx="2354040" cy="31240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04920" y="6477120"/>
            <a:ext cx="58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dnr.state.il.us/lands/Education/interprt/wskids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324000"/>
            <a:ext cx="73915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protect my young by leaving them al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winter coat and my summer coat are different col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low hairs provide me insulation from the co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cannot travel in deep sn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use a white “flag” to warn of dang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you know who I 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 rot="16200000">
            <a:off x="-709200" y="1471320"/>
            <a:ext cx="2400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oper Black"/>
              </a:rPr>
              <a:t>Who am I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oper Black"/>
              <a:ea typeface="Cooper Black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648320" y="3276720"/>
            <a:ext cx="3962160" cy="2984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04920" y="6477120"/>
            <a:ext cx="58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dnr.state.il.us/lands/Education/interprt/wskids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02:20:42Z</dcterms:created>
  <dc:creator>Tracy Trimpe</dc:creator>
  <dc:description/>
  <dc:language>en-US</dc:language>
  <cp:lastModifiedBy>Tracy Trimpe</cp:lastModifiedBy>
  <dcterms:modified xsi:type="dcterms:W3CDTF">2008-05-05T01:06:42Z</dcterms:modified>
  <cp:revision>16</cp:revision>
  <dc:subject/>
  <dc:title>Who am I?</dc:title>
</cp:coreProperties>
</file>