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4AF-3BF9-4EA4-B36F-028B7BA7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579-71CA-4449-A2E7-B6062537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6DA-02FF-4A3C-930D-EC4757A2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5F0-AB54-43D5-A286-B64E80A4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7F1-40D2-46DB-8E56-34AF21C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D7A-10CA-4654-8413-C55AE747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7E8-92FA-47C8-B382-2160F795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CE5-DCFB-47BD-AAF1-BD52E15F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654-1E8A-419E-8974-21A59D87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727-4662-4321-A766-ADE887C8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FD4-5685-4664-8D9F-F24E255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2DD-00E3-44A3-BD3D-C8757D0D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E4A9-D876-4E8B-9D7C-09F2D1E6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most consider me a carnivore, I often eat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p of my tail is alway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genus and species names are the same – Vulpes vul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litary, I sleep out in the o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ake over a groundhog den to house my yo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verage weight is 9 ½ pounds - less than many domestic ca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2895840" cy="196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22860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flourished alongside 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, in Algonquin, means “he who scratches with his hand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“see” underwater with my h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coat is countershaded - dark on top and light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really wash my f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2354040" cy="312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3240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otect my young by leaving them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winter coat and my summer coat are different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ow hairs provide me insulation from the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not travel in deep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a white “flag” to warn of da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3962160" cy="298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42Z</dcterms:modified>
  <cp:revision>16</cp:revision>
  <dc:subject/>
  <dc:title>Who am I?</dc:title>
</cp:coreProperties>
</file>