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F6A-CA92-49ED-A9B4-5BFBAE13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546F-2E26-49ED-A372-1121708F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417-5D4C-404A-8379-32A56BBD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1F2-475E-4DCF-B7A2-30788B1B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496-85C8-4DAD-81D1-EC1AA6BD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963-B602-42B6-9665-1C5E3F75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82F-2B33-410D-A58A-F96B936A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DBD-E479-4CB8-B597-FF3E9B5E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CA2-8F25-4EE1-B339-E18E964D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7C5-55C3-40BF-8E26-E2B831F3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9B3-38A9-4CD4-AE0C-2BF0B33B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118-8434-44A4-8D4A-C0BE62A1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00D9-2077-4E80-84CB-F85E81CF9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Cooper Black"/>
              </a:rPr>
              <a:t>Who am I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you identify these Illinois critt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0160000">
            <a:off x="1447920" y="4724280"/>
            <a:ext cx="138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4" name=""/>
          <p:cNvSpPr txBox="1"/>
          <p:nvPr/>
        </p:nvSpPr>
        <p:spPr>
          <a:xfrm rot="1768200">
            <a:off x="6705360" y="4571640"/>
            <a:ext cx="85860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73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730000"/>
              </a:gradFill>
              <a:latin typeface="Cooper Black"/>
              <a:ea typeface="Cooper Black"/>
            </a:endParaRPr>
          </a:p>
        </p:txBody>
      </p:sp>
      <p:sp>
        <p:nvSpPr>
          <p:cNvPr id="45" name=""/>
          <p:cNvSpPr txBox="1"/>
          <p:nvPr/>
        </p:nvSpPr>
        <p:spPr>
          <a:xfrm rot="20160000">
            <a:off x="3733560" y="1066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940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940000"/>
              </a:gradFill>
              <a:latin typeface="Cooper Black"/>
              <a:ea typeface="Cooper Black"/>
            </a:endParaRPr>
          </a:p>
        </p:txBody>
      </p:sp>
      <p:sp>
        <p:nvSpPr>
          <p:cNvPr id="46" name=""/>
          <p:cNvSpPr txBox="1"/>
          <p:nvPr/>
        </p:nvSpPr>
        <p:spPr>
          <a:xfrm rot="21194400">
            <a:off x="6629400" y="837720"/>
            <a:ext cx="689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908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908000"/>
              </a:gradFill>
              <a:latin typeface="Cooper Black"/>
              <a:ea typeface="Cooper Black"/>
            </a:endParaRPr>
          </a:p>
        </p:txBody>
      </p:sp>
      <p:sp>
        <p:nvSpPr>
          <p:cNvPr id="47" name=""/>
          <p:cNvSpPr txBox="1"/>
          <p:nvPr/>
        </p:nvSpPr>
        <p:spPr>
          <a:xfrm rot="1027200">
            <a:off x="1447560" y="533160"/>
            <a:ext cx="6886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474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474000"/>
              </a:gradFill>
              <a:latin typeface="Cooper Black"/>
              <a:ea typeface="Cooper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64771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. Trimpe 2008   http://sciencespot.ne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81400" cy="44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1128600">
            <a:off x="4191120" y="4952880"/>
            <a:ext cx="46836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372000"/>
                </a:gradFill>
                <a:latin typeface="Cooper Black"/>
              </a:rPr>
              <a:t>?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372000"/>
              </a:gra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228600"/>
            <a:ext cx="80773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the males of my species “sing” or make a noise that attracts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n adult I usually don’t eat,  but am a tasty treat for songbi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remain in the ground as a nymph for  as many as 17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often mistakenly call me a loc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ooper Black"/>
              <a:ea typeface="Cooper Black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743200" y="3962520"/>
            <a:ext cx="5457960" cy="2230200"/>
            <a:chOff x="2743200" y="3962520"/>
            <a:chExt cx="5457960" cy="2230200"/>
          </a:xfrm>
        </p:grpSpPr>
        <p:sp>
          <p:nvSpPr>
            <p:cNvPr id="54" name=""/>
            <p:cNvSpPr/>
            <p:nvPr/>
          </p:nvSpPr>
          <p:spPr>
            <a:xfrm>
              <a:off x="2743200" y="48006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ca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4800600" y="3962520"/>
              <a:ext cx="3400560" cy="22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177840" y="645156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nr.state.wi.us/org/caer/ce/eek/critte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228600"/>
            <a:ext cx="762012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the world's-largest land-dwelling salaman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live in prairie ponds, marshes, lakes, and woodland p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somewhat of a chameleon as my colors and patterns can change throughout my lifecy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 am young, I am definitely spotted, but my spots turn to bars (like a tiger) or irregular blotc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the Illinois state amphib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Cooper Black"/>
              <a:ea typeface="Cooper Black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647712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nr.state.wi.us/org/caer/ce/eek/critte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314880" y="4267080"/>
            <a:ext cx="5448240" cy="2334960"/>
            <a:chOff x="3314880" y="4267080"/>
            <a:chExt cx="5448240" cy="2334960"/>
          </a:xfrm>
        </p:grpSpPr>
        <p:sp>
          <p:nvSpPr>
            <p:cNvPr id="61" name=""/>
            <p:cNvSpPr/>
            <p:nvPr/>
          </p:nvSpPr>
          <p:spPr>
            <a:xfrm>
              <a:off x="3314880" y="4647960"/>
              <a:ext cx="156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ger Salaman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915080" y="4267080"/>
              <a:ext cx="3848040" cy="233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324000"/>
            <a:ext cx="8001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live 20-30 years and grow to be the size of dinner pl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have external ears but use my shell (carapace) to conduct low-frequency vibrations to the middle 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dive up to 2 meters and stay under as long as an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may be “painted”, but I’m not ar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m the Illinois state rept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 know who I 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16200000">
            <a:off x="-709200" y="1471320"/>
            <a:ext cx="2400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oper Black"/>
              </a:rPr>
              <a:t>Who am 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oper Black"/>
              <a:ea typeface="Cooper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77840" y="645156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nr.state.wi.us/org/caer/ce/eek/critter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895480" y="3886200"/>
            <a:ext cx="6077160" cy="2708280"/>
            <a:chOff x="2895480" y="3886200"/>
            <a:chExt cx="6077160" cy="2708280"/>
          </a:xfrm>
        </p:grpSpPr>
        <p:sp>
          <p:nvSpPr>
            <p:cNvPr id="67" name=""/>
            <p:cNvSpPr/>
            <p:nvPr/>
          </p:nvSpPr>
          <p:spPr>
            <a:xfrm>
              <a:off x="2895480" y="54864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inted Tur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029200" y="3886200"/>
              <a:ext cx="3943440" cy="270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2:20:42Z</dcterms:created>
  <dc:creator>Tracy Trimpe</dc:creator>
  <dc:description/>
  <dc:language>en-US</dc:language>
  <cp:lastModifiedBy>Tracy Trimpe</cp:lastModifiedBy>
  <dcterms:modified xsi:type="dcterms:W3CDTF">2008-05-05T01:06:49Z</dcterms:modified>
  <cp:revision>61</cp:revision>
  <dc:subject/>
  <dc:title>Who am I?</dc:title>
</cp:coreProperties>
</file>