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A43-2D8E-4E59-B0A8-42BB6C45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A92-585A-4B83-8ACB-CDF1BC49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BD2-E423-4505-B1FD-7596C362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282-2CA6-4940-B80D-9BDA75A5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B69-73E2-4AB3-8F7B-CBF6EB7C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564-EC73-4329-A640-DFA3FDB0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26A-6AF9-4CAC-A732-3224CE3E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49B-DE5D-4C87-9B3E-956C4CBC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DF8-FCD7-4CAA-8EC9-5BC35D4B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46F-B1F7-4D8E-A2B3-ED44AE7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05C-616A-4277-A4A9-00F6021D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990-4CA6-4D10-B008-F69E38C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9F5-8068-4DEB-A99F-7F8759699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8077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e males of my species “sing” or make a noise that attracts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 adult I usually don’t eat,  but am a tasty treat for songbi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remain in the ground as a nymph for  as many as 17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often mistakenly call me a loc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743200" y="3962520"/>
            <a:ext cx="5457960" cy="2230200"/>
            <a:chOff x="2743200" y="3962520"/>
            <a:chExt cx="5457960" cy="2230200"/>
          </a:xfrm>
        </p:grpSpPr>
        <p:sp>
          <p:nvSpPr>
            <p:cNvPr id="54" name=""/>
            <p:cNvSpPr/>
            <p:nvPr/>
          </p:nvSpPr>
          <p:spPr>
            <a:xfrm>
              <a:off x="2743200" y="48006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c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800600" y="3962520"/>
              <a:ext cx="3400560" cy="22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228600"/>
            <a:ext cx="762012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world's-largest land-dwelling salaman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prairie ponds, marshes, lakes, and woodland p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somewhat of a chameleon as my colors and patterns can change throughout my lifecy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 am young, I am definitely spotted, but my spots turn to bars (like a tiger) or irregular blot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Illinois state amphib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64771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314880" y="4267080"/>
            <a:ext cx="5448240" cy="2334960"/>
            <a:chOff x="3314880" y="4267080"/>
            <a:chExt cx="5448240" cy="2334960"/>
          </a:xfrm>
        </p:grpSpPr>
        <p:sp>
          <p:nvSpPr>
            <p:cNvPr id="61" name=""/>
            <p:cNvSpPr/>
            <p:nvPr/>
          </p:nvSpPr>
          <p:spPr>
            <a:xfrm>
              <a:off x="3314880" y="4647960"/>
              <a:ext cx="156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ger 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915080" y="4267080"/>
              <a:ext cx="3848040" cy="233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324000"/>
            <a:ext cx="8001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live 20-30 years and grow to be the size of dinner pl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have external ears but use my shell (carapace) to conduct low-frequency vibrations to the middle 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dive up to 2 meters and stay under as long as an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ay be “painted”, but I’m not ar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Illinois state rep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95480" y="3886200"/>
            <a:ext cx="6077160" cy="2708280"/>
            <a:chOff x="2895480" y="3886200"/>
            <a:chExt cx="6077160" cy="2708280"/>
          </a:xfrm>
        </p:grpSpPr>
        <p:sp>
          <p:nvSpPr>
            <p:cNvPr id="67" name=""/>
            <p:cNvSpPr/>
            <p:nvPr/>
          </p:nvSpPr>
          <p:spPr>
            <a:xfrm>
              <a:off x="2895480" y="54864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inted 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029200" y="3886200"/>
              <a:ext cx="3943440" cy="270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49Z</dcterms:modified>
  <cp:revision>61</cp:revision>
  <dc:subject/>
  <dc:title>Who am I?</dc:title>
</cp:coreProperties>
</file>