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9F71-D627-476E-AA19-1FF0B7FD8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98D5-AE52-49E7-A8B0-619EEA7C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0EB5-09A7-41A5-95FD-E17D44858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F490-8A2A-49E7-BC98-132B4C539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D08A-BC33-4670-87D9-426780B5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4B45-674E-449E-899F-ED7F7C63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754A-4355-472B-B9BD-337BADC2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EAC8-F212-49E7-9AD3-B2877472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A295-9AAC-4FC8-8651-6348486D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2807-6CFC-49CB-B379-3B19C690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1836-A750-470D-8337-E6293708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CB34-7665-47BD-832F-F982666D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26A1-02C4-4AD2-8148-2187621F7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305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Cooper Black"/>
              </a:rPr>
              <a:t>Who am I?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3809880"/>
            <a:ext cx="8153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n you identify these Illinois critter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20160000">
            <a:off x="1447920" y="4724280"/>
            <a:ext cx="1388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4940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4940000"/>
              </a:gra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1768200">
            <a:off x="6705360" y="4571640"/>
            <a:ext cx="858600" cy="20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1730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1730000"/>
              </a:gra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20160000">
            <a:off x="3733560" y="1066320"/>
            <a:ext cx="914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4940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4940000"/>
              </a:gra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21194400">
            <a:off x="6629400" y="837720"/>
            <a:ext cx="68904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908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908000"/>
              </a:gradFill>
              <a:latin typeface="Cooper Black"/>
              <a:ea typeface="Cooper Black"/>
            </a:endParaRPr>
          </a:p>
        </p:txBody>
      </p:sp>
      <p:sp>
        <p:nvSpPr>
          <p:cNvPr id="47" name=""/>
          <p:cNvSpPr txBox="1"/>
          <p:nvPr/>
        </p:nvSpPr>
        <p:spPr>
          <a:xfrm rot="1027200">
            <a:off x="1447560" y="533160"/>
            <a:ext cx="68868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2474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2474000"/>
              </a:gradFill>
              <a:latin typeface="Cooper Black"/>
              <a:ea typeface="Cooper Black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 rot="1128600">
            <a:off x="4191120" y="4952880"/>
            <a:ext cx="468360" cy="6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2372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2372000"/>
              </a:gra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66680" y="228600"/>
            <a:ext cx="7925040" cy="39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m a scrappy fighter and am able to kill prey larger than I 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I smell prey, I chase or burrow after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5% of my diet is small rod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small head and sleek body enable me to enter mouse runways and vole tunn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lor of my coat may change with the season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know who I 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 rot="16200000">
            <a:off x="-709200" y="1471320"/>
            <a:ext cx="2400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Cooper Black"/>
              </a:rPr>
              <a:t>Who am I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Cooper Black"/>
              <a:ea typeface="Cooper Black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666880" y="3733920"/>
            <a:ext cx="5791320" cy="2738160"/>
            <a:chOff x="2666880" y="3733920"/>
            <a:chExt cx="5791320" cy="2738160"/>
          </a:xfrm>
        </p:grpSpPr>
        <p:sp>
          <p:nvSpPr>
            <p:cNvPr id="54" name=""/>
            <p:cNvSpPr/>
            <p:nvPr/>
          </p:nvSpPr>
          <p:spPr>
            <a:xfrm>
              <a:off x="2666880" y="563868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as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4724280" y="3733920"/>
              <a:ext cx="3733920" cy="273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/>
          <p:nvPr/>
        </p:nvSpPr>
        <p:spPr>
          <a:xfrm>
            <a:off x="304920" y="647712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dnr.state.il.us/lands/Education/interprt/wskid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228600"/>
            <a:ext cx="7620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an eat six hundred mosquitoes in an h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m certainly not bl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never fly into your hair. (That would be rude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m the only mammal that can truly f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use echolocation to locate and capture my pre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know who I 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 rot="16200000">
            <a:off x="-709200" y="1471320"/>
            <a:ext cx="2400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Cooper Black"/>
              </a:rPr>
              <a:t>Who am I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Cooper Black"/>
              <a:ea typeface="Cooper Black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133720" y="3962520"/>
            <a:ext cx="6400800" cy="2582640"/>
            <a:chOff x="2133720" y="3962520"/>
            <a:chExt cx="6400800" cy="2582640"/>
          </a:xfrm>
        </p:grpSpPr>
        <p:sp>
          <p:nvSpPr>
            <p:cNvPr id="60" name=""/>
            <p:cNvSpPr/>
            <p:nvPr/>
          </p:nvSpPr>
          <p:spPr>
            <a:xfrm>
              <a:off x="2133720" y="57913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ttle Brown B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5105520" y="3962520"/>
              <a:ext cx="3429000" cy="258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304920" y="647712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dnr.state.il.us/lands/Education/interprt/wskid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43000" y="324000"/>
            <a:ext cx="77724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was responsible for the exploration of the American W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an groom my fur with my split toenail com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big orange teeth never stop gr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use my tail to sound the ala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m sometimes killed by falling tre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know who I 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 rot="16200000">
            <a:off x="-709200" y="1471320"/>
            <a:ext cx="2400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Who am I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895480" y="3886200"/>
            <a:ext cx="5486400" cy="2525760"/>
            <a:chOff x="2895480" y="3886200"/>
            <a:chExt cx="5486400" cy="252576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5029200" y="3886200"/>
              <a:ext cx="3352680" cy="25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2895480" y="594360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a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304920" y="647712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dnr.state.il.us/lands/Education/interprt/wskid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5-05T01:06:27Z</dcterms:modified>
  <cp:revision>25</cp:revision>
  <dc:subject/>
  <dc:title>Who am I?</dc:title>
</cp:coreProperties>
</file>