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590-E556-4E30-AE4B-FE9ACC79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CA6-2DC6-4CA0-BEC3-96733F8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B70-819C-4487-ADF3-A5623CA6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3EB-0BF3-4B87-856E-39741701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BA8-30F8-41AA-B820-8237623B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E49-0C71-4B6C-BD03-DFB43A82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34F-CCE8-4C75-8164-02835E98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E18-983D-47C3-B3CB-D447A82C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75D-A3B2-4E91-A559-822A42A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795-2475-49F9-8EFC-82A6791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EBB-BFFA-4D02-BED6-28B5657F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4D5-B9BE-46D1-AFD4-B0059E06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C4D9-B789-4E7A-94CB-BD4382DA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scrappy fighter and am able to kill prey larger than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 smell prey, I chase or burrow aft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% of my diet is small ro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mall head and sleek body enable me to enter mouse runways and vole tu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or of my coat may change with the season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66880" y="3733920"/>
            <a:ext cx="5791320" cy="2738160"/>
            <a:chOff x="2666880" y="3733920"/>
            <a:chExt cx="5791320" cy="2738160"/>
          </a:xfrm>
        </p:grpSpPr>
        <p:sp>
          <p:nvSpPr>
            <p:cNvPr id="54" name=""/>
            <p:cNvSpPr/>
            <p:nvPr/>
          </p:nvSpPr>
          <p:spPr>
            <a:xfrm>
              <a:off x="2666880" y="56386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as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724280" y="3733920"/>
              <a:ext cx="3733920" cy="27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22860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eat six hundred mosquitoes in an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certainly not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never fly into your hair. (That would be rud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only mammal that can truly 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echolocation to locate and capture my pr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133720" y="3962520"/>
            <a:ext cx="6400800" cy="2582640"/>
            <a:chOff x="2133720" y="3962520"/>
            <a:chExt cx="6400800" cy="2582640"/>
          </a:xfrm>
        </p:grpSpPr>
        <p:sp>
          <p:nvSpPr>
            <p:cNvPr id="60" name=""/>
            <p:cNvSpPr/>
            <p:nvPr/>
          </p:nvSpPr>
          <p:spPr>
            <a:xfrm>
              <a:off x="2133720" y="57913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ttle Brown B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5105520" y="3962520"/>
              <a:ext cx="3429000" cy="258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324000"/>
            <a:ext cx="7772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s responsible for the exploration of the American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groom my fur with my split toenail c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ig orange teeth never stop g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my tail to sound the al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sometimes killed by falling tr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3886200"/>
            <a:ext cx="5486400" cy="2525760"/>
            <a:chOff x="2895480" y="3886200"/>
            <a:chExt cx="5486400" cy="2525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029200" y="3886200"/>
              <a:ext cx="335268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95480" y="59436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27Z</dcterms:modified>
  <cp:revision>25</cp:revision>
  <dc:subject/>
  <dc:title>Who am I?</dc:title>
</cp:coreProperties>
</file>