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DCA-7EFA-4E43-B0F8-11AB7EC8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079-791C-499F-800D-25A1FE9C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84C-C6B9-418D-8FB9-402760D4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E4A-D7E2-4383-8A03-B96D5C5A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4FB-2DC9-4280-B8B4-1C5752BB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AF1-A666-449F-BEF2-815CBDFB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099-4601-481E-AECF-4F877966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780-4A14-4C46-BB95-2D703F12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D9C-90E2-41ED-AECC-371F84DF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658-0065-476C-AFD3-91873302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36D-5FCC-43C0-A63E-A4A1ED97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3C6-AF5B-499D-86C7-0640FD76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B20F-0F06-41E6-939D-E62790DA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79250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y teeth often make me look like I’m snar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ears and tail are sometimes frost-b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use my tail to hold on to a branch or carry leaves for my n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an opposable thu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North America’s only marsup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3486240" cy="2614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43000" y="228600"/>
            <a:ext cx="7620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ur is reversible; it lays flat in either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eet do not extend below my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“slurp” earthworms like spaghe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hands are on backward (palms out) so I can “swim” through the d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“see” in the darkness with my n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0" r="0" b="4682"/>
          <a:stretch/>
        </p:blipFill>
        <p:spPr>
          <a:xfrm>
            <a:off x="5486400" y="4267080"/>
            <a:ext cx="297180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32400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see me in the d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wear a warning to “stay awa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at horned owl is my only pred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aid turtle nests to feast on eg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scent is unforget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23875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57Z</dcterms:modified>
  <cp:revision>12</cp:revision>
  <dc:subject/>
  <dc:title>Who am I?</dc:title>
</cp:coreProperties>
</file>