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2B7-CCA3-44DC-AF56-460BADAE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BB6-22FE-47C9-976D-C5E6E245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3F8-DAF9-4522-866D-6C9E8FB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3B2-7B85-495F-9BA5-A64DABC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469-83C0-4B5D-A995-C50A9D6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212-9071-4FA1-9006-B9CC8C0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4A2-9244-45F5-B4AF-9DD9978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E42-5784-46E3-85BB-18ECE69B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821-2218-40B3-A0B0-0D264DD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31A-275C-4FC0-91EC-8EEFD74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0E7-11F6-485F-B745-E0BC197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642-ECBE-47DA-9B69-3871A4F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33E2-78A2-4303-994A-94EB5EB46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y teeth often make me look like I’m snar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ars and tail are sometimes frost-b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use my tail to hold on to a branch or carry leaves for my 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n opposable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North America’s only marsup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486240" cy="261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228600"/>
            <a:ext cx="7620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ur is reversible; it lays flat in either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eet do not extend below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lurp” earthworms like spagh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hands are on backward (palms out) so I can “swim” through the d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ee” in the darkness with my n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4682"/>
          <a:stretch/>
        </p:blipFill>
        <p:spPr>
          <a:xfrm>
            <a:off x="5486400" y="4267080"/>
            <a:ext cx="297180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3240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ee me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ear a warning to “stay awa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horned owl is my only pred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aid turtle nests to feast on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cent is unforget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3875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57Z</dcterms:modified>
  <cp:revision>12</cp:revision>
  <dc:subject/>
  <dc:title>Who am I?</dc:title>
</cp:coreProperties>
</file>