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B0C-1E71-4A31-9AFB-7C1F275F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602-EB3A-4BE6-8D74-C0EEF987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EFB-B909-4983-9EAF-3C1B1D73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38F-C2A1-4DE9-8D79-CD04187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F417-69A6-4C0B-A11D-7B7B68C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81A-A086-431B-9326-423CCAD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313-DB31-45FC-A8BA-CB40E7FA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D6F-46FF-493C-BF3D-D03835C6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107-0AD1-41EA-80BF-AE9BAE6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32D-CA56-4E6C-8930-6E4505C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F2EE-6116-4EAB-8264-E32EEA4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2C0-63F7-49A1-A3FB-A2B1DD1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637-FEF4-414D-ADEE-57A420CC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3504960" cy="3300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09480" y="2895480"/>
            <a:ext cx="7848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oper Black"/>
              </a:rPr>
              <a:t>Bug Jokes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words to figure out the punch li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bees hum?   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 R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  E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1477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do bees chew?    L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BE  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did one firefly say to the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2040" y="3900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   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  OW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981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y did the insect get kicked out of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57676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A   T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T  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2895480"/>
            <a:ext cx="181296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20" y="303840"/>
            <a:ext cx="89154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bees hum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4776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What do bees chew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051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at did one firefly say to the 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62040" y="3900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TTA GLOW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90536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hy did the insect get kicked out of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5008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S A LITTERB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066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FORGOT TH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1337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MBLE 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8-27T14:49:36Z</dcterms:modified>
  <cp:revision>19</cp:revision>
  <dc:subject/>
  <dc:title>Slide 1</dc:title>
</cp:coreProperties>
</file>