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268-371F-4318-A372-8F86B7B6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1528-9396-48D9-8C2D-7ECFA2A7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8F2-DC65-4173-B98E-1184EB0C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3DAA-4944-4A2A-BA6E-B6454FC7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0594-A581-4597-A94C-53EF8BA8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DB4-5DFE-4614-ADDB-F5158F68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31D-9525-4087-8829-390876DC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163-CF88-45AC-9886-7B8588D1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DAA-41E2-4586-8AD0-087B1486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2FB-37B8-401D-84F6-AA2E4E92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83B-7BCE-444D-94AE-6097BFC0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D126-F037-4D01-A4C4-3264F0B3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0D05-75C4-46AC-935D-FAE012446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3504960" cy="3300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09480" y="289548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Bug Joke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unscramble the words to figure out the punch li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066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bees hum?   H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 R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G  E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O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14776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hat do bees chew?    LU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BE  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30516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at did one firefly say to the 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62040" y="3900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   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  OW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981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hy did the insect get kicked out of the pa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57676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 A   TI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T  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010280" y="2895480"/>
            <a:ext cx="181296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0666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bees hum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14776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hat do bees chew?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30516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at did one firefly say to the 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62040" y="3900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TTA GLOW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90536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hy did the insect get kicked out of the pa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55008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WAS A LITTERB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1066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FORGOT TH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21337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MBLE G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8-27T14:49:36Z</dcterms:modified>
  <cp:revision>19</cp:revision>
  <dc:subject/>
  <dc:title>Slide 1</dc:title>
</cp:coreProperties>
</file>