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FCC-FF14-4F4B-BD4F-9848DF06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5C0-3EC0-4963-BD3F-73BE2E82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BF3-4157-47F9-8133-C7B031FE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6FB-52D8-4425-9A62-80107BFC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15F-A0E1-4D0E-BB7B-D769E9B0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B57-527D-41E7-ACF7-6A2DBF9C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1EC-1844-45A6-805F-75F5AA6C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21A-CB4D-4DAC-9E58-369EF6CF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F5D-6E51-4826-8622-0130B691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FDB-F35B-49D3-B1BE-2FA4D3A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2B7-B77B-456C-B39E-E990B5C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BFD-95D0-4996-9585-F8FCC8D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CF8C-6D7B-4399-AAEA-2035BADF9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504960" cy="3300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9480" y="2895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Joke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insects learn at school?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1477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game do ants play with elephants?     S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Q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goes “hum, choo, hum choo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3824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 I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  A  L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66236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the judge say when a stinkbug walked into cou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52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 D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 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  R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43800" y="5410080"/>
            <a:ext cx="14176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066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insects learn at school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477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game do ants play with elepha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goes “hum, choo, hum choo”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24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EE WITH A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66236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at did the judge say when a stinkbug walked into cou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2722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R, ODOR IN THE COU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0666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H-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2133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8-26T01:19:21Z</dcterms:modified>
  <cp:revision>12</cp:revision>
  <dc:subject/>
  <dc:title>Slide 1</dc:title>
</cp:coreProperties>
</file>