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289-6F22-4E69-B7B5-C88433F9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754-FDF6-458B-8CD8-BC1A430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A05-D472-4DC1-BD51-E82BE5C7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D18-2585-4A28-85CD-E2C5D2A8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247-2A4B-4AFC-B9BB-35DF7B41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AF5-72A4-4B65-B686-D9A34278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79F-2F31-4D1C-8A5D-E61B0190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C6A-4C7E-4FEF-8757-FF6AB8BA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D71-6413-4F56-917D-0CB9E53E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FEF-9ADE-4E01-9183-95DFE2D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FBF-174B-44C0-8FA8-2543FAA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6B7-9EEE-4A29-89D8-1AE4B0E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3027-38E2-49D1-9D1B-C65E2BBE3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504960" cy="3300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9480" y="2895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Joke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insects learn at school?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1477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game do ants play with elephants?     S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Q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goes “hum, choo, hum choo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824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 I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  A  L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66236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the judge say when a stinkbug walked into cou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52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 D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 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  R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5410080"/>
            <a:ext cx="14176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066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insects learn at school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477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game do ants play with elepha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goes “hum, choo, hum choo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24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E WITH A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66236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the judge say when a stinkbug walked into cou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2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R, ODOR IN THE COU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066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H-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133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8-26T01:19:21Z</dcterms:modified>
  <cp:revision>12</cp:revision>
  <dc:subject/>
  <dc:title>Slide 1</dc:title>
</cp:coreProperties>
</file>