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967-259F-4760-8244-4940DB38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578-B63E-4E82-A635-902D333F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96D-188A-4D82-A4CA-F0E70681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ABA-B4D5-44CB-A79A-2DD268B1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429-E9E6-4A5D-830D-2050C471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ACB-E932-42D2-B9B5-8DC39BBD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C68-4871-4F20-B485-B136E766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0AD-5055-4F8F-B525-2812A869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DFE-FFED-4C39-8C7F-D9CD2260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4570-1F6F-49BF-9FAE-13C22ECB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9E3-8284-4347-9994-8A490AF7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8F9-66FB-406D-90AB-72C5AA66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E10B-25F2-4863-844E-EB7CCCDB8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609480"/>
            <a:ext cx="80773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oper Black"/>
              </a:rPr>
              <a:t>Animal Jokes:  Spider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3049560" cy="3468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7728200">
            <a:off x="7178400" y="4022640"/>
            <a:ext cx="133992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20437800">
            <a:off x="685440" y="3809520"/>
            <a:ext cx="1339920" cy="1524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380880"/>
            <a:ext cx="8534160" cy="60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unscramble the words to figure out the punch line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nt:  They all relate to spid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Why are spiders good baseball player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uece   tyhe  kwon   ohw  ot   tachc   lif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ere do spiders go to learn new word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be-ters’s  Dcitinoayr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How does a spider greet a fly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m’I  os   leapsde   ot   tae   oyu!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380880"/>
            <a:ext cx="853416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the answers are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Why are spiders good baseball play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they know how to catch flies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Where do spiders go to learn new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-ster’s Dictionar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How does a spider greet a f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m so pleased to eat you!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3:39:42Z</dcterms:created>
  <dc:creator>Tracy Trimpe</dc:creator>
  <dc:description/>
  <dc:language>en-US</dc:language>
  <cp:lastModifiedBy>Tracy Trimpe</cp:lastModifiedBy>
  <dcterms:modified xsi:type="dcterms:W3CDTF">2008-05-05T01:17:36Z</dcterms:modified>
  <cp:revision>6</cp:revision>
  <dc:subject/>
  <dc:title>Slide 1</dc:title>
</cp:coreProperties>
</file>