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1C8-B4E9-438C-8520-58F69058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8F1-EA50-4D91-BCD0-B77F4EA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181-E5DB-4CD9-99B7-A37418E6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9A7-948C-4117-B4DA-D6E98C50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D95-6811-4918-A5A9-7D3B741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A18-37EB-455E-98E8-FEBE2DB8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E45-2AB3-4F5D-ADF4-224CC8C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B6E-6541-4E84-8787-EE382A38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E6E-655F-402F-BAD3-A0B539A1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24F-752B-4C00-A940-D398210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29E-870F-4A53-9B84-4BE92AD4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656-8F3F-4002-984D-57C644C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77A4-6CF0-4ABB-8E21-C4D403E5E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09480"/>
            <a:ext cx="80773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Animal Jokes:  Spi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049560" cy="346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7728200">
            <a:off x="7178400" y="4022640"/>
            <a:ext cx="13399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0437800">
            <a:off x="685440" y="3809520"/>
            <a:ext cx="13399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80880"/>
            <a:ext cx="853416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t:  They all relate to spid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y are spiders good baseball player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uece   tyhe  kwon   ohw  ot   tachc   lif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ere do spiders go to learn new word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e-ters’s  Dcitinoay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How does a spider greet a fly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m’I  os   leapsde   ot   tae   oyu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80880"/>
            <a:ext cx="853416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y are spiders good baseball p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y know how to catch flies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ere do spiders go to learn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ster’s Dictionar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How does a spider greet a f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so pleased to eat you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3:39:42Z</dcterms:created>
  <dc:creator>Tracy Trimpe</dc:creator>
  <dc:description/>
  <dc:language>en-US</dc:language>
  <cp:lastModifiedBy>Tracy Trimpe</cp:lastModifiedBy>
  <dcterms:modified xsi:type="dcterms:W3CDTF">2008-05-05T01:17:36Z</dcterms:modified>
  <cp:revision>6</cp:revision>
  <dc:subject/>
  <dc:title>Slide 1</dc:title>
</cp:coreProperties>
</file>