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B32-4838-4E08-8372-5E205DB8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667-FA5F-4A82-B850-315EB27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703-6018-4DE2-834E-8DE70D2A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C8D-578A-4A8C-BC7D-7E0C89B5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05D-57D4-42E9-9970-99074EC3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A91-7138-42AC-9B09-D90D5241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A60-1500-4481-938E-396F023B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AC3-D683-4497-9906-FD70DD85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972-6E71-42FE-ADB5-0258325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325-FB95-4552-8723-3284BA8D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B6F-9EE1-42A2-907F-14A6839B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E62-406B-4AE6-9E6A-CA5AB4B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42A87E61-4B37-4FE2-8F21-B078B55F8D0E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496600">
            <a:off x="58680" y="817560"/>
            <a:ext cx="10607760" cy="400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Snake Jokes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4790880" cy="4162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7696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3814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5040" y="457200"/>
            <a:ext cx="1024272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?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Hint:  They all relate to frog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would you get if you crossed 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w born snake with a basketball 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 uncnigo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b o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subject are snakes good at in school ?</a:t>
            </a:r>
            <a:br>
              <a:rPr sz="34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is-yotr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do baby pythons play with ?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400"/>
            </a:b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tle  kna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7772400"/>
            <a:ext cx="49388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://www.familypets.net/snakejokes.ht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680" y="5668920"/>
            <a:ext cx="1933560" cy="195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97800" y="5486400"/>
            <a:ext cx="21639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5040" y="457200"/>
            <a:ext cx="102427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would you get if you crossed 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w born snake with a basketball 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bouncing baby bo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subject are snakes good at in school 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iss-tor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hat do baby pythons play with ?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attle snak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680" y="5851440"/>
            <a:ext cx="2193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3:39:42Z</dcterms:created>
  <dc:creator>Tracy Trimpe</dc:creator>
  <dc:description/>
  <dc:language>en-US</dc:language>
  <cp:lastModifiedBy>Tracy Trimpe</cp:lastModifiedBy>
  <dcterms:modified xsi:type="dcterms:W3CDTF">2008-05-05T01:18:21Z</dcterms:modified>
  <cp:revision>27</cp:revision>
  <dc:subject/>
  <dc:title>Slide 1</dc:title>
</cp:coreProperties>
</file>