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D2F9-A950-4EF1-BAD9-8AC418C7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9A9-380A-46D5-A381-7F793E36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DF6-AEBE-41C3-8D87-97A6D9E8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20F-487A-480E-8695-607E33F8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CFC-823D-4DB0-B945-E20187B5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E8B-FEB1-48DD-B6A2-43844310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5C15-4AC8-4AF3-B72A-502C27F0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CC3-ED06-499A-B6E1-9CCEA085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352-DC92-4C59-ADC4-BFA92BFF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6C5-392E-4D22-97E6-E6B4086A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7F9-6D45-4A35-91E2-75E3B05E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67A-7DB4-40A9-AAC5-0C25860C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AD8B150A-AB93-4201-8126-42FF74D25B78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496600">
            <a:off x="58680" y="817560"/>
            <a:ext cx="10607760" cy="400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Snake Jokes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62720" y="3733920"/>
            <a:ext cx="4790880" cy="4162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7696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3814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5040" y="457200"/>
            <a:ext cx="1024272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an you unscramble the words to figure out the punch line?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Hint:  They all relate to frogs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 would you get if you crossed a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new born snake with a basketball 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uncnigo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b o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 subject are snakes good at in school ?</a:t>
            </a:r>
            <a:br>
              <a:rPr sz="3400"/>
            </a:b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is-yotr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 do baby pythons play with ?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400"/>
            </a:b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a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le  kna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040" y="7772400"/>
            <a:ext cx="49388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.familypets.net/snakejokes.ht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680" y="5668920"/>
            <a:ext cx="1933560" cy="1951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497800" y="5486400"/>
            <a:ext cx="21639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5040" y="457200"/>
            <a:ext cx="102427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And the answers are ..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 would you get if you crossed a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new born snake with a basketball 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 bouncing baby bo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 subject are snakes good at in school 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iss-tor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 do baby pythons play with ?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attle snak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680" y="5851440"/>
            <a:ext cx="21938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3:39:42Z</dcterms:created>
  <dc:creator>Tracy Trimpe</dc:creator>
  <dc:description/>
  <dc:language>en-US</dc:language>
  <cp:lastModifiedBy>Tracy Trimpe</cp:lastModifiedBy>
  <dcterms:modified xsi:type="dcterms:W3CDTF">2008-05-05T01:18:21Z</dcterms:modified>
  <cp:revision>27</cp:revision>
  <dc:subject/>
  <dc:title>Slide 1</dc:title>
</cp:coreProperties>
</file>