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C5E3-9BF2-4AEA-A589-A171759B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8CE7-F5FD-4B21-BB71-16EBC21F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04AF-139D-480F-877C-B175149B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03D0-4901-4903-A2B0-764645B1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6A2D-6E68-4D90-B373-051B7D90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5A25-9BA4-4B79-BB0D-FB31BFCF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5A73-79FE-4C5F-8804-4DB373C9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BFEE-0827-4C6D-B658-ED45EECC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148A-A4AB-4F0B-862A-90F334B8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E494-EF11-4F9E-B739-4857D0FD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22E-DA88-4EDA-9D8B-3178B59A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6885-E8F5-4205-BF86-B6486B04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9174-EEFE-4D6D-87AC-D6D93F82C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386800">
            <a:off x="533160" y="1447920"/>
            <a:ext cx="807696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Cooper Black"/>
              </a:rPr>
              <a:t>Frog Jokes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Cooper Black"/>
              <a:ea typeface="Cooper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400560" cy="3468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80880"/>
            <a:ext cx="8534160" cy="50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unscramble the words to figure out the punch line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nt:  They all relate to frog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What do you say to a hitch-hiking fro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Why are frogs so happy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 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 hat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  g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 h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What did the frog order at McDonald's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rc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s   n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 ro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647712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allaboutfrogs.org/funstuff/jokes/liners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29400" y="5105520"/>
            <a:ext cx="2362320" cy="15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380880"/>
            <a:ext cx="853416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the answers are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What do you say to a hitch-hiking fro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p in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Why are frogs so happy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eat whatever bugs the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What did the frog order at McDonald's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nch flies and a Cro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391520" y="4876920"/>
            <a:ext cx="1474560" cy="1733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flipH="1">
            <a:off x="228240" y="4876920"/>
            <a:ext cx="14749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3:39:42Z</dcterms:created>
  <dc:creator>Tracy Trimpe</dc:creator>
  <dc:description/>
  <dc:language>en-US</dc:language>
  <cp:lastModifiedBy>Tracy Trimpe</cp:lastModifiedBy>
  <dcterms:modified xsi:type="dcterms:W3CDTF">2008-05-05T01:18:00Z</dcterms:modified>
  <cp:revision>16</cp:revision>
  <dc:subject/>
  <dc:title>Slide 1</dc:title>
</cp:coreProperties>
</file>