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087C-D3F7-4EE4-848C-0DB9FCD6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B49B-5BD9-4521-A118-22A568A8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4BD1-8178-4957-8A6C-14696FDF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342A-96B1-48EA-AC7A-39278031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7FBF-4329-4E02-A17F-98512DD5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01B7-2C50-44C8-8C28-B775D138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6277-E837-436B-8BCB-C2E3D36D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3B8B-32C4-4684-A21C-4D5E9343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FDB-D8C6-434F-A0B1-7F5EED9C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AABF-C8D5-41B8-B624-8801CB4C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87A8-4C8B-4CAB-B761-47A92E74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3B6F-D037-42B0-81D9-2C7DCD76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5C01-F609-45B4-8EEB-B41337BB0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386800">
            <a:off x="533160" y="1447920"/>
            <a:ext cx="807696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Cooper Black"/>
              </a:rPr>
              <a:t>Frog Jokes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400560" cy="3468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80880"/>
            <a:ext cx="8534160" cy="50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unscramble the words to figure out the punch line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nt:  They all relate to frog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What do you say to a hitch-hiking fro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Why are frogs so happy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 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 hat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  g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 h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What did the frog order at McDonald's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rc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s   n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 ro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647712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allaboutfrogs.org/funstuff/jokes/liner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29400" y="5105520"/>
            <a:ext cx="236232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380880"/>
            <a:ext cx="853416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the answers are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What do you say to a hitch-hiking fro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p in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Why are frogs so happy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eat whatever bugs the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at did the frog order at McDonald's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nch flies and a Cro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391520" y="4876920"/>
            <a:ext cx="1474560" cy="173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flipH="1">
            <a:off x="228240" y="4876920"/>
            <a:ext cx="14749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3:39:42Z</dcterms:created>
  <dc:creator>Tracy Trimpe</dc:creator>
  <dc:description/>
  <dc:language>en-US</dc:language>
  <cp:lastModifiedBy>Tracy Trimpe</cp:lastModifiedBy>
  <dcterms:modified xsi:type="dcterms:W3CDTF">2008-05-05T01:18:00Z</dcterms:modified>
  <cp:revision>16</cp:revision>
  <dc:subject/>
  <dc:title>Slide 1</dc:title>
</cp:coreProperties>
</file>