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93B-55C1-48BC-8F3F-BFBF299F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CA4-90A5-466F-886E-CD4B7C7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712-9F85-43CD-9AB4-082F7248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936-E82C-4DBE-B67F-DBD4EDA0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C48-2A12-4256-A348-830DF5A0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D98-C22B-4774-BA55-7BFCAC4B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8FF-B97E-4E74-936B-DD69BB42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289-F0AA-44A7-B399-51A116F9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4B3-F2C1-45E4-93E9-C775DEEB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347-4A19-4369-92B6-579AF42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182-DCFE-4CE4-90B5-502FF12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649-556F-4CFB-BDEB-C2110056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EA70-C498-4B66-AC1D-70ECBDE45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 the mollus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organism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609480"/>
            <a:ext cx="3124080" cy="157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- GASTRO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- BIV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- CEPHALO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55497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5549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n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594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l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M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3594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8200" y="2971800"/>
            <a:ext cx="1819080" cy="1700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17920" t="0" r="5084" b="0"/>
          <a:stretch/>
        </p:blipFill>
        <p:spPr>
          <a:xfrm>
            <a:off x="457200" y="491796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13999" t="8877" r="15334" b="0"/>
          <a:stretch/>
        </p:blipFill>
        <p:spPr>
          <a:xfrm>
            <a:off x="6858000" y="762120"/>
            <a:ext cx="1752480" cy="1611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rcRect l="19409" t="0" r="19409" b="0"/>
          <a:stretch/>
        </p:blipFill>
        <p:spPr>
          <a:xfrm>
            <a:off x="6858000" y="2971800"/>
            <a:ext cx="1752480" cy="169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rcRect l="0" t="0" r="19336" b="0"/>
          <a:stretch/>
        </p:blipFill>
        <p:spPr>
          <a:xfrm>
            <a:off x="6705720" y="4915080"/>
            <a:ext cx="20574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609480"/>
            <a:ext cx="3124080" cy="157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- GASTRO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- BIVA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- CEPHALOP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55497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5549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n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594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Sl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M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35942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S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8200" y="2971800"/>
            <a:ext cx="1819080" cy="1700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17920" t="0" r="5084" b="0"/>
          <a:stretch/>
        </p:blipFill>
        <p:spPr>
          <a:xfrm>
            <a:off x="457200" y="4917960"/>
            <a:ext cx="1981080" cy="172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rcRect l="13999" t="8877" r="15334" b="0"/>
          <a:stretch/>
        </p:blipFill>
        <p:spPr>
          <a:xfrm>
            <a:off x="6858000" y="762120"/>
            <a:ext cx="1752480" cy="161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rcRect l="19409" t="0" r="19409" b="0"/>
          <a:stretch/>
        </p:blipFill>
        <p:spPr>
          <a:xfrm>
            <a:off x="6858000" y="2971800"/>
            <a:ext cx="1752480" cy="169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rcRect l="0" t="0" r="19336" b="0"/>
          <a:stretch/>
        </p:blipFill>
        <p:spPr>
          <a:xfrm>
            <a:off x="6705720" y="4915080"/>
            <a:ext cx="2057400" cy="1726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47840" y="41148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477120" y="179064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47840" y="179064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77120" y="403848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47840" y="609588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77120" y="609588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1T01:46:27Z</dcterms:modified>
  <cp:revision>49</cp:revision>
  <dc:subject/>
  <dc:title>Slide 1</dc:title>
</cp:coreProperties>
</file>