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0CE-E6E6-452B-B675-8FB2960F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7EB-73DA-4C14-9432-F68C3A24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D45-7733-48E6-88ED-A39350C7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EBA-6DF8-4BE1-9E41-1D11BCFC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082-C417-4301-800B-9EA96DD6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85F-D0AB-403E-A605-CCA475E1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C26-8BC3-41B9-B756-B00C3E28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E88-5856-48AE-B606-A1C7834B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008-9B08-4644-9C55-2243F1C4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51E-555E-4411-81EE-7656C324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279-4578-4280-8C88-CB924D76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1C0-22FD-4D01-A943-91FA19C1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9F33-35DC-408D-9618-68A210CA0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70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know the mollus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organism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609480"/>
            <a:ext cx="3124080" cy="157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- GASTRO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- BIVA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- CEPHALO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55497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5549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n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594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Sl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M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3594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8200" y="2971800"/>
            <a:ext cx="1819080" cy="170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17920" t="0" r="5084" b="0"/>
          <a:stretch/>
        </p:blipFill>
        <p:spPr>
          <a:xfrm>
            <a:off x="457200" y="491796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13999" t="8877" r="15334" b="0"/>
          <a:stretch/>
        </p:blipFill>
        <p:spPr>
          <a:xfrm>
            <a:off x="6858000" y="762120"/>
            <a:ext cx="1752480" cy="1611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rcRect l="19409" t="0" r="19409" b="0"/>
          <a:stretch/>
        </p:blipFill>
        <p:spPr>
          <a:xfrm>
            <a:off x="6858000" y="2971800"/>
            <a:ext cx="1752480" cy="169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rcRect l="0" t="0" r="19336" b="0"/>
          <a:stretch/>
        </p:blipFill>
        <p:spPr>
          <a:xfrm>
            <a:off x="6705720" y="4915080"/>
            <a:ext cx="20574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609480"/>
            <a:ext cx="3124080" cy="157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- GASTRO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- BIVA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- CEPHALO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55497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549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n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594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Sl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M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3594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8200" y="2971800"/>
            <a:ext cx="1819080" cy="1700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17920" t="0" r="5084" b="0"/>
          <a:stretch/>
        </p:blipFill>
        <p:spPr>
          <a:xfrm>
            <a:off x="457200" y="491796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rcRect l="13999" t="8877" r="15334" b="0"/>
          <a:stretch/>
        </p:blipFill>
        <p:spPr>
          <a:xfrm>
            <a:off x="6858000" y="762120"/>
            <a:ext cx="1752480" cy="161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rcRect l="19409" t="0" r="19409" b="0"/>
          <a:stretch/>
        </p:blipFill>
        <p:spPr>
          <a:xfrm>
            <a:off x="6858000" y="2971800"/>
            <a:ext cx="1752480" cy="169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rcRect l="0" t="0" r="19336" b="0"/>
          <a:stretch/>
        </p:blipFill>
        <p:spPr>
          <a:xfrm>
            <a:off x="6705720" y="4915080"/>
            <a:ext cx="2057400" cy="172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47840" y="41148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477120" y="179064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47840" y="179064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77120" y="403848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47840" y="609588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77120" y="609588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1T01:46:27Z</dcterms:modified>
  <cp:revision>49</cp:revision>
  <dc:subject/>
  <dc:title>Slide 1</dc:title>
</cp:coreProperties>
</file>