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66BD1-93F6-4946-B457-1E45143FE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2A209-68D6-43A2-887F-2AD979A1A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F032D-E92D-42F4-92FC-D6302D221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EEB43-8355-434B-A96C-4FD689F61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94139-CBB5-4D7B-B5F2-EDB62363D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3E302-8273-40BD-9C47-C674790DA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F7893-F4BC-43DF-A1A7-5FF63246D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2A9DE-9610-4C72-8965-EAD1002E4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C7113-A483-4E1F-86A4-EE1474C0F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A27C9-3F34-45BA-A2F4-5690128D2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FE75B-5ADA-44C6-AAAC-1AE8BB662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9CE20-58F6-4C45-904D-783F13AFB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B54CF-D80E-49D6-89A1-6A5440881B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04920" y="563400"/>
            <a:ext cx="5790960" cy="236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Cooper Black"/>
              </a:rPr>
              <a:t>Classification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Cooper Black"/>
              <a:ea typeface="Cooper Black"/>
            </a:endParaRPr>
          </a:p>
        </p:txBody>
      </p:sp>
      <p:sp>
        <p:nvSpPr>
          <p:cNvPr id="42" name=""/>
          <p:cNvSpPr/>
          <p:nvPr/>
        </p:nvSpPr>
        <p:spPr>
          <a:xfrm>
            <a:off x="380880" y="5470560"/>
            <a:ext cx="8458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Do you know the mammal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705720" y="685800"/>
            <a:ext cx="1622160" cy="39337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2286000" y="3048120"/>
            <a:ext cx="5791320" cy="236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Cooper Black"/>
              </a:rPr>
              <a:t>Challenge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Cooper Black"/>
              <a:ea typeface="Cooper Black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575400" y="96840"/>
            <a:ext cx="2381400" cy="4478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295280" y="6477120"/>
            <a:ext cx="6400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. Trimpe 2008   http://sciencespot.net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152280"/>
            <a:ext cx="8610480" cy="459720"/>
          </a:xfrm>
          <a:prstGeom prst="rect">
            <a:avLst/>
          </a:prstGeom>
          <a:solidFill>
            <a:srgbClr val="9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Classify each mammal into its correct grou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28600" y="1069920"/>
            <a:ext cx="2666880" cy="2654280"/>
          </a:xfrm>
          <a:prstGeom prst="rect">
            <a:avLst/>
          </a:prstGeom>
          <a:solidFill>
            <a:srgbClr val="9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R – Rodent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L – Lagomorph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A – Artiodacty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P – Perissodacty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P – Proboscidea</a:t>
            </a:r>
            <a:br>
              <a:rPr sz="2400"/>
            </a:b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C – Cetac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P - Pinnep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124080" y="914400"/>
            <a:ext cx="5410440" cy="50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 Pika, Snowshoe Hare, &amp; Rabb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 Pygmy Goat &amp; White-tailed De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. African Elephant &amp; Asian Eleph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. Bottlenose Dolphin &amp; Blue Wh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. Chipmunk &amp; Nut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. Sea Lion &amp; Se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. Hippopotamus &amp; Zeb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28600" y="152280"/>
            <a:ext cx="8610480" cy="459720"/>
          </a:xfrm>
          <a:prstGeom prst="rect">
            <a:avLst/>
          </a:prstGeom>
          <a:solidFill>
            <a:srgbClr val="9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The answers are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6760" y="4013280"/>
            <a:ext cx="2666880" cy="459720"/>
          </a:xfrm>
          <a:prstGeom prst="rect">
            <a:avLst/>
          </a:prstGeom>
          <a:solidFill>
            <a:srgbClr val="9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R – Rodent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24080" y="914400"/>
            <a:ext cx="5410440" cy="50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 Pika, Snowshoe Hare, &amp; Rabb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 Pygmy Goat &amp; White-tailed De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. African Elephant &amp; Asian Eleph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. Bottlenose Dolphin &amp; Blue Wh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. Chipmunk &amp; Nut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. Sea Lion &amp; Se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. Hippopotamus &amp; Zeb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66760" y="1066680"/>
            <a:ext cx="2666880" cy="459720"/>
          </a:xfrm>
          <a:prstGeom prst="rect">
            <a:avLst/>
          </a:prstGeom>
          <a:solidFill>
            <a:srgbClr val="9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L – Lagomorph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760" y="4749840"/>
            <a:ext cx="2666880" cy="459720"/>
          </a:xfrm>
          <a:prstGeom prst="rect">
            <a:avLst/>
          </a:prstGeom>
          <a:solidFill>
            <a:srgbClr val="9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P - Pinnep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66760" y="1803240"/>
            <a:ext cx="2666880" cy="459720"/>
          </a:xfrm>
          <a:prstGeom prst="rect">
            <a:avLst/>
          </a:prstGeom>
          <a:solidFill>
            <a:srgbClr val="9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A – Artiodacty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66760" y="5486400"/>
            <a:ext cx="2666880" cy="459720"/>
          </a:xfrm>
          <a:prstGeom prst="rect">
            <a:avLst/>
          </a:prstGeom>
          <a:solidFill>
            <a:srgbClr val="9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P – Perissodacty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66760" y="2540160"/>
            <a:ext cx="2666880" cy="459720"/>
          </a:xfrm>
          <a:prstGeom prst="rect">
            <a:avLst/>
          </a:prstGeom>
          <a:solidFill>
            <a:srgbClr val="9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P – Proboscid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66760" y="3276720"/>
            <a:ext cx="2666880" cy="459720"/>
          </a:xfrm>
          <a:prstGeom prst="rect">
            <a:avLst/>
          </a:prstGeom>
          <a:solidFill>
            <a:srgbClr val="9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C – Cetac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27T19:50:33Z</dcterms:created>
  <dc:creator>Tracy Trimpe</dc:creator>
  <dc:description/>
  <dc:language>en-US</dc:language>
  <cp:lastModifiedBy>Tracy Trimpe</cp:lastModifiedBy>
  <dcterms:modified xsi:type="dcterms:W3CDTF">2008-06-01T02:22:44Z</dcterms:modified>
  <cp:revision>62</cp:revision>
  <dc:subject/>
  <dc:title>Slide 1</dc:title>
</cp:coreProperties>
</file>