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8D7-5ED1-4689-8B90-2B86780D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421-887B-45B9-B443-1BEC730F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9D8-01F1-4C10-833C-41B4ACCF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5BD-8209-45EA-98EF-D205EAA4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6C7-D71C-4E7B-8587-16B3AD7B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CC8-4BBC-4347-9C25-11155963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138-3EAB-4456-B33D-F9E1E800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BDF-2220-4F48-A18C-398AA5C6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7FAC-C332-4E4F-A045-4581EBB6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BA2-C34B-4D77-81DF-2FC323B8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666-DE54-49BD-885B-BF6F7EBE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AA6-5C91-4F10-8606-F62A02A1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BA47-2740-4BDC-9FFD-C14E12288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563400"/>
            <a:ext cx="57909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lassific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547056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you know the mamm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685800"/>
            <a:ext cx="1622160" cy="3933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0" y="3048120"/>
            <a:ext cx="57913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assify each mammal into its correct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069920"/>
            <a:ext cx="2666880" cy="26542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 – Roden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 – Lagomor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 – Artiodacty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 – Perissodacty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 – Proboscidea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 – Cetac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 - Pinnep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914400"/>
            <a:ext cx="5410440" cy="50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Pika, Snowshoe Hare, &amp; Rab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Pygmy Goat &amp; White-tailed D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African Elephant &amp; Asian Eleph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Bottlenose Dolphin &amp; Blue Wh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Chipmunk &amp; Nu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Sea Lion &amp; S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Hippopotamus &amp; Ze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52280"/>
            <a:ext cx="8610480" cy="4597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760" y="4013280"/>
            <a:ext cx="2666880" cy="4597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 – Roden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914400"/>
            <a:ext cx="5410440" cy="50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Pika, Snowshoe Hare, &amp; Rab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Pygmy Goat &amp; White-tailed D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African Elephant &amp; Asian Eleph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Bottlenose Dolphin &amp; Blue Wh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Chipmunk &amp; Nu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Sea Lion &amp; S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Hippopotamus &amp; Ze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760" y="1066680"/>
            <a:ext cx="2666880" cy="4597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 – Lagomor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760" y="4749840"/>
            <a:ext cx="2666880" cy="4597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 - Pinnep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760" y="1803240"/>
            <a:ext cx="2666880" cy="4597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 – Artiodacty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760" y="5486400"/>
            <a:ext cx="2666880" cy="4597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 – Perissodacty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760" y="2540160"/>
            <a:ext cx="2666880" cy="4597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 – Probosc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6760" y="3276720"/>
            <a:ext cx="2666880" cy="4597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 – Cetac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1T02:22:44Z</dcterms:modified>
  <cp:revision>62</cp:revision>
  <dc:subject/>
  <dc:title>Slide 1</dc:title>
</cp:coreProperties>
</file>