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4BFD-E398-4415-82B2-19438BCC5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1BDD-6921-4E4D-B606-A7CD5BC2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F01A-08B8-435C-B53B-5BBDCC684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02CA-CE45-44B8-893C-4230549F9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434C-42D0-4DF9-9375-564A8B0F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CC3F-CE76-489E-8C2D-A8B5157D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11E0-981F-45BA-B9DE-17700AE6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4A5A-503D-4F34-9C3C-69BB1B28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05F6-CDB1-4E2F-83CD-5D102D7B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A4F4-0A22-48D1-9C87-A92CDAF4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E19D-CA94-4FD0-9B1B-4660BC83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5DBF-00C5-4659-97A3-5A1A43C0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6CA8-F9A2-4ED2-BCDD-D1444B535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920" y="563400"/>
            <a:ext cx="57909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Classification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547056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 you know the mamm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705720" y="685800"/>
            <a:ext cx="1622160" cy="3933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286000" y="3048120"/>
            <a:ext cx="579132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Challeng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575400" y="9684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9528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52280"/>
            <a:ext cx="8610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ify each mammal into its correct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069920"/>
            <a:ext cx="266688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- Pr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 – Felid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 – Canid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 – Ursid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– Insectiv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 – Chiropt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914400"/>
            <a:ext cx="541044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Hedgehog, Pygmy Shrew, &amp;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Indiana Bat &amp; Little Brown B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Black Bear &amp; Polar B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Gray Wolf, Red Fox, &amp; Puppy D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Gorilla, Chimpanzee, &amp; Gib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Cheetah, Siberian Tiger, &amp; Kitty 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152280"/>
            <a:ext cx="8610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ify each mammal into its correct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3960" y="1069920"/>
            <a:ext cx="2324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– Insectiv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914400"/>
            <a:ext cx="541044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Hedgehog, Pygmy Shrew, &amp;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Indiana Bat &amp; Little Brown B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Black Bear &amp; Polar B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Gray Wolf, Red Fox, &amp; Puppy D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Gorilla, Chimpanzee, &amp; Gib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Cheetah, Siberian Tiger, &amp; Kitty 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3992400"/>
            <a:ext cx="2324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- Pr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23960" y="4724280"/>
            <a:ext cx="2324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 – Felid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3960" y="3262320"/>
            <a:ext cx="2324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 – Canid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3960" y="2530440"/>
            <a:ext cx="2324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 – Ursid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3960" y="1800360"/>
            <a:ext cx="2324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 – Chiropt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1T02:29:26Z</dcterms:modified>
  <cp:revision>61</cp:revision>
  <dc:subject/>
  <dc:title>Slide 1</dc:title>
</cp:coreProperties>
</file>