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D2904-18EC-4BCF-87D7-1DF67A964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101CE-4829-4264-9941-5D35A5167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A61A0-A605-4977-94D3-1192DBBC7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85202-F829-43C2-B1ED-A963FE650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CC8B1-4A9E-400D-8FDA-A4B313F86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6E5C2-264B-4634-A7CB-773AAA0C4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2F8BD-2AE9-49B8-890E-B05888E0D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8018B-ED75-4111-B8F7-0485717F7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9F5FE-96A8-4DD5-AD92-42FE97E54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EDF19-57FA-4EB1-94FC-79EEDA5F9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CB11F-891A-422D-B249-362CC5537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80CA6-2736-4748-AFEB-997344759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EC913-FC41-4E9C-8510-671AA299D5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04920" y="563400"/>
            <a:ext cx="5790960" cy="236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Cooper Black"/>
              </a:rPr>
              <a:t>Classification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Cooper Black"/>
              <a:ea typeface="Cooper Black"/>
            </a:endParaRPr>
          </a:p>
        </p:txBody>
      </p:sp>
      <p:sp>
        <p:nvSpPr>
          <p:cNvPr id="42" name=""/>
          <p:cNvSpPr/>
          <p:nvPr/>
        </p:nvSpPr>
        <p:spPr>
          <a:xfrm>
            <a:off x="380880" y="5470560"/>
            <a:ext cx="8458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Do you know the mammal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705720" y="685800"/>
            <a:ext cx="1622160" cy="39337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2286000" y="3048120"/>
            <a:ext cx="5791320" cy="236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Cooper Black"/>
              </a:rPr>
              <a:t>Challenge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Cooper Black"/>
              <a:ea typeface="Cooper Black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575400" y="96840"/>
            <a:ext cx="2381400" cy="4478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295280" y="6477120"/>
            <a:ext cx="6400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. Trimpe 2008   http://sciencespot.net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152280"/>
            <a:ext cx="861048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assify each mammal into its correct grou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28600" y="1069920"/>
            <a:ext cx="2666880" cy="22885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 - Prim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 – Felida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 – Canida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 – Ursida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 – Insectivo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 – Chiropte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124080" y="914400"/>
            <a:ext cx="5410440" cy="43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 Hedgehog, Pygmy Shrew, &amp; Mo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 Indiana Bat &amp; Little Brown B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. Black Bear &amp; Polar B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. Gray Wolf, Red Fox, &amp; Puppy Do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. Gorilla, Chimpanzee, &amp; Gibb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. Cheetah, Siberian Tiger, &amp; Kitty C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28600" y="152280"/>
            <a:ext cx="861048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assify each mammal into its correct grou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23960" y="1069920"/>
            <a:ext cx="232416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 – Insectivo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24080" y="914400"/>
            <a:ext cx="5410440" cy="43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 Hedgehog, Pygmy Shrew, &amp; Mo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 Indiana Bat &amp; Little Brown B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. Black Bear &amp; Polar B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. Gray Wolf, Red Fox, &amp; Puppy Do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. Gorilla, Chimpanzee, &amp; Gibb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. Cheetah, Siberian Tiger, &amp; Kitty C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23960" y="3992400"/>
            <a:ext cx="232416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 - Prim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23960" y="4724280"/>
            <a:ext cx="232416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 – Felida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23960" y="3262320"/>
            <a:ext cx="232416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 – Canida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23960" y="2530440"/>
            <a:ext cx="232416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 – Ursida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23960" y="1800360"/>
            <a:ext cx="232416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 – Chiropte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27T19:50:33Z</dcterms:created>
  <dc:creator>Tracy Trimpe</dc:creator>
  <dc:description/>
  <dc:language>en-US</dc:language>
  <cp:lastModifiedBy>Tracy Trimpe</cp:lastModifiedBy>
  <dcterms:modified xsi:type="dcterms:W3CDTF">2008-06-01T02:29:26Z</dcterms:modified>
  <cp:revision>61</cp:revision>
  <dc:subject/>
  <dc:title>Slide 1</dc:title>
</cp:coreProperties>
</file>