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9D8-E920-47DA-BA1E-DBCBC7AF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043-75BE-4325-A763-F06E95EF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55B-6219-4DF3-BC4F-A98319BE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B051-3FA6-484E-98B0-E0C8FFB4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300-80E6-47D2-ABAC-2DDEC165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2D0-36AB-4353-9154-967A7A81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0E8-3AEF-42E6-B896-1BACA625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084-C785-4FAD-8BB7-693402F5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07A-8EF2-4EB3-97F2-F5DD9D70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6D8-22CA-45BD-8E17-BE4559D8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746-1057-43FF-A952-3525B61D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D6E-9F28-40FF-9370-1C00FA31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F50B-BDA7-4536-9534-A6243D01E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563400"/>
            <a:ext cx="57909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Classific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47056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you know the mam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68580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0" y="3048120"/>
            <a:ext cx="5791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y each mammal into its correct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609480"/>
            <a:ext cx="3124080" cy="157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 – Marsup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 – Mono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 – Plac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56246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Platy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624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Chipm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3800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Ko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Gor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3800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3114720"/>
            <a:ext cx="170496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27121" t="0" r="23852" b="0"/>
          <a:stretch/>
        </p:blipFill>
        <p:spPr>
          <a:xfrm>
            <a:off x="7075440" y="685800"/>
            <a:ext cx="1544760" cy="228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52880" y="2514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Kangar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997680" y="3114720"/>
            <a:ext cx="170172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09480" y="852480"/>
            <a:ext cx="1657440" cy="2119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2228760" cy="149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858000" y="5110200"/>
            <a:ext cx="1981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71800" y="609480"/>
            <a:ext cx="3124080" cy="157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 – Marsup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 – Mono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 – Plac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6246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Platy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56246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Chipm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3800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Ko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Gor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3800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3114720"/>
            <a:ext cx="170496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27121" t="0" r="23852" b="0"/>
          <a:stretch/>
        </p:blipFill>
        <p:spPr>
          <a:xfrm>
            <a:off x="7075440" y="685800"/>
            <a:ext cx="154476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52880" y="2514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Kangar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997680" y="3114720"/>
            <a:ext cx="170172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09480" y="852480"/>
            <a:ext cx="1657440" cy="2119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2228760" cy="1496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6858000" y="5110200"/>
            <a:ext cx="1981080" cy="1485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09680" y="6095880"/>
            <a:ext cx="838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M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981080" y="914400"/>
            <a:ext cx="800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P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33720" y="4267080"/>
            <a:ext cx="838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M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00800" y="4191120"/>
            <a:ext cx="800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P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400800" y="6095880"/>
            <a:ext cx="800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P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629400" y="144792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M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3T02:50:05Z</dcterms:modified>
  <cp:revision>56</cp:revision>
  <dc:subject/>
  <dc:title>Slide 1</dc:title>
</cp:coreProperties>
</file>