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CBA-D77B-4DF0-86D2-7A547844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10E-A17F-4566-9B5D-0EAC74FD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67C-2DF6-4E97-B360-D2FF00C0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B46-0286-4A67-A5E7-24FF74B8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AFE-7155-4361-A79F-32F6F3C9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428-2BA3-444A-BE25-1228DF2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FFF-65E6-44BC-89FA-5D124945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317-BF33-4318-8703-56ABBB11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4FD-4F55-4A05-93B8-45C76C62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6D1-A80C-4446-84FE-5DC7894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859-E968-42F3-B780-57D428F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43A-8EC1-48CE-B1D8-E9918C06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7BA-AD5F-48C5-9A45-4D69D807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 – Marsup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 – 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 – Plac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624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624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ipm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114720"/>
            <a:ext cx="17049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7121" t="0" r="23852" b="0"/>
          <a:stretch/>
        </p:blipFill>
        <p:spPr>
          <a:xfrm>
            <a:off x="7075440" y="685800"/>
            <a:ext cx="15447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997680" y="3114720"/>
            <a:ext cx="170172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852480"/>
            <a:ext cx="1657440" cy="21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2228760" cy="149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858000" y="511020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 – Marsup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 – 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 – Plac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624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624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ipm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3114720"/>
            <a:ext cx="170496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27121" t="0" r="23852" b="0"/>
          <a:stretch/>
        </p:blipFill>
        <p:spPr>
          <a:xfrm>
            <a:off x="7075440" y="685800"/>
            <a:ext cx="154476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997680" y="3114720"/>
            <a:ext cx="17017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480" y="852480"/>
            <a:ext cx="1657440" cy="21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2228760" cy="149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858000" y="511020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60958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81080" y="914400"/>
            <a:ext cx="80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3720" y="42670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00800" y="4191120"/>
            <a:ext cx="80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00800" y="6095880"/>
            <a:ext cx="800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29400" y="14479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2:50:05Z</dcterms:modified>
  <cp:revision>56</cp:revision>
  <dc:subject/>
  <dc:title>Slide 1</dc:title>
</cp:coreProperties>
</file>