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A38-9297-41FA-9EE4-C82B561F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721-3537-4347-9B33-03A07977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617-4E25-4595-9CB6-9C71B1BC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F15-6549-47B1-8472-1EA6FDA1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FE8-440B-4FCE-863B-4C9D5CCC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E82-1F71-4ABF-A754-1724065A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A8F-CA87-4BCA-B7E8-E6169D84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920-346D-4C2B-A2C0-0F290AC9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DF42-1C14-4AF6-9628-D457E004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C2B-EDEC-4D6A-816C-7442D58D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EB0-1BBD-4355-BB55-0E274BDB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9DB-6D52-4602-A8AD-0BF0AD26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4BA0-13C3-40F7-8DEE-06DC13C3E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623880"/>
            <a:ext cx="57909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lassific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318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 you know the kingdoms of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74628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0" y="3108240"/>
            <a:ext cx="57913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organism into its correct king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1143000"/>
            <a:ext cx="2590920" cy="26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= Moner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 = Pro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=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=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= Fu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477800" cy="1847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6680" y="2362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162920" y="1066680"/>
            <a:ext cx="1504800" cy="1420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6128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mo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" y="3124080"/>
            <a:ext cx="1562040" cy="1562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51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Mush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38880" y="3124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4114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Bread M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57200" y="48769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828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Puppy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5562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Oak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7162920" y="4876920"/>
            <a:ext cx="1527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1143000"/>
            <a:ext cx="2590920" cy="26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= Moner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T = Pro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=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=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= Fu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477800" cy="1847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2362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162920" y="1066680"/>
            <a:ext cx="1504800" cy="142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46128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mo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57200" y="3124080"/>
            <a:ext cx="1562040" cy="1562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051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Mush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238880" y="3124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72200" y="4114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Bread M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57200" y="48769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43828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Puppy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5562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Oak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162920" y="4876920"/>
            <a:ext cx="1527120" cy="1752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828800" y="167652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0" y="342900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124080" y="502920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943600" y="4952880"/>
            <a:ext cx="533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400800" y="160020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477120" y="3352680"/>
            <a:ext cx="53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05T00:57:33Z</dcterms:modified>
  <cp:revision>39</cp:revision>
  <dc:subject/>
  <dc:title>Slide 1</dc:title>
</cp:coreProperties>
</file>