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58F-5FC2-421B-9FA8-955368AD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97F-1CEA-4035-974C-FB0EBB39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FAB-B02A-4C95-9277-C487DC97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1FF-73DB-4F03-B388-92BE31ED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D9B-F476-4E19-9123-D4E8F099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EBC-A465-41D0-8C54-4C9A7385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BCA-7F21-48CD-88DF-E1CB8817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E13-F623-4B50-8B4A-885F0209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011-112B-4A0F-85CE-549F701E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B32-C550-4664-866A-4574792C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4E1-327A-4299-B85C-425B41DC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20E-428A-4AA5-983A-C6ACF25B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5F98-F747-4DF7-B514-1686F83F7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62388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318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 you know the kingdoms of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74628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0" y="3108240"/>
            <a:ext cx="57913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organism into its correct king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1143000"/>
            <a:ext cx="2590920" cy="26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= Moner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 = Pro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=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=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= 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477800" cy="1847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2362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162920" y="1066680"/>
            <a:ext cx="1504800" cy="142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6128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mo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1562040" cy="1562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51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Mush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38880" y="3124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4114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Bread M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57200" y="48769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828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Puppy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5562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Oak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7162920" y="4876920"/>
            <a:ext cx="1527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1143000"/>
            <a:ext cx="2590920" cy="26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= Moner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T = Pro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=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=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= 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477800" cy="1847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23623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62920" y="1066680"/>
            <a:ext cx="1504800" cy="142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46128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mo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1562040" cy="1562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5120" y="4191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Mush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238880" y="3124080"/>
            <a:ext cx="1428840" cy="107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72200" y="4114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Bread M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57200" y="48769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3828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Puppy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5562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Oak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7162920" y="4876920"/>
            <a:ext cx="1527120" cy="1752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828800" y="167652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0" y="342900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124080" y="502920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943600" y="4952880"/>
            <a:ext cx="533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400800" y="160020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477120" y="3352680"/>
            <a:ext cx="53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05T00:57:33Z</dcterms:modified>
  <cp:revision>39</cp:revision>
  <dc:subject/>
  <dc:title>Slide 1</dc:title>
</cp:coreProperties>
</file>