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2DA-2A06-4F3A-92A8-7D5B0FEF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A75-1281-474D-9D60-247AF49A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311-8D95-445A-87E1-AC44FDD3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1DF-6F23-437A-A477-9C9D70AC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437-B588-44AB-BBED-788A3E4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A83-C99A-4523-B6A2-BC6CB9B4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A74-AB1C-4853-A19E-285BC816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6FC-117E-4F58-A762-1CC3AD3E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100-FA12-4C5A-BEA7-4205977A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839-A1F0-43AC-B590-B7FA0C2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D3B-3192-47D9-96CC-D5E21B6D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0D0-C6A4-4614-AD34-A5AEC1D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0044-4DED-4B87-A657-02D0CAF1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 you know the arthrop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76212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rach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=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Chilo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= Dipl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524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ragon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53420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Gard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69704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74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eer 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1590480" cy="15638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629400" y="914400"/>
            <a:ext cx="2133720" cy="1907640"/>
            <a:chOff x="6629400" y="914400"/>
            <a:chExt cx="2133720" cy="1907640"/>
          </a:xfrm>
        </p:grpSpPr>
        <p:sp>
          <p:nvSpPr>
            <p:cNvPr id="55" name=""/>
            <p:cNvSpPr/>
            <p:nvPr/>
          </p:nvSpPr>
          <p:spPr>
            <a:xfrm>
              <a:off x="6629400" y="2362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Mill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743880" y="914400"/>
              <a:ext cx="190512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457200" y="685800"/>
            <a:ext cx="1981080" cy="2212200"/>
            <a:chOff x="457200" y="685800"/>
            <a:chExt cx="1981080" cy="2212200"/>
          </a:xfrm>
        </p:grpSpPr>
        <p:sp>
          <p:nvSpPr>
            <p:cNvPr id="58" name=""/>
            <p:cNvSpPr/>
            <p:nvPr/>
          </p:nvSpPr>
          <p:spPr>
            <a:xfrm>
              <a:off x="457200" y="24382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Cent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590400" y="685800"/>
              <a:ext cx="171396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800600" y="3657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er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7200" y="4843440"/>
            <a:ext cx="1692360" cy="181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553080" y="29718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organism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762120"/>
            <a:ext cx="259092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 Arachn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= Crustac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= Chilop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= Dipl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524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ragon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53420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Gard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0" y="4800600"/>
            <a:ext cx="1697040" cy="1905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5740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eer 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1590480" cy="156384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6629400" y="914400"/>
            <a:ext cx="2133720" cy="1907640"/>
            <a:chOff x="6629400" y="914400"/>
            <a:chExt cx="2133720" cy="1907640"/>
          </a:xfrm>
        </p:grpSpPr>
        <p:sp>
          <p:nvSpPr>
            <p:cNvPr id="71" name=""/>
            <p:cNvSpPr/>
            <p:nvPr/>
          </p:nvSpPr>
          <p:spPr>
            <a:xfrm>
              <a:off x="6629400" y="23623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Mill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6743880" y="914400"/>
              <a:ext cx="190512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457200" y="685800"/>
            <a:ext cx="1981080" cy="2212200"/>
            <a:chOff x="457200" y="685800"/>
            <a:chExt cx="1981080" cy="2212200"/>
          </a:xfrm>
        </p:grpSpPr>
        <p:sp>
          <p:nvSpPr>
            <p:cNvPr id="74" name=""/>
            <p:cNvSpPr/>
            <p:nvPr/>
          </p:nvSpPr>
          <p:spPr>
            <a:xfrm>
              <a:off x="457200" y="24382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 Centipe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4"/>
            <a:stretch/>
          </p:blipFill>
          <p:spPr>
            <a:xfrm>
              <a:off x="590400" y="685800"/>
              <a:ext cx="1713960" cy="17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4800600" y="3657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er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57200" y="4843440"/>
            <a:ext cx="1692360" cy="1819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553080" y="297180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286000" y="4952880"/>
            <a:ext cx="380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29200" y="5867280"/>
            <a:ext cx="533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09680" y="32767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76920" y="411480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C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5880" y="14479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62320" y="137160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Cooper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05T00:57:05Z</dcterms:modified>
  <cp:revision>43</cp:revision>
  <dc:subject/>
  <dc:title>Slide 1</dc:title>
</cp:coreProperties>
</file>