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7DA-9271-4AE9-B200-4BF0A7D6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EBF-B0C5-412E-95AB-3BFFBD9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27F-4DDF-4A8F-85E3-D6E0E08D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A95-885A-45AA-BC42-8CA57B9A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0C1-998E-4FB8-8EB2-AAE9A56C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C2C-DAF2-4AEE-B05E-ED915EAF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FBB-DC93-4D3A-80DB-4A753D36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455-A624-46DA-BF5A-7412787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047-4A2F-4770-86C5-C65FCC3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F10-C494-4106-94F7-8EC6B2A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EC9-3B69-4A75-8A94-68015D3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74D-B760-46B6-8949-3E791F5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BD0-4E15-4D31-9DFF-7DB1436E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 arthrop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76212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rach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=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Chil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= Dipl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524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ragon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342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Gard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69704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74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er 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590480" cy="15638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629400" y="914400"/>
            <a:ext cx="2133720" cy="1907640"/>
            <a:chOff x="6629400" y="914400"/>
            <a:chExt cx="2133720" cy="1907640"/>
          </a:xfrm>
        </p:grpSpPr>
        <p:sp>
          <p:nvSpPr>
            <p:cNvPr id="55" name=""/>
            <p:cNvSpPr/>
            <p:nvPr/>
          </p:nvSpPr>
          <p:spPr>
            <a:xfrm>
              <a:off x="6629400" y="2362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Mill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743880" y="914400"/>
              <a:ext cx="190512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457200" y="685800"/>
            <a:ext cx="1981080" cy="2212200"/>
            <a:chOff x="457200" y="685800"/>
            <a:chExt cx="1981080" cy="2212200"/>
          </a:xfrm>
        </p:grpSpPr>
        <p:sp>
          <p:nvSpPr>
            <p:cNvPr id="58" name=""/>
            <p:cNvSpPr/>
            <p:nvPr/>
          </p:nvSpPr>
          <p:spPr>
            <a:xfrm>
              <a:off x="45720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Cent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90400" y="685800"/>
              <a:ext cx="171396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00600" y="365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er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7200" y="4843440"/>
            <a:ext cx="1692360" cy="181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553080" y="2971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76212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rach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=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Chil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= Dipl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524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ragon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5342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Gard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69704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er 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590480" cy="156384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6629400" y="914400"/>
            <a:ext cx="2133720" cy="1907640"/>
            <a:chOff x="6629400" y="914400"/>
            <a:chExt cx="2133720" cy="1907640"/>
          </a:xfrm>
        </p:grpSpPr>
        <p:sp>
          <p:nvSpPr>
            <p:cNvPr id="71" name=""/>
            <p:cNvSpPr/>
            <p:nvPr/>
          </p:nvSpPr>
          <p:spPr>
            <a:xfrm>
              <a:off x="6629400" y="2362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Mill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6743880" y="914400"/>
              <a:ext cx="190512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457200" y="685800"/>
            <a:ext cx="1981080" cy="2212200"/>
            <a:chOff x="457200" y="685800"/>
            <a:chExt cx="1981080" cy="2212200"/>
          </a:xfrm>
        </p:grpSpPr>
        <p:sp>
          <p:nvSpPr>
            <p:cNvPr id="74" name=""/>
            <p:cNvSpPr/>
            <p:nvPr/>
          </p:nvSpPr>
          <p:spPr>
            <a:xfrm>
              <a:off x="45720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Cent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590400" y="685800"/>
              <a:ext cx="171396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4800600" y="365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er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7200" y="4843440"/>
            <a:ext cx="1692360" cy="181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553080" y="29718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286000" y="4952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29200" y="58672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32767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76920" y="41148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C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5880" y="14479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2320" y="13716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05T00:57:05Z</dcterms:modified>
  <cp:revision>43</cp:revision>
  <dc:subject/>
  <dc:title>Slide 1</dc:title>
</cp:coreProperties>
</file>