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9728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06E9-F414-4A41-8894-DD3FFCD36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014B-3FB5-444F-AF88-65D5F990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2B3F-7438-42B9-9BF3-8DD01094F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3B8A-8926-4A54-A25C-A464A2AC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44E0-40C2-4874-8911-E2D15534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D72C-AED0-44ED-826D-5BD9B000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83C9-5C73-46C0-B3B1-930F434F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A991-D84D-41A5-8BD3-67D087E9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330120"/>
            <a:ext cx="9874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2D37-185E-4890-8772-99522C32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3EF1-812A-4E21-9885-8FB829D5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CE92-9981-496D-8528-B377D555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B29A-61CB-4095-AE39-48166C1A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27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4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920960" indent="-274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7494480"/>
            <a:ext cx="34732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fld id="{4A9843A8-A023-4974-ADE4-A71D3185932A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image" Target="../media/image3.png"/><Relationship Id="rId8" Type="http://schemas.openxmlformats.org/officeDocument/2006/relationships/image" Target="../media/image11.png"/><Relationship Id="rId9" Type="http://schemas.openxmlformats.org/officeDocument/2006/relationships/image" Target="../media/image6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952520" y="4572000"/>
            <a:ext cx="5745240" cy="22860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you identif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se critt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y their track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4419360" cy="3424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762120" y="609480"/>
            <a:ext cx="90676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Cooper Black"/>
              </a:rPr>
              <a:t>Name That Track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784080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eocities.com./Yosemite/9152/wildlif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00800" y="7810560"/>
            <a:ext cx="4343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188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7506" t="0" r="7506" b="0"/>
          <a:stretch/>
        </p:blipFill>
        <p:spPr>
          <a:xfrm>
            <a:off x="7848720" y="609480"/>
            <a:ext cx="2590560" cy="3429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2"/>
          <a:srcRect l="9984" t="0" r="5112" b="0"/>
          <a:stretch/>
        </p:blipFill>
        <p:spPr>
          <a:xfrm>
            <a:off x="380880" y="533520"/>
            <a:ext cx="2590920" cy="335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3657600" y="608040"/>
            <a:ext cx="3809880" cy="34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That Track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aver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adger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ed Fox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uskrat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orcup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335268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90720" y="4419720"/>
            <a:ext cx="2520720" cy="3352680"/>
            <a:chOff x="990720" y="4419720"/>
            <a:chExt cx="2520720" cy="3352680"/>
          </a:xfrm>
        </p:grpSpPr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990720" y="4419720"/>
              <a:ext cx="2520720" cy="33526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53" name=""/>
            <p:cNvSpPr/>
            <p:nvPr/>
          </p:nvSpPr>
          <p:spPr>
            <a:xfrm>
              <a:off x="1143000" y="7238880"/>
              <a:ext cx="609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7620120" y="4343400"/>
            <a:ext cx="2438280" cy="3352680"/>
            <a:chOff x="7620120" y="4343400"/>
            <a:chExt cx="2438280" cy="3352680"/>
          </a:xfrm>
        </p:grpSpPr>
        <p:pic>
          <p:nvPicPr>
            <p:cNvPr id="55" name="" descr=""/>
            <p:cNvPicPr/>
            <p:nvPr/>
          </p:nvPicPr>
          <p:blipFill>
            <a:blip r:embed="rId4"/>
            <a:srcRect l="8147" t="0" r="5151" b="0"/>
            <a:stretch/>
          </p:blipFill>
          <p:spPr>
            <a:xfrm>
              <a:off x="7620120" y="4343400"/>
              <a:ext cx="2438280" cy="33526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56" name=""/>
            <p:cNvSpPr/>
            <p:nvPr/>
          </p:nvSpPr>
          <p:spPr>
            <a:xfrm>
              <a:off x="9391680" y="7229520"/>
              <a:ext cx="609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9753480" y="342900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4297320" y="4038480"/>
            <a:ext cx="2535120" cy="3353040"/>
            <a:chOff x="4297320" y="4038480"/>
            <a:chExt cx="2535120" cy="3353040"/>
          </a:xfrm>
        </p:grpSpPr>
        <p:pic>
          <p:nvPicPr>
            <p:cNvPr id="59" name="" descr=""/>
            <p:cNvPicPr/>
            <p:nvPr/>
          </p:nvPicPr>
          <p:blipFill>
            <a:blip r:embed="rId5"/>
            <a:stretch/>
          </p:blipFill>
          <p:spPr>
            <a:xfrm>
              <a:off x="4297320" y="4038480"/>
              <a:ext cx="2535120" cy="33530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60" name=""/>
            <p:cNvSpPr/>
            <p:nvPr/>
          </p:nvSpPr>
          <p:spPr>
            <a:xfrm>
              <a:off x="6125760" y="685800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685960" y="7010280"/>
            <a:ext cx="59436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Cooper Black"/>
              </a:rPr>
              <a:t>How did you do?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Cooper Black"/>
              <a:ea typeface="Cooper Black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33520" y="4091040"/>
            <a:ext cx="2714040" cy="2714400"/>
            <a:chOff x="533520" y="4091040"/>
            <a:chExt cx="2714040" cy="2714400"/>
          </a:xfrm>
        </p:grpSpPr>
        <p:sp>
          <p:nvSpPr>
            <p:cNvPr id="63" name=""/>
            <p:cNvSpPr/>
            <p:nvPr/>
          </p:nvSpPr>
          <p:spPr>
            <a:xfrm>
              <a:off x="533520" y="4395600"/>
              <a:ext cx="1630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2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Porcupin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2209680" y="4091040"/>
              <a:ext cx="1037880" cy="13809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533520" y="5234040"/>
              <a:ext cx="2219040" cy="1571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" name=""/>
          <p:cNvGrpSpPr/>
          <p:nvPr/>
        </p:nvGrpSpPr>
        <p:grpSpPr>
          <a:xfrm>
            <a:off x="457200" y="457200"/>
            <a:ext cx="2971800" cy="2943000"/>
            <a:chOff x="457200" y="457200"/>
            <a:chExt cx="2971800" cy="2943000"/>
          </a:xfrm>
        </p:grpSpPr>
        <p:sp>
          <p:nvSpPr>
            <p:cNvPr id="67" name=""/>
            <p:cNvSpPr/>
            <p:nvPr/>
          </p:nvSpPr>
          <p:spPr>
            <a:xfrm>
              <a:off x="2057400" y="838080"/>
              <a:ext cx="137160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1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Beav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3"/>
            <a:srcRect l="9984" t="0" r="5112" b="0"/>
            <a:stretch/>
          </p:blipFill>
          <p:spPr>
            <a:xfrm>
              <a:off x="457200" y="457200"/>
              <a:ext cx="1471680" cy="19047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1295640" y="1828800"/>
              <a:ext cx="2076480" cy="1571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"/>
          <p:cNvGrpSpPr/>
          <p:nvPr/>
        </p:nvGrpSpPr>
        <p:grpSpPr>
          <a:xfrm>
            <a:off x="4114800" y="2543040"/>
            <a:ext cx="2762280" cy="2790720"/>
            <a:chOff x="4114800" y="2543040"/>
            <a:chExt cx="2762280" cy="2790720"/>
          </a:xfrm>
        </p:grpSpPr>
        <p:sp>
          <p:nvSpPr>
            <p:cNvPr id="71" name=""/>
            <p:cNvSpPr/>
            <p:nvPr/>
          </p:nvSpPr>
          <p:spPr>
            <a:xfrm>
              <a:off x="5410080" y="2619000"/>
              <a:ext cx="1219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3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Badg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5"/>
            <a:stretch/>
          </p:blipFill>
          <p:spPr>
            <a:xfrm>
              <a:off x="4114800" y="2543040"/>
              <a:ext cx="1181160" cy="15620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pic>
          <p:nvPicPr>
            <p:cNvPr id="73" name="" descr=""/>
            <p:cNvPicPr/>
            <p:nvPr/>
          </p:nvPicPr>
          <p:blipFill>
            <a:blip r:embed="rId6"/>
            <a:stretch/>
          </p:blipFill>
          <p:spPr>
            <a:xfrm>
              <a:off x="4724280" y="3762000"/>
              <a:ext cx="2152800" cy="157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"/>
          <p:cNvGrpSpPr/>
          <p:nvPr/>
        </p:nvGrpSpPr>
        <p:grpSpPr>
          <a:xfrm>
            <a:off x="7543800" y="457200"/>
            <a:ext cx="2819520" cy="2895480"/>
            <a:chOff x="7543800" y="457200"/>
            <a:chExt cx="2819520" cy="2895480"/>
          </a:xfrm>
        </p:grpSpPr>
        <p:sp>
          <p:nvSpPr>
            <p:cNvPr id="75" name=""/>
            <p:cNvSpPr/>
            <p:nvPr/>
          </p:nvSpPr>
          <p:spPr>
            <a:xfrm>
              <a:off x="8839440" y="457200"/>
              <a:ext cx="1523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4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uskra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7"/>
            <a:stretch/>
          </p:blipFill>
          <p:spPr>
            <a:xfrm>
              <a:off x="7543800" y="457200"/>
              <a:ext cx="1295640" cy="14572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pic>
          <p:nvPicPr>
            <p:cNvPr id="77" name="" descr=""/>
            <p:cNvPicPr/>
            <p:nvPr/>
          </p:nvPicPr>
          <p:blipFill>
            <a:blip r:embed="rId8"/>
            <a:stretch/>
          </p:blipFill>
          <p:spPr>
            <a:xfrm>
              <a:off x="8534520" y="1523880"/>
              <a:ext cx="1523880" cy="18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"/>
          <p:cNvGrpSpPr/>
          <p:nvPr/>
        </p:nvGrpSpPr>
        <p:grpSpPr>
          <a:xfrm>
            <a:off x="7467480" y="4343400"/>
            <a:ext cx="2895840" cy="2461680"/>
            <a:chOff x="7467480" y="4343400"/>
            <a:chExt cx="2895840" cy="2461680"/>
          </a:xfrm>
        </p:grpSpPr>
        <p:sp>
          <p:nvSpPr>
            <p:cNvPr id="79" name=""/>
            <p:cNvSpPr/>
            <p:nvPr/>
          </p:nvSpPr>
          <p:spPr>
            <a:xfrm>
              <a:off x="8839080" y="4419360"/>
              <a:ext cx="152424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5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ed Fo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9"/>
            <a:stretch/>
          </p:blipFill>
          <p:spPr>
            <a:xfrm>
              <a:off x="7467480" y="4343400"/>
              <a:ext cx="1285920" cy="15332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pic>
          <p:nvPicPr>
            <p:cNvPr id="81" name="" descr=""/>
            <p:cNvPicPr/>
            <p:nvPr/>
          </p:nvPicPr>
          <p:blipFill>
            <a:blip r:embed="rId10"/>
            <a:srcRect l="9836" t="0" r="0" b="11223"/>
            <a:stretch/>
          </p:blipFill>
          <p:spPr>
            <a:xfrm>
              <a:off x="8229600" y="5410080"/>
              <a:ext cx="2052720" cy="1395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1:08:40Z</dcterms:modified>
  <cp:revision>37</cp:revision>
  <dc:subject/>
  <dc:title>Who am I?</dc:title>
</cp:coreProperties>
</file>