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B94-D8C4-40B7-A302-AE7A36E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8FC-F850-469C-A8BD-D34B092A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705-D4FB-431F-8C85-E340CDDA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6E5-BE73-41DC-BF34-5F71E0EC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B4A-4D69-4815-B83F-5EE3069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A98-5AA7-4973-BE0A-CC5F864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A1E-040A-4CE5-B0A2-D4BE476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9BE-156A-4F6F-A750-0611247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AFB-9CF0-46F0-86EF-57345543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604-1917-4447-AA2E-D7D73D5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679-BB84-44F1-ACB6-EDA4639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700-6F97-4CFE-95C3-C6665E9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F63D99FC-254F-4752-8E30-B5332D918CCB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572000"/>
            <a:ext cx="574524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crit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their trac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41936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Name That Track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8408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./Yosemite/9152/wild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78105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506" t="0" r="7506" b="0"/>
          <a:stretch/>
        </p:blipFill>
        <p:spPr>
          <a:xfrm>
            <a:off x="7848720" y="609480"/>
            <a:ext cx="25905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rcRect l="9984" t="0" r="5112" b="0"/>
          <a:stretch/>
        </p:blipFill>
        <p:spPr>
          <a:xfrm>
            <a:off x="380880" y="533520"/>
            <a:ext cx="259092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657600" y="608040"/>
            <a:ext cx="38098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at Track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dg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d Fox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skra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rcup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35268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4419720"/>
            <a:ext cx="2520720" cy="3352680"/>
            <a:chOff x="990720" y="4419720"/>
            <a:chExt cx="2520720" cy="3352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990720" y="4419720"/>
              <a:ext cx="252072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1143000" y="723888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620120" y="4343400"/>
            <a:ext cx="2438280" cy="3352680"/>
            <a:chOff x="7620120" y="4343400"/>
            <a:chExt cx="2438280" cy="3352680"/>
          </a:xfrm>
        </p:grpSpPr>
        <p:pic>
          <p:nvPicPr>
            <p:cNvPr id="55" name="" descr=""/>
            <p:cNvPicPr/>
            <p:nvPr/>
          </p:nvPicPr>
          <p:blipFill>
            <a:blip r:embed="rId4"/>
            <a:srcRect l="8147" t="0" r="5151" b="0"/>
            <a:stretch/>
          </p:blipFill>
          <p:spPr>
            <a:xfrm>
              <a:off x="7620120" y="4343400"/>
              <a:ext cx="243828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6" name=""/>
            <p:cNvSpPr/>
            <p:nvPr/>
          </p:nvSpPr>
          <p:spPr>
            <a:xfrm>
              <a:off x="9391680" y="722952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7534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97320" y="4038480"/>
            <a:ext cx="2535120" cy="3353040"/>
            <a:chOff x="4297320" y="4038480"/>
            <a:chExt cx="2535120" cy="335304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4297320" y="4038480"/>
              <a:ext cx="2535120" cy="3353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/>
            <p:nvPr/>
          </p:nvSpPr>
          <p:spPr>
            <a:xfrm>
              <a:off x="6125760" y="68580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85960" y="7010280"/>
            <a:ext cx="5943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How did you do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4091040"/>
            <a:ext cx="2714040" cy="2714400"/>
            <a:chOff x="533520" y="4091040"/>
            <a:chExt cx="2714040" cy="2714400"/>
          </a:xfrm>
        </p:grpSpPr>
        <p:sp>
          <p:nvSpPr>
            <p:cNvPr id="63" name=""/>
            <p:cNvSpPr/>
            <p:nvPr/>
          </p:nvSpPr>
          <p:spPr>
            <a:xfrm>
              <a:off x="533520" y="4395600"/>
              <a:ext cx="163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rcupi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209680" y="4091040"/>
              <a:ext cx="1037880" cy="1380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533520" y="5234040"/>
              <a:ext cx="221904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457200" y="457200"/>
            <a:ext cx="2971800" cy="2943000"/>
            <a:chOff x="457200" y="457200"/>
            <a:chExt cx="2971800" cy="2943000"/>
          </a:xfrm>
        </p:grpSpPr>
        <p:sp>
          <p:nvSpPr>
            <p:cNvPr id="67" name=""/>
            <p:cNvSpPr/>
            <p:nvPr/>
          </p:nvSpPr>
          <p:spPr>
            <a:xfrm>
              <a:off x="2057400" y="838080"/>
              <a:ext cx="1371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3"/>
            <a:srcRect l="9984" t="0" r="5112" b="0"/>
            <a:stretch/>
          </p:blipFill>
          <p:spPr>
            <a:xfrm>
              <a:off x="457200" y="457200"/>
              <a:ext cx="1471680" cy="1904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295640" y="1828800"/>
              <a:ext cx="207648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4114800" y="2543040"/>
            <a:ext cx="2762280" cy="2790720"/>
            <a:chOff x="4114800" y="2543040"/>
            <a:chExt cx="2762280" cy="2790720"/>
          </a:xfrm>
        </p:grpSpPr>
        <p:sp>
          <p:nvSpPr>
            <p:cNvPr id="71" name=""/>
            <p:cNvSpPr/>
            <p:nvPr/>
          </p:nvSpPr>
          <p:spPr>
            <a:xfrm>
              <a:off x="5410080" y="261900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adg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4114800" y="2543040"/>
              <a:ext cx="1181160" cy="1562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4724280" y="3762000"/>
              <a:ext cx="21528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543800" y="457200"/>
            <a:ext cx="2819520" cy="2895480"/>
            <a:chOff x="7543800" y="457200"/>
            <a:chExt cx="2819520" cy="2895480"/>
          </a:xfrm>
        </p:grpSpPr>
        <p:sp>
          <p:nvSpPr>
            <p:cNvPr id="75" name=""/>
            <p:cNvSpPr/>
            <p:nvPr/>
          </p:nvSpPr>
          <p:spPr>
            <a:xfrm>
              <a:off x="8839440" y="45720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uskr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7543800" y="457200"/>
              <a:ext cx="1295640" cy="1457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8534520" y="1523880"/>
              <a:ext cx="15238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7467480" y="4343400"/>
            <a:ext cx="2895840" cy="2461680"/>
            <a:chOff x="7467480" y="4343400"/>
            <a:chExt cx="2895840" cy="2461680"/>
          </a:xfrm>
        </p:grpSpPr>
        <p:sp>
          <p:nvSpPr>
            <p:cNvPr id="79" name=""/>
            <p:cNvSpPr/>
            <p:nvPr/>
          </p:nvSpPr>
          <p:spPr>
            <a:xfrm>
              <a:off x="8839080" y="4419360"/>
              <a:ext cx="152424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d Fo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9"/>
            <a:stretch/>
          </p:blipFill>
          <p:spPr>
            <a:xfrm>
              <a:off x="7467480" y="4343400"/>
              <a:ext cx="1285920" cy="15332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81" name="" descr=""/>
            <p:cNvPicPr/>
            <p:nvPr/>
          </p:nvPicPr>
          <p:blipFill>
            <a:blip r:embed="rId10"/>
            <a:srcRect l="9836" t="0" r="0" b="11223"/>
            <a:stretch/>
          </p:blipFill>
          <p:spPr>
            <a:xfrm>
              <a:off x="8229600" y="5410080"/>
              <a:ext cx="2052720" cy="13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8:40Z</dcterms:modified>
  <cp:revision>37</cp:revision>
  <dc:subject/>
  <dc:title>Who am I?</dc:title>
</cp:coreProperties>
</file>