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BF3-3F4F-433A-AE6E-5B493DF7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8EA-55CF-4E93-B506-0E567E69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F2C-F834-4870-BEB2-9C58D9A9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2C2-91E7-478D-B8F1-A9EA2929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E90-8888-4BA5-B28E-62314B50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838-AC3B-49EA-9CB1-481B7F90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830-130F-47DD-A8DE-E16D5A96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439-BDAF-4B19-AC96-2DED4EB6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1931-2421-4005-AEE9-5AF53510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16E-9F31-4A5F-8C0A-046E41C7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FBB-C2E0-41DA-BD6B-34F447A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AF8-2F13-432F-A57E-F1A57BB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759578F5-15EE-4D4C-ADA8-09FF8F42A069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648320"/>
            <a:ext cx="5745240" cy="2209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identif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crit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their track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441936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62120" y="609480"/>
            <a:ext cx="9067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ooper Black"/>
              </a:rPr>
              <a:t>Name That Track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78408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./Yosemite/9152/wildlif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781056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188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1880" y="533520"/>
            <a:ext cx="271476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96080" y="4419720"/>
            <a:ext cx="275904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7507" b="0"/>
          <a:stretch/>
        </p:blipFill>
        <p:spPr>
          <a:xfrm>
            <a:off x="685800" y="4419720"/>
            <a:ext cx="274320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9241" b="0"/>
          <a:stretch/>
        </p:blipFill>
        <p:spPr>
          <a:xfrm>
            <a:off x="7696080" y="533520"/>
            <a:ext cx="274320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5"/>
          <a:srcRect l="6910" t="0" r="5737" b="0"/>
          <a:stretch/>
        </p:blipFill>
        <p:spPr>
          <a:xfrm>
            <a:off x="4191120" y="4200480"/>
            <a:ext cx="28954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657600" y="608040"/>
            <a:ext cx="380988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at Track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acco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y Fox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unk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ossum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y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4290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72691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3480" y="73152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753480" y="34290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711684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7238880" y="3657600"/>
            <a:ext cx="2857320" cy="2717280"/>
            <a:chOff x="7238880" y="3657600"/>
            <a:chExt cx="2857320" cy="2717280"/>
          </a:xfrm>
        </p:grpSpPr>
        <p:sp>
          <p:nvSpPr>
            <p:cNvPr id="59" name=""/>
            <p:cNvSpPr/>
            <p:nvPr/>
          </p:nvSpPr>
          <p:spPr>
            <a:xfrm>
              <a:off x="8476920" y="3943080"/>
              <a:ext cx="152424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yot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238880" y="3657600"/>
              <a:ext cx="1179360" cy="14475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886520" y="4809960"/>
              <a:ext cx="2209680" cy="15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85800" y="685800"/>
            <a:ext cx="2997360" cy="2762280"/>
            <a:chOff x="685800" y="685800"/>
            <a:chExt cx="2997360" cy="276228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685800" y="685800"/>
              <a:ext cx="1173240" cy="1461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1447920" y="1812960"/>
              <a:ext cx="220968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955880" y="914400"/>
              <a:ext cx="172728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ay Fo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31880" y="4809960"/>
            <a:ext cx="2628360" cy="2819520"/>
            <a:chOff x="731880" y="4809960"/>
            <a:chExt cx="2628360" cy="2819520"/>
          </a:xfrm>
        </p:grpSpPr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883800" y="4809960"/>
              <a:ext cx="1314360" cy="1486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103120" y="5800680"/>
              <a:ext cx="12571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31880" y="6638760"/>
              <a:ext cx="129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2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acco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315200" y="609480"/>
            <a:ext cx="3124080" cy="2497320"/>
            <a:chOff x="7315200" y="609480"/>
            <a:chExt cx="3124080" cy="2497320"/>
          </a:xfrm>
        </p:grpSpPr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7315200" y="609480"/>
              <a:ext cx="1305000" cy="14479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72" name="" descr=""/>
            <p:cNvPicPr/>
            <p:nvPr/>
          </p:nvPicPr>
          <p:blipFill>
            <a:blip r:embed="rId8"/>
            <a:srcRect l="16438" t="20214" r="23285" b="19202"/>
            <a:stretch/>
          </p:blipFill>
          <p:spPr>
            <a:xfrm>
              <a:off x="8229600" y="1600200"/>
              <a:ext cx="22096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763120" y="68580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4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kun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343400" y="2590920"/>
            <a:ext cx="2286000" cy="3476880"/>
            <a:chOff x="4343400" y="2590920"/>
            <a:chExt cx="2286000" cy="3476880"/>
          </a:xfrm>
        </p:grpSpPr>
        <p:pic>
          <p:nvPicPr>
            <p:cNvPr id="75" name="" descr=""/>
            <p:cNvPicPr/>
            <p:nvPr/>
          </p:nvPicPr>
          <p:blipFill>
            <a:blip r:embed="rId9"/>
            <a:srcRect l="6910" t="0" r="5737" b="0"/>
            <a:stretch/>
          </p:blipFill>
          <p:spPr>
            <a:xfrm>
              <a:off x="4343400" y="2590920"/>
              <a:ext cx="1287360" cy="1523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76" name="" descr=""/>
            <p:cNvPicPr/>
            <p:nvPr/>
          </p:nvPicPr>
          <p:blipFill>
            <a:blip r:embed="rId10"/>
            <a:stretch/>
          </p:blipFill>
          <p:spPr>
            <a:xfrm>
              <a:off x="4495680" y="3962520"/>
              <a:ext cx="206712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419720" y="5638680"/>
              <a:ext cx="2209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 - Opossu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4343400" y="6781680"/>
            <a:ext cx="5943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ooper Black"/>
              </a:rPr>
              <a:t>How did you do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8:50Z</dcterms:modified>
  <cp:revision>26</cp:revision>
  <dc:subject/>
  <dc:title>Who am I?</dc:title>
</cp:coreProperties>
</file>