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9728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9DCD-C8E9-43C7-BA2D-BB0B023E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F5B-D2DE-4522-9D5C-72E82FE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06E-7AB2-4FF1-8220-8611C9C9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9206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757400"/>
            <a:ext cx="317916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51C-B301-40DF-9BEF-4A318169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71E8-5D7B-4548-83E0-4344DD34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F63-EEB1-4D31-A460-8833E415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8CF-5FE8-46F1-9EBD-F85EA8DD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BF6-13FD-4E7A-B5C1-A745FA6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330120"/>
            <a:ext cx="9874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A0B-E627-498C-9C3B-FEE5FBCB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3BE-1B8E-4DC8-9007-C096699A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7574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F68-F82D-496F-8D58-67A39310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920600"/>
            <a:ext cx="481824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757400"/>
            <a:ext cx="9874080" cy="25902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039-09D7-4C30-BD3F-2E8F6B9E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330120"/>
            <a:ext cx="9874080" cy="1371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920600"/>
            <a:ext cx="9874080" cy="5430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27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746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920960" indent="-2746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68520" indent="-27468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7494480"/>
            <a:ext cx="34732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7494480"/>
            <a:ext cx="2558880" cy="5716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lstStyle>
            <a:lvl1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  <a:defRPr b="0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fld id="{12966463-D17E-4D41-B3B5-0E1B54074D48}" type="slidenum">
              <a:rPr b="0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723920" y="5486400"/>
            <a:ext cx="5745240" cy="1447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sp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609480"/>
            <a:ext cx="10211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Cooper Black"/>
              </a:rPr>
              <a:t>Illinois Spiders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Cooper Black"/>
              <a:ea typeface="Cooper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849600">
            <a:off x="993600" y="3882960"/>
            <a:ext cx="3309840" cy="34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77724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21052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90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628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19040" y="581652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962840" y="5892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98560" y="2438280"/>
            <a:ext cx="193680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191120" y="487692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09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33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077320" y="59817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60948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in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n Recl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dy Long Le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rod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ck 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el Web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den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553080" y="5994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60" name="" descr=""/>
          <p:cNvPicPr/>
          <p:nvPr/>
        </p:nvPicPr>
        <p:blipFill>
          <a:blip r:embed="rId7"/>
          <a:srcRect l="6793" t="0" r="4882" b="6822"/>
          <a:stretch/>
        </p:blipFill>
        <p:spPr>
          <a:xfrm>
            <a:off x="8516880" y="2743200"/>
            <a:ext cx="178776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686800" y="4800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5613480"/>
            <a:ext cx="762120" cy="457200"/>
          </a:xfrm>
          <a:prstGeom prst="line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7238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us:  Which two spiders are poisonous to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0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62840" y="177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19040" y="581652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962840" y="5892840"/>
            <a:ext cx="2895840" cy="1936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898560" y="2438280"/>
            <a:ext cx="193680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4191120" y="4876920"/>
            <a:ext cx="2895480" cy="1936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920" y="791208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s from enatur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7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096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6934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3633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77320" y="59817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3080" y="5994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rcRect l="6793" t="0" r="4882" b="6822"/>
          <a:stretch/>
        </p:blipFill>
        <p:spPr>
          <a:xfrm>
            <a:off x="8516880" y="2743200"/>
            <a:ext cx="178776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8686800" y="4800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5613480"/>
            <a:ext cx="762120" cy="457200"/>
          </a:xfrm>
          <a:prstGeom prst="line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457200"/>
            <a:ext cx="3962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Brown Recl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Garden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Jumpin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Black 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Funnel Web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Goldenrod Spi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Daddy Long Leg 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70102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us:  The Brown Recluse and Black Widow are poisonous to hum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3:07Z</dcterms:modified>
  <cp:revision>101</cp:revision>
  <dc:subject/>
  <dc:title>Who am I?</dc:title>
</cp:coreProperties>
</file>