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C97-CC4F-4C05-8907-E97CBE04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D93-CFC6-4E2A-8530-7D33333E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9ED0-C6D4-4C38-9EBF-8435C125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296-B462-4D55-A075-EF627543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B23-5ACE-4ECF-9537-452707D4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6406-D5B8-4EF5-8B0B-8D9CB69D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C17A-7D9B-45A4-BDD2-FE4C201F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15B-A1FC-4C76-8234-2D93787D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47CE-877D-488A-AE85-044870B5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483-172C-4B0D-880D-D9243D75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639-1244-4253-85A5-94420633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77F-7295-4F31-8CD6-6E158F3C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A54851A9-6C1E-4F96-98C5-97994F55B99A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5486400"/>
            <a:ext cx="5745240" cy="144792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spi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609480"/>
            <a:ext cx="10211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Cooper Black"/>
              </a:rPr>
              <a:t>Illinois Spider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8849600">
            <a:off x="993600" y="3882960"/>
            <a:ext cx="3309840" cy="346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38280" y="77724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1052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9040" y="177840"/>
            <a:ext cx="2895840" cy="1936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962840" y="177840"/>
            <a:ext cx="2895840" cy="1936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19040" y="5816520"/>
            <a:ext cx="2895840" cy="1936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962840" y="5892840"/>
            <a:ext cx="2895840" cy="1936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98560" y="2438280"/>
            <a:ext cx="1936800" cy="289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191120" y="4876920"/>
            <a:ext cx="2895480" cy="1936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920" y="791208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s from enatur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47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09680" y="4495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6934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363320" y="12193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077320" y="59817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609480"/>
            <a:ext cx="3962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ping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n Recl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dy Long Leg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enrod Spi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Wi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nel Web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den Spi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553080" y="5994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7"/>
          <a:srcRect l="6793" t="0" r="4882" b="6822"/>
          <a:stretch/>
        </p:blipFill>
        <p:spPr>
          <a:xfrm>
            <a:off x="8516880" y="2743200"/>
            <a:ext cx="1787760" cy="2819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8686800" y="48006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5613480"/>
            <a:ext cx="762120" cy="457200"/>
          </a:xfrm>
          <a:prstGeom prst="line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72388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nus:  Which two spiders are poisonous to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19040" y="177840"/>
            <a:ext cx="2895840" cy="1936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62840" y="177840"/>
            <a:ext cx="2895840" cy="193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19040" y="5816520"/>
            <a:ext cx="2895840" cy="1936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962840" y="5892840"/>
            <a:ext cx="2895840" cy="1936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898560" y="2438280"/>
            <a:ext cx="1936800" cy="2895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191120" y="4876920"/>
            <a:ext cx="2895480" cy="1936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920" y="791208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s from enatur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447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09680" y="4495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9480" y="6934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363320" y="12193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077320" y="59817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553080" y="5994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7"/>
          <a:srcRect l="6793" t="0" r="4882" b="6822"/>
          <a:stretch/>
        </p:blipFill>
        <p:spPr>
          <a:xfrm>
            <a:off x="8516880" y="2743200"/>
            <a:ext cx="1787760" cy="281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8686800" y="48006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5613480"/>
            <a:ext cx="762120" cy="457200"/>
          </a:xfrm>
          <a:prstGeom prst="line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457200"/>
            <a:ext cx="3962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Brown Recl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Garden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Jumping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 Black Wi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 Funnel Web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 Goldenrod Spi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- Daddy Long Leg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70102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nus:  The Brown Recluse and Black Widow are poisonous to hum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13:07Z</dcterms:modified>
  <cp:revision>101</cp:revision>
  <dc:subject/>
  <dc:title>Who am I?</dc:title>
</cp:coreProperties>
</file>