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697-6EFF-431A-9D76-DB1A3CA5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47B-C84A-4871-87F4-5D95AEA6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FDA-0C85-4299-A265-7A4DB99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59C-D775-4481-942D-AF0432C9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5DB-F648-43C6-93B0-D57F5F1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024-D008-491F-985E-BB7A557A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DE9-264A-4C57-98C2-BFDC46A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EDD-732A-4F5E-A946-FA4A10D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35F-FD0B-45C5-8885-5242394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B7D-2ADA-4191-940D-4EC264C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3FD-88F7-4D8B-A260-B41360A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B5C-6D9B-4204-87A5-DC3E12E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8E4460B4-5083-401A-8A8B-2F7D130D8647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46320" y="5486400"/>
            <a:ext cx="5745240" cy="1447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sn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Cooper Black"/>
              </a:rPr>
              <a:t>Illinois Snak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1052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447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76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5705640"/>
            <a:ext cx="28576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886880" y="457200"/>
            <a:ext cx="2933640" cy="7400880"/>
            <a:chOff x="7886880" y="457200"/>
            <a:chExt cx="2933640" cy="740088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7886880" y="4572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7963200" y="3086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7963200" y="5715000"/>
              <a:ext cx="285732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6880" y="485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3267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578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62520" y="228600"/>
            <a:ext cx="2857320" cy="2143080"/>
            <a:chOff x="3962520" y="228600"/>
            <a:chExt cx="2857320" cy="2143080"/>
          </a:xfrm>
        </p:grpSpPr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3962520" y="22860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4038480" y="30456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38480" y="5867280"/>
            <a:ext cx="2857320" cy="2143080"/>
            <a:chOff x="4038480" y="5867280"/>
            <a:chExt cx="2857320" cy="2143080"/>
          </a:xfrm>
        </p:grpSpPr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4038480" y="5867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6476760" y="594324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800100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773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363320" y="5867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666880"/>
            <a:ext cx="396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Gar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 Sn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ber Ratt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airie King Snake Copperh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Rat Sn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47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3076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5705640"/>
            <a:ext cx="28576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886880" y="457200"/>
            <a:ext cx="2933640" cy="7400880"/>
            <a:chOff x="7886880" y="457200"/>
            <a:chExt cx="2933640" cy="74008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7886880" y="4572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7963200" y="3086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7963200" y="5715000"/>
              <a:ext cx="285732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666880" y="485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66880" y="3267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578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62520" y="228600"/>
            <a:ext cx="2857320" cy="2143080"/>
            <a:chOff x="3962520" y="228600"/>
            <a:chExt cx="2857320" cy="2143080"/>
          </a:xfrm>
        </p:grpSpPr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3962520" y="22860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4038480" y="30456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8480" y="5867280"/>
            <a:ext cx="2857320" cy="2143080"/>
            <a:chOff x="4038480" y="5867280"/>
            <a:chExt cx="2857320" cy="2143080"/>
          </a:xfrm>
        </p:grpSpPr>
        <p:pic>
          <p:nvPicPr>
            <p:cNvPr id="82" name="" descr=""/>
            <p:cNvPicPr/>
            <p:nvPr/>
          </p:nvPicPr>
          <p:blipFill>
            <a:blip r:embed="rId8"/>
            <a:stretch/>
          </p:blipFill>
          <p:spPr>
            <a:xfrm>
              <a:off x="4038480" y="5867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6476760" y="594324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800100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0773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63320" y="5867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Common G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Copperhead 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Milk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ull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Timber Rattler (T/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Prairie King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 Black Rat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4:49Z</dcterms:modified>
  <cp:revision>75</cp:revision>
  <dc:subject/>
  <dc:title>Who am I?</dc:title>
</cp:coreProperties>
</file>