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EF1-6ACF-4E24-8C6A-52C920B7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CF4-BA40-443C-9A4D-555022C7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8C9-73C6-4098-AAB4-264C6A17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90E-D4D6-4D59-BF43-82246A2C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7E3-B2F4-4AD0-9602-EE058850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D99-EB2E-4844-9310-5C57694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AF3-9F4A-49B0-B765-FC9B478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BF7-5FBD-46C5-A073-EDA667E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E79-B09B-4493-BFE7-FFA7362F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5FC-2690-41BA-9737-2FB5E827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A47-6D0A-4DB9-B09B-C7618F3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BED-8215-44A4-BAF6-8709DC4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59AC7A92-CFF9-47F2-A3DE-49737EEF5AF1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846320" y="5486400"/>
            <a:ext cx="5745240" cy="1447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sn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Cooper Black"/>
              </a:rPr>
              <a:t>Illinois Snake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1052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447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76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5705640"/>
            <a:ext cx="28576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886880" y="457200"/>
            <a:ext cx="2933640" cy="7400880"/>
            <a:chOff x="7886880" y="457200"/>
            <a:chExt cx="2933640" cy="740088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7886880" y="4572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7963200" y="3086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7963200" y="5715000"/>
              <a:ext cx="285732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6880" y="485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66880" y="3267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578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62520" y="228600"/>
            <a:ext cx="2857320" cy="2143080"/>
            <a:chOff x="3962520" y="228600"/>
            <a:chExt cx="2857320" cy="2143080"/>
          </a:xfrm>
        </p:grpSpPr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3962520" y="22860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 txBox="1"/>
            <p:nvPr/>
          </p:nvSpPr>
          <p:spPr>
            <a:xfrm>
              <a:off x="4038480" y="30456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038480" y="5867280"/>
            <a:ext cx="2857320" cy="2143080"/>
            <a:chOff x="4038480" y="5867280"/>
            <a:chExt cx="2857320" cy="2143080"/>
          </a:xfrm>
        </p:grpSpPr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4038480" y="5867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 txBox="1"/>
            <p:nvPr/>
          </p:nvSpPr>
          <p:spPr>
            <a:xfrm>
              <a:off x="6476760" y="594324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800100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773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363320" y="5867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666880"/>
            <a:ext cx="396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Gart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l Sn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ber Ratt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airie King Snake Copperhe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Rat Sna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4478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30765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5705640"/>
            <a:ext cx="2857680" cy="21430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886880" y="457200"/>
            <a:ext cx="2933640" cy="7400880"/>
            <a:chOff x="7886880" y="457200"/>
            <a:chExt cx="2933640" cy="7400880"/>
          </a:xfrm>
        </p:grpSpPr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7886880" y="457200"/>
              <a:ext cx="28576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5"/>
            <a:stretch/>
          </p:blipFill>
          <p:spPr>
            <a:xfrm>
              <a:off x="7963200" y="3086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7963200" y="5715000"/>
              <a:ext cx="2857320" cy="21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hicagoherp.org/herps/speci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666880" y="485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66880" y="32670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5781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62520" y="228600"/>
            <a:ext cx="2857320" cy="2143080"/>
            <a:chOff x="3962520" y="228600"/>
            <a:chExt cx="2857320" cy="2143080"/>
          </a:xfrm>
        </p:grpSpPr>
        <p:pic>
          <p:nvPicPr>
            <p:cNvPr id="79" name="" descr=""/>
            <p:cNvPicPr/>
            <p:nvPr/>
          </p:nvPicPr>
          <p:blipFill>
            <a:blip r:embed="rId7"/>
            <a:stretch/>
          </p:blipFill>
          <p:spPr>
            <a:xfrm>
              <a:off x="3962520" y="22860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4038480" y="30456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038480" y="5867280"/>
            <a:ext cx="2857320" cy="2143080"/>
            <a:chOff x="4038480" y="5867280"/>
            <a:chExt cx="2857320" cy="2143080"/>
          </a:xfrm>
        </p:grpSpPr>
        <p:pic>
          <p:nvPicPr>
            <p:cNvPr id="82" name="" descr=""/>
            <p:cNvPicPr/>
            <p:nvPr/>
          </p:nvPicPr>
          <p:blipFill>
            <a:blip r:embed="rId8"/>
            <a:stretch/>
          </p:blipFill>
          <p:spPr>
            <a:xfrm>
              <a:off x="4038480" y="5867280"/>
              <a:ext cx="28573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 txBox="1"/>
            <p:nvPr/>
          </p:nvSpPr>
          <p:spPr>
            <a:xfrm>
              <a:off x="6476760" y="5943240"/>
              <a:ext cx="30492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8001000" y="1828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077320" y="44956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63320" y="58672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449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Common G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Copperhead 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Milk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ull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Timber Rattler (T/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Prairie King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 Black Rat Sn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4:49Z</dcterms:modified>
  <cp:revision>75</cp:revision>
  <dc:subject/>
  <dc:title>Who am I?</dc:title>
</cp:coreProperties>
</file>