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79D-EBED-4493-B43C-A8ACF5F0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EB2-4B0C-4A35-AA89-F3938876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2CA-07D1-40A4-90C7-713997C0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602-7895-4887-AEA0-7F8EBBA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E42-0C05-45BA-B2D7-1E3E7F0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C85-91DC-4AEB-A4AC-D2A01011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D48-A58D-497A-A547-B22F029D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82A-CBED-4218-A9EB-DDE9FEB2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716-BB97-4B2E-ABBB-989D27D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B6C-7C18-4C2C-BBDC-82171983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4B3-0738-4D7A-8745-A0F5858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442-68DA-42B5-95E0-2A7866E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7EBF6034-11A7-4E1D-9FCE-4E4E19CA3685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409720"/>
            <a:ext cx="5745240" cy="16765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llinois salama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808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Name That Salamander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4819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31520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391520" y="4819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2767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4876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380880"/>
            <a:ext cx="39621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d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Tiger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-spott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Ne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bl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38480" y="3505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106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363320" y="4896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4819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31520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7391520" y="48196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32767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4876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380880"/>
            <a:ext cx="39621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Eastern Tiger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Marbl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Mud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Eastern New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Blue-spotted Sala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38480" y="3505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2106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363320" y="48960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34Z</dcterms:modified>
  <cp:revision>104</cp:revision>
  <dc:subject/>
  <dc:title>Who am I?</dc:title>
</cp:coreProperties>
</file>