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B03-0EA8-44AE-9386-6B14A601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C26-B390-407C-980C-6D10BF9C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12C-1F36-4DCA-A1F9-5A2A0A6F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B24-D3CA-4301-8F98-0CB54D07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AA7-A3E0-4057-8A92-563F0123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497-97A4-4E33-95C7-69AC4662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5C6-E5FE-4846-84CE-A437D74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160-AC75-4DAF-9610-75F54BE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E2A-A6C7-4105-9A3E-CD2C3B4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816-4D88-4423-9225-42D3F1D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878-A4FC-4998-AA7B-382D19E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FEB-C322-44B3-9D57-EF926BB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F24EB657-43AF-4E35-873F-5823445BC2D0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409720"/>
            <a:ext cx="5745240" cy="16765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llinois salama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Name That Salamander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4819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31520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91520" y="4819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2767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876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80880"/>
            <a:ext cx="3962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d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Tiger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-spott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Ne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bl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38480" y="3505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106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363320" y="4896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4819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31520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391520" y="4819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32767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4876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80880"/>
            <a:ext cx="3962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Eastern Tiger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Marbl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Mud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Eastern Ne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Blue-spott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38480" y="3505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2106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363320" y="4896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34Z</dcterms:modified>
  <cp:revision>104</cp:revision>
  <dc:subject/>
  <dc:title>Who am I?</dc:title>
</cp:coreProperties>
</file>