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9C4-50A4-41CE-A298-949D6CF4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2C3-6B02-430B-9927-B0FE10EF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54F-405A-4A8E-A44F-1C9F2AC2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A308-1E51-418D-BBFA-6A8B0B61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B6B-E7BB-47D2-88A4-46DCCD11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4B0-9BBB-494D-BF1B-2CA21394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ACF-CD81-43FA-8A8F-ED98664B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200-D83C-4407-8338-0F2CA290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629-1707-49F0-AE04-14A4432C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98E-33D7-4586-A5FD-205F695B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857-E3FF-494E-8ABD-085254B6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F81-0291-40A2-893B-CFAD1987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9FA0-F886-4567-A0AC-788A744BF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50000">
              <a:srgbClr val="99cc00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09120" y="41148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 you identify these Illinois raptor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160000">
            <a:off x="1600200" y="5029200"/>
            <a:ext cx="685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 rot="1768200">
            <a:off x="6781320" y="4952520"/>
            <a:ext cx="685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20160000">
            <a:off x="4191120" y="9144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1027200">
            <a:off x="7315200" y="7621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1027200">
            <a:off x="838080" y="6094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oper Black"/>
              <a:ea typeface="Cooper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575400" y="9684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9528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4040" y="2057400"/>
            <a:ext cx="8458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Name That Rapt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24080" y="152280"/>
            <a:ext cx="259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d Ea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-Tailed Ha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str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key V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egrine Fal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s Ha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661356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ttp://www.illinoisraptorcenter.org/Field%20Guide/guidecover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2590920" cy="182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192420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48520" y="228600"/>
            <a:ext cx="2004840" cy="2362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52280" y="2514600"/>
            <a:ext cx="176220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rcRect l="0" t="0" r="0" b="6566"/>
          <a:stretch/>
        </p:blipFill>
        <p:spPr>
          <a:xfrm>
            <a:off x="7086600" y="2514600"/>
            <a:ext cx="171468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rcRect l="13265" t="0" r="9187" b="13643"/>
          <a:stretch/>
        </p:blipFill>
        <p:spPr>
          <a:xfrm>
            <a:off x="5562720" y="4114800"/>
            <a:ext cx="1815840" cy="236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1600200" y="4114800"/>
            <a:ext cx="1865160" cy="2362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362320" y="1905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4191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5248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33920" y="41148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324480" y="1905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05920" y="2666880"/>
            <a:ext cx="352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71500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4320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d Ea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6613560"/>
            <a:ext cx="396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ttp://www.illinoisraptorcenter.org/Field%20Guide/guidecover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590920" cy="1825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1924200" cy="2438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248520" y="228600"/>
            <a:ext cx="200484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52280" y="2514600"/>
            <a:ext cx="1762200" cy="2362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rcRect l="0" t="0" r="0" b="6566"/>
          <a:stretch/>
        </p:blipFill>
        <p:spPr>
          <a:xfrm>
            <a:off x="7086600" y="2514600"/>
            <a:ext cx="171468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rcRect l="13265" t="0" r="9187" b="13643"/>
          <a:stretch/>
        </p:blipFill>
        <p:spPr>
          <a:xfrm>
            <a:off x="4800600" y="4114800"/>
            <a:ext cx="181620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2249640" y="4114800"/>
            <a:ext cx="1865160" cy="2362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362320" y="1905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4191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0192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733920" y="28195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324480" y="190512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05920" y="2666880"/>
            <a:ext cx="352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952880" y="571500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80172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29718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s Ha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00400" y="3505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-Tailed Haw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54864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key V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838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egrine Fal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3429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s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14:34Z</dcterms:modified>
  <cp:revision>71</cp:revision>
  <dc:subject/>
  <dc:title>Who am I?</dc:title>
</cp:coreProperties>
</file>