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BE6-3981-4DAE-9FE6-2D6CC39D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03C-8993-4DC7-B7BD-F00298C1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A51-63C2-48E0-9434-B69BE28A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CBF-223C-4D1D-AB95-DED89951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307-C15A-4E31-9B11-796D23B0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673-1BC0-4CD9-9C0B-38B8C902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196-9B60-4758-A8E7-1A1B0749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33E-983D-4021-B83F-1A8A161E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B82-1791-4683-B98D-6AB3ACE5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940-9DA9-44A1-9BDB-A592695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184-72B3-4509-B657-A47874D0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C0A-AFA4-42A1-A5C3-DB41ABD7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0F7B-BE75-46CB-80C4-B217399A1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99cc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120" y="41148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identify these Illinois raptor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160000">
            <a:off x="1600200" y="5029200"/>
            <a:ext cx="68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1768200">
            <a:off x="6781320" y="4952520"/>
            <a:ext cx="68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160000">
            <a:off x="4191120" y="9144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1027200">
            <a:off x="7315200" y="7621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027200">
            <a:off x="838080" y="6094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4040" y="2057400"/>
            <a:ext cx="8458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Name That Rap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4080" y="15228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 Ea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-Tailed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t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 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grine Fal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s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661356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ww.illinoisraptorcenter.org/Field%20Guide/guideco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590920" cy="18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92420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00484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52280" y="2514600"/>
            <a:ext cx="17622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rcRect l="0" t="0" r="0" b="6566"/>
          <a:stretch/>
        </p:blipFill>
        <p:spPr>
          <a:xfrm>
            <a:off x="7086600" y="251460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rcRect l="13265" t="0" r="9187" b="13643"/>
          <a:stretch/>
        </p:blipFill>
        <p:spPr>
          <a:xfrm>
            <a:off x="5562720" y="4114800"/>
            <a:ext cx="181584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600200" y="4114800"/>
            <a:ext cx="1865160" cy="2362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36232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191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524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33920" y="41148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2448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05920" y="2666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1500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 Ea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661356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ww.illinoisraptorcenter.org/Field%20Guide/guideco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590920" cy="182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92420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00484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2514600"/>
            <a:ext cx="176220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rcRect l="0" t="0" r="0" b="6566"/>
          <a:stretch/>
        </p:blipFill>
        <p:spPr>
          <a:xfrm>
            <a:off x="7086600" y="251460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rcRect l="13265" t="0" r="9187" b="13643"/>
          <a:stretch/>
        </p:blipFill>
        <p:spPr>
          <a:xfrm>
            <a:off x="4800600" y="4114800"/>
            <a:ext cx="181620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249640" y="4114800"/>
            <a:ext cx="186516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36232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4191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192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33920" y="28195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2448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5920" y="2666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528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80172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29718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s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-Tailed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54864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 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838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grine Fal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4:34Z</dcterms:modified>
  <cp:revision>71</cp:revision>
  <dc:subject/>
  <dc:title>Who am I?</dc:title>
</cp:coreProperties>
</file>