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10E-5387-41F1-B554-52E6CEAF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28C1-FBB8-4767-865B-90DDEACE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5318-4CC3-465D-B59A-10255C2B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5DF-61F2-473C-999C-D535EE41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4AF-0F43-4965-9A2A-245C87E1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78C-7AFD-4856-898E-1F608338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A7E9-A534-4679-AE3D-49A00DE1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8637-EE46-437D-818B-7892E388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EDF2-ADDD-41BD-A532-DF64F479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009D-DED2-4219-9B21-386D4BC6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ACD5-F72B-4434-8FFE-3CED62B1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6D29-2CF6-4C1D-B00E-455659DE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8B9E850F-19C6-470E-A2E6-7022AB481F2C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1640" y="5714640"/>
            <a:ext cx="5745240" cy="15238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identify these Illinois 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685800"/>
            <a:ext cx="10211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Cooper Black"/>
              </a:rPr>
              <a:t>Name That Owl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Cooper Black"/>
              <a:ea typeface="Cooper Black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14400" y="4343400"/>
            <a:ext cx="3429000" cy="3657600"/>
            <a:chOff x="914400" y="4343400"/>
            <a:chExt cx="3429000" cy="36576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rcRect l="0" t="11324" r="0" b="0"/>
            <a:stretch/>
          </p:blipFill>
          <p:spPr>
            <a:xfrm>
              <a:off x="1295280" y="4419720"/>
              <a:ext cx="270216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914400" y="4343400"/>
              <a:ext cx="3429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Saw Whet Ow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286000" y="79246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059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96080" y="5410080"/>
            <a:ext cx="3048120" cy="2040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2971800" cy="1989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419720" y="4648320"/>
            <a:ext cx="2151000" cy="2895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772400" y="304920"/>
            <a:ext cx="2971800" cy="198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228600" y="5459400"/>
            <a:ext cx="2971800" cy="198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rcRect l="23538" t="19236" r="0" b="0"/>
          <a:stretch/>
        </p:blipFill>
        <p:spPr>
          <a:xfrm>
            <a:off x="304920" y="2819520"/>
            <a:ext cx="2819160" cy="1992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7772400" y="2895480"/>
            <a:ext cx="2895480" cy="1936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920" y="791208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s from enatur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5238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43200" y="2895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55627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924680" y="3808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210680" y="4114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848720" y="55627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380880"/>
            <a:ext cx="39621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Horned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owy Ow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tern Screech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ed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n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Eared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Eared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095880" y="67816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96080" y="5410080"/>
            <a:ext cx="3048120" cy="2040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2971800" cy="1989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419720" y="4648320"/>
            <a:ext cx="2151000" cy="289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772400" y="304920"/>
            <a:ext cx="2971800" cy="1989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28600" y="5459400"/>
            <a:ext cx="2971800" cy="198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rcRect l="23538" t="19236" r="0" b="0"/>
          <a:stretch/>
        </p:blipFill>
        <p:spPr>
          <a:xfrm>
            <a:off x="304920" y="2819520"/>
            <a:ext cx="2819160" cy="1992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7772400" y="2895480"/>
            <a:ext cx="2895480" cy="1936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920" y="79120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from enatur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880" y="15238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43200" y="2895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920" y="55627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924680" y="3808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210680" y="4114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848720" y="55627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380880"/>
            <a:ext cx="3962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Great Horned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Short-Eared Owl 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Eastern Screech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 Barred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 Barn Owl 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 Long-Eared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- Snowy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5880" y="67816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11:44Z</dcterms:modified>
  <cp:revision>97</cp:revision>
  <dc:subject/>
  <dc:title>Who am I?</dc:title>
</cp:coreProperties>
</file>