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9728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2BA5-ABC4-4276-9949-D11456A8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E394-1693-4A74-A9C3-0798F29C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DDAB-D267-4CAC-8C9D-4310163A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03A4-C551-4303-89B3-36105B59B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F3B4-D6CC-4300-AEA4-29D7B80A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730C-149B-4B85-9578-CD694A39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5428-1638-4F79-BF23-2B6DA951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4050-D317-445F-B544-17CF30E1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330120"/>
            <a:ext cx="9874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6354-7863-4E9E-9A53-B71DD517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1608-701D-48BD-8008-030CA71C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22E7-1D03-42D5-8B49-E0285088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BACE-DF29-4DBC-A598-AA619548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27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4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920960" indent="-274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7494480"/>
            <a:ext cx="34732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fld id="{5C7D6C90-F928-4A60-ADF9-16D2DD4E6111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1640" y="5714640"/>
            <a:ext cx="5745240" cy="15238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you identify these Illinois ow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685800"/>
            <a:ext cx="10211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Cooper Black"/>
              </a:rPr>
              <a:t>Name That Owl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Cooper Black"/>
              <a:ea typeface="Cooper Black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14400" y="4343400"/>
            <a:ext cx="3429000" cy="3657600"/>
            <a:chOff x="914400" y="4343400"/>
            <a:chExt cx="3429000" cy="36576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rcRect l="0" t="11324" r="0" b="0"/>
            <a:stretch/>
          </p:blipFill>
          <p:spPr>
            <a:xfrm>
              <a:off x="1295280" y="4419720"/>
              <a:ext cx="270216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914400" y="4343400"/>
              <a:ext cx="3429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Saw Whet Ow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286000" y="79246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05920" y="152280"/>
            <a:ext cx="23810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96080" y="5410080"/>
            <a:ext cx="3048120" cy="2040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2971800" cy="1989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419720" y="4648320"/>
            <a:ext cx="2151000" cy="2895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772400" y="304920"/>
            <a:ext cx="2971800" cy="198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228600" y="5459400"/>
            <a:ext cx="2971800" cy="1989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rcRect l="23538" t="19236" r="0" b="0"/>
          <a:stretch/>
        </p:blipFill>
        <p:spPr>
          <a:xfrm>
            <a:off x="304920" y="2819520"/>
            <a:ext cx="2819160" cy="1992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7772400" y="2895480"/>
            <a:ext cx="2895480" cy="1936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1920" y="791208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s from enatur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15238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43200" y="2895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556272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924680" y="3808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210680" y="4114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848720" y="556272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380880"/>
            <a:ext cx="39621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Horned O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owy Ow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tern Screech O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red O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n O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-Eared O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-Eared O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095880" y="67816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96080" y="5410080"/>
            <a:ext cx="3048120" cy="2040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2971800" cy="1989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419720" y="4648320"/>
            <a:ext cx="2151000" cy="289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7772400" y="304920"/>
            <a:ext cx="2971800" cy="1989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28600" y="5459400"/>
            <a:ext cx="2971800" cy="1989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rcRect l="23538" t="19236" r="0" b="0"/>
          <a:stretch/>
        </p:blipFill>
        <p:spPr>
          <a:xfrm>
            <a:off x="304920" y="2819520"/>
            <a:ext cx="2819160" cy="1992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7772400" y="2895480"/>
            <a:ext cx="2895480" cy="1936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1920" y="791208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from enatur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80880" y="15238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743200" y="2895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04920" y="556272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924680" y="3808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0210680" y="41148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848720" y="556272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380880"/>
            <a:ext cx="39621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Great Horned O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 Short-Eared Owl (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 Eastern Screech O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 Barred O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 Barn Owl (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- Long-Eared O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- Snowy O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095880" y="67816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1:11:44Z</dcterms:modified>
  <cp:revision>97</cp:revision>
  <dc:subject/>
  <dc:title>Who am I?</dc:title>
</cp:coreProperties>
</file>