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A79-5751-419C-B334-ADA13F88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B5D-2647-4121-B750-5C2C57E8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D85-D27B-498B-8C0A-6F9B9F26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C95-5F59-49AF-A5CC-754D34B5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078-AF3F-43BD-882D-637DE01E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2A6-5572-41EE-BE52-BD0D0125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B3FA-1DFE-4034-9DCB-8FFFA733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164-6CAE-458C-89C0-942E549C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C27-3926-48FB-B404-BC5191C3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CA5-36CA-48AE-8D8C-2B5F7B7A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75A-50F1-4231-94AD-EA11ED31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C11-47A8-47A0-84DF-5923F808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76A375CF-DFDE-459E-A01F-55A78F62E4E0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562360"/>
            <a:ext cx="5745240" cy="1447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identify these Illinois furbear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808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Illinois Furbear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5029200"/>
            <a:ext cx="4076640" cy="2554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9040" y="1333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748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920" y="7912080"/>
            <a:ext cx="39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nr.state.il.us/orc/Wildlife/what_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752480"/>
            <a:ext cx="38862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W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k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ailed W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 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19040" y="3619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467480" y="1333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467480" y="3619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1904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33520" y="24004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95480" y="3657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743200" y="6934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829800" y="3733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96080" y="23241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11480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400800" y="6095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829800" y="6019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247680"/>
            <a:ext cx="883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14 species of furbearers in Illino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of these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9040" y="1333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46748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752480"/>
            <a:ext cx="388620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Bad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B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- Muskr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Least W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- River Otter (Prot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– Long-tailed We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M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9040" y="3619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467480" y="1333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467480" y="3619440"/>
            <a:ext cx="2857680" cy="1790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41904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33520" y="24004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95480" y="3657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43200" y="6934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829800" y="3733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96080" y="23241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114800" y="586728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400800" y="6095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829800" y="6019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4768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1:56Z</dcterms:modified>
  <cp:revision>117</cp:revision>
  <dc:subject/>
  <dc:title>Who am I?</dc:title>
</cp:coreProperties>
</file>