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972800" cy="8229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29DF-EAF3-47A8-B720-B4E6F2F4A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360" y="47574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D629-1585-4A22-8367-D8A4AE6AB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0880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E910-D347-4A00-A974-584FC6FDE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8800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2628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36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8800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2628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4DE9-8E56-47BA-9961-7A2A259B3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E431-5F24-440F-AE36-92B569AAF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97B2-6712-45E1-9F9F-45E85A5B2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0611-590F-4615-A0D5-4C5B10962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33DC-64B1-4A58-A2BE-79BFE0FD1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360" y="330120"/>
            <a:ext cx="9874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2A94-E5A2-4E8B-AD66-756F6D49D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7F78-53BC-4759-B270-58028C7A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0880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A767-A009-4E22-A45C-05F5406B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4E8F-86B2-4226-BB97-4A056E71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marL="411120" indent="-41112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34272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468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920960" indent="-27468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9360" y="7494480"/>
            <a:ext cx="25588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49760" y="7494480"/>
            <a:ext cx="34732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64560" y="7494480"/>
            <a:ext cx="25588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 algn="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fld id="{E7F1C400-9A53-4EE6-A8D1-32ABE0A59795}" type="slidenum">
              <a:rPr b="0" lang="en-US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723920" y="5562360"/>
            <a:ext cx="5745240" cy="14475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n you identify these Illinois furbear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80880" y="380880"/>
            <a:ext cx="1021104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oper Black"/>
              </a:rPr>
              <a:t>Illinois Furbearers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oper Black"/>
              <a:ea typeface="Cooper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5029200"/>
            <a:ext cx="4076640" cy="2554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0" y="792468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i="1" lang="en-US" sz="1500" spc="-1" strike="noStrike">
                <a:solidFill>
                  <a:srgbClr val="ffffff"/>
                </a:solidFill>
                <a:latin typeface="Arial"/>
              </a:rPr>
              <a:t>T. Trimpe 2008   http://sciencespot.net/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305920" y="152280"/>
            <a:ext cx="23810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19040" y="1333440"/>
            <a:ext cx="2857680" cy="1790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467480" y="5867280"/>
            <a:ext cx="2857680" cy="1791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1920" y="7912080"/>
            <a:ext cx="390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dnr.state.il.us/orc/Wildlife/what_i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1752480"/>
            <a:ext cx="3886200" cy="35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st Wea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kr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-tailed Wea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ver O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d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19040" y="3619440"/>
            <a:ext cx="2857680" cy="1790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7467480" y="1333440"/>
            <a:ext cx="2857680" cy="1790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7467480" y="3619440"/>
            <a:ext cx="2857680" cy="1790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419040" y="5867280"/>
            <a:ext cx="2857680" cy="1791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533520" y="240048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895480" y="36576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743200" y="693432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9829800" y="373392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696080" y="232416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4114800" y="5867280"/>
            <a:ext cx="2857680" cy="1791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6400800" y="60958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9829800" y="601992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247680"/>
            <a:ext cx="88394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14 species of furbearers in Illino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 of these can you identif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19040" y="1333440"/>
            <a:ext cx="2857680" cy="1790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467480" y="5867280"/>
            <a:ext cx="2857680" cy="1791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1920" y="791208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icagoherp.org/herps/specie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1752480"/>
            <a:ext cx="3886200" cy="35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– Bad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– Bea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- Muskr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– Least Wea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- River Otter (Protect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– Long-tailed Wea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 – M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419040" y="3619440"/>
            <a:ext cx="2857680" cy="1790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7467480" y="1333440"/>
            <a:ext cx="2857680" cy="1790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467480" y="3619440"/>
            <a:ext cx="2857680" cy="1790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419040" y="5867280"/>
            <a:ext cx="2857680" cy="1791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533520" y="240048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895480" y="36576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743200" y="693432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9829800" y="373392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7696080" y="232416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4114800" y="5867280"/>
            <a:ext cx="2857680" cy="1791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6400800" y="60958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9829800" y="601992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9" name=""/>
          <p:cNvSpPr/>
          <p:nvPr/>
        </p:nvSpPr>
        <p:spPr>
          <a:xfrm>
            <a:off x="1066680" y="247680"/>
            <a:ext cx="883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d the answers are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rimpe</cp:lastModifiedBy>
  <dcterms:modified xsi:type="dcterms:W3CDTF">2008-05-05T01:11:56Z</dcterms:modified>
  <cp:revision>117</cp:revision>
  <dc:subject/>
  <dc:title>Who am I?</dc:title>
</cp:coreProperties>
</file>